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9.jpeg" ContentType="image/jpe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21.jpeg" ContentType="image/jpeg"/>
  <Override PartName="/ppt/media/image16.png" ContentType="image/png"/>
  <Override PartName="/ppt/media/image18.png" ContentType="image/png"/>
  <Override PartName="/ppt/media/image17.png" ContentType="image/png"/>
  <Override PartName="/ppt/media/image4.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 name="PlaceHolder 1"/>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3"/>
          <p:cNvSpPr>
            <a:spLocks noGrp="1"/>
          </p:cNvSpPr>
          <p:nvPr>
            <p:ph type="sldNum" idx="1"/>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A403-26A7-46D2-9613-366556B1F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57480" y="720720"/>
            <a:ext cx="4800600" cy="3600360"/>
          </a:xfrm>
          <a:prstGeom prst="rect">
            <a:avLst/>
          </a:prstGeom>
          <a:ln w="0">
            <a:noFill/>
          </a:ln>
        </p:spPr>
      </p:sp>
      <p:sp>
        <p:nvSpPr>
          <p:cNvPr id="1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7F6-E4B4-4FA4-8DD9-530DBAA9351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57480" y="720720"/>
            <a:ext cx="4800600" cy="3600360"/>
          </a:xfrm>
          <a:prstGeom prst="rect">
            <a:avLst/>
          </a:prstGeom>
          <a:ln w="0">
            <a:noFill/>
          </a:ln>
        </p:spPr>
      </p:sp>
      <p:sp>
        <p:nvSpPr>
          <p:cNvPr id="14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a:t>
            </a:r>
            <a:r>
              <a:rPr b="0" i="1" lang="en-US" sz="1200" spc="-1" strike="noStrike">
                <a:solidFill>
                  <a:srgbClr val="000000"/>
                </a:solidFill>
                <a:latin typeface="Arial"/>
              </a:rPr>
              <a:t>confidence interval</a:t>
            </a:r>
            <a:r>
              <a:rPr b="0" lang="en-US" sz="1200" spc="-1" strike="noStrike">
                <a:solidFill>
                  <a:srgbClr val="000000"/>
                </a:solidFill>
                <a:latin typeface="Arial"/>
              </a:rPr>
              <a:t>; HR, </a:t>
            </a:r>
            <a:r>
              <a:rPr b="0" i="1" lang="en-US" sz="1200" spc="-1" strike="noStrike">
                <a:solidFill>
                  <a:srgbClr val="000000"/>
                </a:solidFill>
                <a:latin typeface="Arial"/>
              </a:rPr>
              <a:t>hazard ratio</a:t>
            </a:r>
            <a:endParaRPr b="0" lang="en-US" sz="1200" spc="-1" strike="noStrike">
              <a:solidFill>
                <a:srgbClr val="000000"/>
              </a:solidFill>
              <a:latin typeface="Arial"/>
            </a:endParaRPr>
          </a:p>
        </p:txBody>
      </p:sp>
      <p:sp>
        <p:nvSpPr>
          <p:cNvPr id="141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49DD-03C7-4AF8-B249-33A10BE66D3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258920" y="720720"/>
            <a:ext cx="4799160" cy="3598920"/>
          </a:xfrm>
          <a:prstGeom prst="rect">
            <a:avLst/>
          </a:prstGeom>
          <a:ln w="0">
            <a:noFill/>
          </a:ln>
        </p:spPr>
      </p:sp>
      <p:sp>
        <p:nvSpPr>
          <p:cNvPr id="1416" name="Notes Placeholder 4"/>
          <p:cNvSpPr/>
          <p:nvPr/>
        </p:nvSpPr>
        <p:spPr>
          <a:xfrm>
            <a:off x="731880" y="4560840"/>
            <a:ext cx="5851440" cy="4319640"/>
          </a:xfrm>
          <a:prstGeom prst="rect">
            <a:avLst/>
          </a:prstGeom>
          <a:noFill/>
          <a:ln w="0">
            <a:noFill/>
          </a:ln>
        </p:spPr>
        <p:style>
          <a:lnRef idx="0"/>
          <a:fillRef idx="0"/>
          <a:effectRef idx="0"/>
          <a:fontRef idx="minor"/>
        </p:style>
        <p:txBody>
          <a:bodyPr lIns="96480" rIns="9648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D, </a:t>
            </a:r>
            <a:r>
              <a:rPr b="0" i="1" lang="en-US" sz="1200" spc="-1" strike="noStrike">
                <a:solidFill>
                  <a:srgbClr val="ffffff"/>
                </a:solidFill>
                <a:latin typeface="Arial"/>
              </a:rPr>
              <a:t>per day</a:t>
            </a:r>
            <a:r>
              <a:rPr b="0" lang="en-US" sz="1200" spc="-1" strike="noStrike">
                <a:solidFill>
                  <a:srgbClr val="ffffff"/>
                </a:solidFill>
                <a:latin typeface="Arial"/>
              </a:rPr>
              <a:t>; RCC, </a:t>
            </a:r>
            <a:r>
              <a:rPr b="0" i="1" lang="en-US" sz="1200" spc="-1" strike="noStrike">
                <a:solidFill>
                  <a:srgbClr val="ffffff"/>
                </a:solidFill>
                <a:latin typeface="Arial"/>
              </a:rPr>
              <a:t>renal cell carcinoma</a:t>
            </a:r>
            <a:r>
              <a:rPr b="0" lang="en-US" sz="1200" spc="-1" strike="noStrike">
                <a:solidFill>
                  <a:srgbClr val="ffffff"/>
                </a:solidFill>
                <a:latin typeface="Arial"/>
              </a:rPr>
              <a:t>; VEGFR, </a:t>
            </a:r>
            <a:r>
              <a:rPr b="0" i="1" lang="en-US" sz="1200" spc="-1" strike="noStrike">
                <a:solidFill>
                  <a:srgbClr val="ffffff"/>
                </a:solidFill>
                <a:latin typeface="Arial"/>
              </a:rPr>
              <a:t>vascular endothelial growth factor receptor</a:t>
            </a:r>
            <a:r>
              <a:rPr b="0" lang="en-US" sz="1200" spc="-1" strike="noStrike">
                <a:solidFill>
                  <a:srgbClr val="ffffff"/>
                </a:solidFill>
                <a:latin typeface="Arial"/>
              </a:rPr>
              <a:t> </a:t>
            </a: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erence</a:t>
            </a: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Escudier B, Szczylik C, Eisen T, et al. Randomized Phase III Trial of The Multi-kinase Inhibitor Sorafenib (BAY-43-9006) in Patients With Advanced RCC. </a:t>
            </a:r>
            <a:r>
              <a:rPr b="0" lang="en-US" sz="1200" spc="-1" strike="noStrike">
                <a:solidFill>
                  <a:srgbClr val="ffffff"/>
                </a:solidFill>
                <a:latin typeface="Arial"/>
              </a:rPr>
              <a:t>Paper presented at: The European Cancer Conference; October 30-November 3, 2005; Paris, France.</a:t>
            </a:r>
            <a:endParaRPr b="1" lang="en-US" sz="1200" spc="-1" strike="noStrike">
              <a:solidFill>
                <a:srgbClr val="ffffff"/>
              </a:solidFill>
              <a:latin typeface="Arial"/>
            </a:endParaRPr>
          </a:p>
        </p:txBody>
      </p:sp>
      <p:sp>
        <p:nvSpPr>
          <p:cNvPr id="141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40C2-7109-4552-8D4A-B714D031503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57480" y="720720"/>
            <a:ext cx="4800600" cy="3600360"/>
          </a:xfrm>
          <a:prstGeom prst="rect">
            <a:avLst/>
          </a:prstGeom>
          <a:ln w="0">
            <a:noFill/>
          </a:ln>
        </p:spPr>
      </p:sp>
      <p:sp>
        <p:nvSpPr>
          <p:cNvPr id="14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S, </a:t>
            </a:r>
            <a:r>
              <a:rPr b="0" i="1" lang="en-US" sz="1200" spc="-1" strike="noStrike">
                <a:solidFill>
                  <a:srgbClr val="000000"/>
                </a:solidFill>
                <a:latin typeface="Arial"/>
              </a:rPr>
              <a:t>Progression free survival</a:t>
            </a:r>
            <a:endParaRPr b="0" lang="en-US" sz="1200" spc="-1" strike="noStrike">
              <a:solidFill>
                <a:srgbClr val="000000"/>
              </a:solidFill>
              <a:latin typeface="Arial"/>
            </a:endParaRPr>
          </a:p>
        </p:txBody>
      </p:sp>
      <p:sp>
        <p:nvSpPr>
          <p:cNvPr id="142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6890-3204-4C6E-B722-FBB385BF8B3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D, twice daily; IRC, independent review committee; mRCC, metastatic renal cell carcinoma; MSKCC, </a:t>
            </a:r>
            <a:r>
              <a:rPr b="0" lang="en-US" sz="1200" spc="-1" strike="noStrike">
                <a:solidFill>
                  <a:srgbClr val="000000"/>
                </a:solidFill>
                <a:latin typeface="Arial"/>
              </a:rPr>
              <a:t>Memorial Sloan Kettering Cancer Center</a:t>
            </a:r>
            <a:r>
              <a:rPr b="0" lang="en-US" sz="1200" spc="-1" strike="noStrike">
                <a:solidFill>
                  <a:srgbClr val="000000"/>
                </a:solidFill>
                <a:latin typeface="Arial"/>
              </a:rPr>
              <a:t>; PD, progressive disease; PFS, progression-free survival.</a:t>
            </a:r>
            <a:endParaRPr b="0" lang="en-US" sz="1200" spc="-1" strike="noStrike">
              <a:solidFill>
                <a:srgbClr val="000000"/>
              </a:solidFill>
              <a:latin typeface="Arial"/>
            </a:endParaRPr>
          </a:p>
        </p:txBody>
      </p:sp>
      <p:sp>
        <p:nvSpPr>
          <p:cNvPr id="142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07D7-60F7-45BF-89E0-9C1470EB3B4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57480" y="720720"/>
            <a:ext cx="4800600" cy="3600360"/>
          </a:xfrm>
          <a:prstGeom prst="rect">
            <a:avLst/>
          </a:prstGeom>
          <a:ln w="0">
            <a:noFill/>
          </a:ln>
        </p:spPr>
      </p:sp>
      <p:sp>
        <p:nvSpPr>
          <p:cNvPr id="14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a:t>
            </a:r>
            <a:r>
              <a:rPr b="0" i="1" lang="en-US" sz="1200" spc="-1" strike="noStrike">
                <a:solidFill>
                  <a:srgbClr val="000000"/>
                </a:solidFill>
                <a:latin typeface="Arial"/>
              </a:rPr>
              <a:t>confidence interval</a:t>
            </a:r>
            <a:r>
              <a:rPr b="0" lang="en-US" sz="1200" spc="-1" strike="noStrike">
                <a:solidFill>
                  <a:srgbClr val="000000"/>
                </a:solidFill>
                <a:latin typeface="Arial"/>
              </a:rPr>
              <a:t>; HR, </a:t>
            </a:r>
            <a:r>
              <a:rPr b="0" i="1" lang="en-US" sz="1200" spc="-1" strike="noStrike">
                <a:solidFill>
                  <a:srgbClr val="000000"/>
                </a:solidFill>
                <a:latin typeface="Arial"/>
              </a:rPr>
              <a:t>hazard ratio</a:t>
            </a:r>
            <a:r>
              <a:rPr b="0" lang="en-US" sz="1200" spc="-1" strike="noStrike">
                <a:solidFill>
                  <a:srgbClr val="000000"/>
                </a:solidFill>
                <a:latin typeface="Arial"/>
              </a:rPr>
              <a:t>; IRC, </a:t>
            </a:r>
            <a:r>
              <a:rPr b="0" i="1" lang="en-US" sz="1200" spc="-1" strike="noStrike">
                <a:solidFill>
                  <a:srgbClr val="000000"/>
                </a:solidFill>
                <a:latin typeface="Arial"/>
              </a:rPr>
              <a:t>internal review committee</a:t>
            </a:r>
            <a:r>
              <a:rPr b="0" lang="en-US" sz="1200" spc="-1" strike="noStrike">
                <a:solidFill>
                  <a:srgbClr val="000000"/>
                </a:solidFill>
                <a:latin typeface="Arial"/>
              </a:rPr>
              <a:t>; PFS, </a:t>
            </a:r>
            <a:r>
              <a:rPr b="0" i="1" lang="en-US" sz="1200" spc="-1" strike="noStrike">
                <a:solidFill>
                  <a:srgbClr val="000000"/>
                </a:solidFill>
                <a:latin typeface="Arial"/>
              </a:rPr>
              <a:t>progression-free surviva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42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7231-114D-4A8A-A806-454935D5932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257480" y="720720"/>
            <a:ext cx="4800600" cy="3600360"/>
          </a:xfrm>
          <a:prstGeom prst="rect">
            <a:avLst/>
          </a:prstGeom>
          <a:ln w="0">
            <a:noFill/>
          </a:ln>
        </p:spPr>
      </p:sp>
      <p:sp>
        <p:nvSpPr>
          <p:cNvPr id="14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22400" indent="0">
              <a:buNone/>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eneva"/>
              </a:rPr>
              <a:t>CI, confidence interval; HR, hazard ratio; OS, overall survival.</a:t>
            </a:r>
            <a:endParaRPr b="0" lang="en-US" sz="1200" spc="-1" strike="noStrike">
              <a:solidFill>
                <a:srgbClr val="000000"/>
              </a:solidFill>
              <a:latin typeface="Arial"/>
            </a:endParaRPr>
          </a:p>
        </p:txBody>
      </p:sp>
      <p:sp>
        <p:nvSpPr>
          <p:cNvPr id="14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183A-D0A7-43F8-9BE9-F22D3CA5B8B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57480" y="720720"/>
            <a:ext cx="4800600" cy="3600360"/>
          </a:xfrm>
          <a:prstGeom prst="rect">
            <a:avLst/>
          </a:prstGeom>
          <a:ln w="0">
            <a:noFill/>
          </a:ln>
        </p:spPr>
      </p:sp>
      <p:sp>
        <p:nvSpPr>
          <p:cNvPr id="14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a:t>
            </a:r>
            <a:r>
              <a:rPr b="0" i="1" lang="en-US" sz="1200" spc="-1" strike="noStrike">
                <a:solidFill>
                  <a:srgbClr val="000000"/>
                </a:solidFill>
                <a:latin typeface="Arial"/>
              </a:rPr>
              <a:t>hazard ratio</a:t>
            </a:r>
            <a:r>
              <a:rPr b="0" lang="en-US" sz="1200" spc="-1" strike="noStrike">
                <a:solidFill>
                  <a:srgbClr val="000000"/>
                </a:solidFill>
                <a:latin typeface="Arial"/>
              </a:rPr>
              <a:t>; TKI, </a:t>
            </a:r>
            <a:r>
              <a:rPr b="0" i="1" lang="en-US" sz="1200" spc="-1" strike="noStrike">
                <a:solidFill>
                  <a:srgbClr val="000000"/>
                </a:solidFill>
                <a:latin typeface="Arial"/>
              </a:rPr>
              <a:t>tyrosine kinase inhibitor</a:t>
            </a:r>
            <a:r>
              <a:rPr b="0" lang="en-US" sz="1200" spc="-1" strike="noStrike">
                <a:solidFill>
                  <a:srgbClr val="000000"/>
                </a:solidFill>
                <a:latin typeface="Arial"/>
              </a:rPr>
              <a:t>; ITT, </a:t>
            </a:r>
            <a:r>
              <a:rPr b="0" i="1" lang="en-US" sz="1200" spc="-1" strike="noStrike">
                <a:solidFill>
                  <a:srgbClr val="000000"/>
                </a:solidFill>
                <a:latin typeface="Arial"/>
              </a:rPr>
              <a:t>intention to treat</a:t>
            </a:r>
            <a:r>
              <a:rPr b="0" lang="en-US" sz="1200" spc="-1" strike="noStrike">
                <a:solidFill>
                  <a:srgbClr val="000000"/>
                </a:solidFill>
                <a:latin typeface="Arial"/>
              </a:rPr>
              <a:t> (?); OS, </a:t>
            </a:r>
            <a:r>
              <a:rPr b="0" i="1" lang="en-US" sz="1200" spc="-1" strike="noStrike">
                <a:solidFill>
                  <a:srgbClr val="000000"/>
                </a:solidFill>
                <a:latin typeface="Arial"/>
              </a:rPr>
              <a:t>overall surviv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9854-F540-4951-AF95-F2CACB677C9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257480" y="720720"/>
            <a:ext cx="4800600" cy="3600360"/>
          </a:xfrm>
          <a:prstGeom prst="rect">
            <a:avLst/>
          </a:prstGeom>
          <a:ln w="0">
            <a:noFill/>
          </a:ln>
        </p:spPr>
      </p:sp>
      <p:sp>
        <p:nvSpPr>
          <p:cNvPr id="14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N, </a:t>
            </a:r>
            <a:r>
              <a:rPr b="0" i="1" lang="en-US" sz="1200" spc="-1" strike="noStrike">
                <a:solidFill>
                  <a:srgbClr val="000000"/>
                </a:solidFill>
                <a:latin typeface="Arial"/>
              </a:rPr>
              <a:t>hypertension</a:t>
            </a:r>
            <a:r>
              <a:rPr b="0" lang="en-US" sz="1200" spc="-1" strike="noStrike">
                <a:solidFill>
                  <a:srgbClr val="000000"/>
                </a:solidFill>
                <a:latin typeface="Arial"/>
              </a:rPr>
              <a:t>; RCC, </a:t>
            </a:r>
            <a:r>
              <a:rPr b="0" i="1" lang="en-US" sz="1200" spc="-1" strike="noStrike">
                <a:solidFill>
                  <a:srgbClr val="000000"/>
                </a:solidFill>
                <a:latin typeface="Arial"/>
              </a:rPr>
              <a:t>renal cell carcinoma</a:t>
            </a:r>
            <a:r>
              <a:rPr b="0" lang="en-US" sz="1200" spc="-1" strike="noStrike">
                <a:solidFill>
                  <a:srgbClr val="000000"/>
                </a:solidFill>
                <a:latin typeface="Arial"/>
              </a:rPr>
              <a:t>; L, </a:t>
            </a:r>
            <a:r>
              <a:rPr b="0" i="1" lang="en-US" sz="1200" spc="-1" strike="noStrike">
                <a:solidFill>
                  <a:srgbClr val="000000"/>
                </a:solidFill>
                <a:latin typeface="Arial"/>
              </a:rPr>
              <a:t>left</a:t>
            </a:r>
            <a:endParaRPr b="0" lang="en-US" sz="1200" spc="-1" strike="noStrike">
              <a:solidFill>
                <a:srgbClr val="000000"/>
              </a:solidFill>
              <a:latin typeface="Arial"/>
            </a:endParaRPr>
          </a:p>
        </p:txBody>
      </p:sp>
      <p:sp>
        <p:nvSpPr>
          <p:cNvPr id="143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EB3A-3CB4-48A4-8000-1CF8E7BE51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57480" y="720720"/>
            <a:ext cx="4800600" cy="3600360"/>
          </a:xfrm>
          <a:prstGeom prst="rect">
            <a:avLst/>
          </a:prstGeom>
          <a:ln w="0">
            <a:noFill/>
          </a:ln>
        </p:spPr>
      </p:sp>
      <p:sp>
        <p:nvSpPr>
          <p:cNvPr id="14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C, </a:t>
            </a:r>
            <a:r>
              <a:rPr b="0" i="1" lang="en-US" sz="1200" spc="-1" strike="noStrike">
                <a:solidFill>
                  <a:srgbClr val="000000"/>
                </a:solidFill>
                <a:latin typeface="Arial"/>
              </a:rPr>
              <a:t>renal cell carcinoma</a:t>
            </a:r>
            <a:endParaRPr b="0" lang="en-US" sz="1200" spc="-1" strike="noStrike">
              <a:solidFill>
                <a:srgbClr val="000000"/>
              </a:solidFill>
              <a:latin typeface="Arial"/>
            </a:endParaRPr>
          </a:p>
        </p:txBody>
      </p:sp>
      <p:sp>
        <p:nvSpPr>
          <p:cNvPr id="143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4963-2649-4EB5-8A99-FDC4F97CD7C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257480" y="720720"/>
            <a:ext cx="4800600" cy="3600360"/>
          </a:xfrm>
          <a:prstGeom prst="rect">
            <a:avLst/>
          </a:prstGeom>
          <a:ln w="0">
            <a:noFill/>
          </a:ln>
        </p:spPr>
      </p:sp>
      <p:sp>
        <p:nvSpPr>
          <p:cNvPr id="14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ヒラギノ角ゴ Pro W3"/>
            </a:endParaRPr>
          </a:p>
        </p:txBody>
      </p:sp>
      <p:sp>
        <p:nvSpPr>
          <p:cNvPr id="14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EEF1-A638-40B8-8D7F-139800DB02F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8134-227E-41F2-B88E-008FDBC715E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85" name="PlaceHolder 1"/>
          <p:cNvSpPr>
            <a:spLocks noGrp="1"/>
          </p:cNvSpPr>
          <p:nvPr>
            <p:ph type="sldImg"/>
          </p:nvPr>
        </p:nvSpPr>
        <p:spPr>
          <a:xfrm>
            <a:off x="1258920" y="720720"/>
            <a:ext cx="4800600" cy="3600360"/>
          </a:xfrm>
          <a:prstGeom prst="rect">
            <a:avLst/>
          </a:prstGeom>
          <a:ln w="0">
            <a:noFill/>
          </a:ln>
        </p:spPr>
      </p:sp>
      <p:sp>
        <p:nvSpPr>
          <p:cNvPr id="13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57480" y="720720"/>
            <a:ext cx="4800600" cy="3600360"/>
          </a:xfrm>
          <a:prstGeom prst="rect">
            <a:avLst/>
          </a:prstGeom>
          <a:ln w="0">
            <a:noFill/>
          </a:ln>
        </p:spPr>
      </p:sp>
      <p:sp>
        <p:nvSpPr>
          <p:cNvPr id="14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Arial"/>
                <a:ea typeface="ヒラギノ角ゴ Pro W3"/>
              </a:rPr>
              <a:t>MRI, </a:t>
            </a:r>
            <a:r>
              <a:rPr b="0" i="1" lang="en-US" sz="1200" spc="-1" strike="noStrike">
                <a:solidFill>
                  <a:srgbClr val="000000"/>
                </a:solidFill>
                <a:latin typeface="Arial"/>
                <a:ea typeface="ヒラギノ角ゴ Pro W3"/>
              </a:rPr>
              <a:t>magnetic resonance imaging</a:t>
            </a:r>
            <a:r>
              <a:rPr b="0" lang="en-US" sz="1200" spc="-1" strike="noStrike">
                <a:solidFill>
                  <a:srgbClr val="000000"/>
                </a:solidFill>
                <a:latin typeface="Arial"/>
                <a:ea typeface="ヒラギノ角ゴ Pro W3"/>
              </a:rPr>
              <a:t>; SRS, </a:t>
            </a:r>
            <a:r>
              <a:rPr b="0" i="1" lang="en-US" sz="1200" spc="-1" strike="noStrike">
                <a:solidFill>
                  <a:srgbClr val="000000"/>
                </a:solidFill>
                <a:latin typeface="Arial"/>
                <a:ea typeface="ヒラギノ角ゴ Pro W3"/>
              </a:rPr>
              <a:t>stereotactic radiosurgery</a:t>
            </a:r>
            <a:r>
              <a:rPr b="0" lang="en-US" sz="1200" spc="-1" strike="noStrike">
                <a:solidFill>
                  <a:srgbClr val="000000"/>
                </a:solidFill>
                <a:latin typeface="Arial"/>
                <a:ea typeface="ヒラギノ角ゴ Pro W3"/>
              </a:rPr>
              <a:t> (?)</a:t>
            </a:r>
            <a:endParaRPr b="0" lang="en-US" sz="1200" spc="-1" strike="noStrike">
              <a:solidFill>
                <a:srgbClr val="000000"/>
              </a:solidFill>
              <a:latin typeface="Arial"/>
            </a:endParaRPr>
          </a:p>
        </p:txBody>
      </p:sp>
      <p:sp>
        <p:nvSpPr>
          <p:cNvPr id="14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0C47-F940-4995-8AF4-037FD0B387B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257480" y="720720"/>
            <a:ext cx="4800600" cy="3600360"/>
          </a:xfrm>
          <a:prstGeom prst="rect">
            <a:avLst/>
          </a:prstGeom>
          <a:ln w="0">
            <a:noFill/>
          </a:ln>
        </p:spPr>
      </p:sp>
      <p:sp>
        <p:nvSpPr>
          <p:cNvPr id="14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zer RJ, et al. Cancer. 2010;116:4256-4265.</a:t>
            </a:r>
            <a:endParaRPr b="0" lang="en-US" sz="1200" spc="-1" strike="noStrike">
              <a:solidFill>
                <a:srgbClr val="000000"/>
              </a:solidFill>
              <a:latin typeface="Arial"/>
            </a:endParaRPr>
          </a:p>
          <a:p>
            <a:pPr indent="0" algn="just">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ni et al, Lancet Oncology. 2011;378:1931-1936.</a:t>
            </a:r>
            <a:endParaRPr b="0" lang="en-US" sz="1200" spc="-1" strike="noStrike">
              <a:solidFill>
                <a:srgbClr val="000000"/>
              </a:solidFill>
              <a:latin typeface="Arial"/>
            </a:endParaRPr>
          </a:p>
          <a:p>
            <a:pPr indent="0" algn="just">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utson T, et al. ESMO 2012. Abstract LBA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0549-F71F-411F-921E-D0A51D013B5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258920" y="720720"/>
            <a:ext cx="4799160" cy="3598920"/>
          </a:xfrm>
          <a:prstGeom prst="rect">
            <a:avLst/>
          </a:prstGeom>
          <a:ln w="0">
            <a:noFill/>
          </a:ln>
        </p:spPr>
      </p:sp>
      <p:sp>
        <p:nvSpPr>
          <p:cNvPr id="144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461C-5C1C-4E12-9190-868E2751C74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ier S, for the French Immunotherapy Intergroup. Results of randomized trial PERCY Quattro in patients with metastatic renal cell carcinoma of intermediate prognosis. Paper presented at: ASCO; May 13-17, 2005; Orlando, F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257480" y="720720"/>
            <a:ext cx="4800600" cy="3600360"/>
          </a:xfrm>
          <a:prstGeom prst="rect">
            <a:avLst/>
          </a:prstGeom>
          <a:ln w="0">
            <a:noFill/>
          </a:ln>
        </p:spPr>
      </p:sp>
      <p:sp>
        <p:nvSpPr>
          <p:cNvPr id="14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8522-4950-461D-B7CF-BDFDB59345A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257480" y="720720"/>
            <a:ext cx="4800600" cy="3600360"/>
          </a:xfrm>
          <a:prstGeom prst="rect">
            <a:avLst/>
          </a:prstGeom>
          <a:ln w="0">
            <a:noFill/>
          </a:ln>
        </p:spPr>
      </p:sp>
      <p:sp>
        <p:nvSpPr>
          <p:cNvPr id="14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61F8-9E73-4FE2-9C2E-08CC4CB5BBE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257480" y="720720"/>
            <a:ext cx="4800600" cy="3600360"/>
          </a:xfrm>
          <a:prstGeom prst="rect">
            <a:avLst/>
          </a:prstGeom>
          <a:ln w="0">
            <a:noFill/>
          </a:ln>
        </p:spPr>
      </p:sp>
      <p:sp>
        <p:nvSpPr>
          <p:cNvPr id="14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mTOR, </a:t>
            </a:r>
            <a:r>
              <a:rPr b="0" i="1" lang="en-US" sz="1200" spc="-1" strike="noStrike">
                <a:solidFill>
                  <a:srgbClr val="000000"/>
                </a:solidFill>
                <a:latin typeface="Arial"/>
                <a:ea typeface="ヒラギノ角ゴ Pro W3"/>
              </a:rPr>
              <a:t>mammalian target of rapamycin</a:t>
            </a:r>
            <a:r>
              <a:rPr b="0" lang="en-US" sz="1200" spc="-1" strike="noStrike">
                <a:solidFill>
                  <a:srgbClr val="000000"/>
                </a:solidFill>
                <a:latin typeface="Arial"/>
                <a:ea typeface="ヒラギノ角ゴ Pro W3"/>
              </a:rPr>
              <a:t>; RCC, </a:t>
            </a:r>
            <a:r>
              <a:rPr b="0" i="1" lang="en-US" sz="1200" spc="-1" strike="noStrike">
                <a:solidFill>
                  <a:srgbClr val="000000"/>
                </a:solidFill>
                <a:latin typeface="Arial"/>
                <a:ea typeface="ヒラギノ角ゴ Pro W3"/>
              </a:rPr>
              <a:t>renal cell carcinoma; </a:t>
            </a:r>
            <a:r>
              <a:rPr b="0" lang="en-US" sz="1200" spc="-1" strike="noStrike">
                <a:solidFill>
                  <a:srgbClr val="000000"/>
                </a:solidFill>
                <a:latin typeface="Arial"/>
              </a:rPr>
              <a:t>VEGFR, </a:t>
            </a:r>
            <a:r>
              <a:rPr b="0" i="1" lang="en-US" sz="1200" spc="-1" strike="noStrike">
                <a:solidFill>
                  <a:srgbClr val="000000"/>
                </a:solidFill>
                <a:latin typeface="Arial"/>
              </a:rPr>
              <a:t>vascular endothelial growth factor receptor</a:t>
            </a:r>
            <a:r>
              <a:rPr b="0" i="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14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8894-9850-4530-86D8-E80357249A1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ADF8-0EF9-4865-B17D-862834EC9E5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61" name="PlaceHolder 1"/>
          <p:cNvSpPr>
            <a:spLocks noGrp="1"/>
          </p:cNvSpPr>
          <p:nvPr>
            <p:ph type="sldImg"/>
          </p:nvPr>
        </p:nvSpPr>
        <p:spPr>
          <a:xfrm>
            <a:off x="1258920" y="720720"/>
            <a:ext cx="4800600" cy="3600360"/>
          </a:xfrm>
          <a:prstGeom prst="rect">
            <a:avLst/>
          </a:prstGeom>
          <a:ln w="0">
            <a:noFill/>
          </a:ln>
        </p:spPr>
      </p:sp>
      <p:sp>
        <p:nvSpPr>
          <p:cNvPr id="14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C7D6-A2C9-4A6E-93C4-7E0F8E22114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88" name="PlaceHolder 1"/>
          <p:cNvSpPr>
            <a:spLocks noGrp="1"/>
          </p:cNvSpPr>
          <p:nvPr>
            <p:ph type="sldImg"/>
          </p:nvPr>
        </p:nvSpPr>
        <p:spPr>
          <a:xfrm>
            <a:off x="1257480" y="720720"/>
            <a:ext cx="4800600" cy="3600360"/>
          </a:xfrm>
          <a:prstGeom prst="rect">
            <a:avLst/>
          </a:prstGeom>
          <a:ln w="0">
            <a:noFill/>
          </a:ln>
        </p:spPr>
      </p:sp>
      <p:sp>
        <p:nvSpPr>
          <p:cNvPr id="138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257480" y="720720"/>
            <a:ext cx="4800600" cy="3600360"/>
          </a:xfrm>
          <a:prstGeom prst="rect">
            <a:avLst/>
          </a:prstGeom>
          <a:ln w="0">
            <a:noFill/>
          </a:ln>
        </p:spPr>
      </p:sp>
      <p:sp>
        <p:nvSpPr>
          <p:cNvPr id="13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9642-5E58-49FF-8EE5-7571CE87B50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57480" y="720720"/>
            <a:ext cx="4800600" cy="3600360"/>
          </a:xfrm>
          <a:prstGeom prst="rect">
            <a:avLst/>
          </a:prstGeom>
          <a:ln w="0">
            <a:noFill/>
          </a:ln>
        </p:spPr>
      </p:sp>
      <p:sp>
        <p:nvSpPr>
          <p:cNvPr id="13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C, </a:t>
            </a:r>
            <a:r>
              <a:rPr b="0" i="1" lang="en-US" sz="1200" spc="-1" strike="noStrike">
                <a:solidFill>
                  <a:srgbClr val="000000"/>
                </a:solidFill>
                <a:latin typeface="Arial"/>
              </a:rPr>
              <a:t>Renal cell carcinoma</a:t>
            </a:r>
            <a:r>
              <a:rPr b="0" lang="en-US" sz="1200" spc="-1" strike="noStrike">
                <a:solidFill>
                  <a:srgbClr val="000000"/>
                </a:solidFill>
                <a:latin typeface="Arial"/>
              </a:rPr>
              <a:t>; XRT, </a:t>
            </a:r>
            <a:r>
              <a:rPr b="0" i="1" lang="en-US" sz="1200" spc="-1" strike="noStrike">
                <a:solidFill>
                  <a:srgbClr val="000000"/>
                </a:solidFill>
                <a:latin typeface="Arial"/>
              </a:rPr>
              <a:t>external beam radiation therapy</a:t>
            </a:r>
            <a:endParaRPr b="0" lang="en-US" sz="1200" spc="-1" strike="noStrike">
              <a:solidFill>
                <a:srgbClr val="000000"/>
              </a:solidFill>
              <a:latin typeface="Arial"/>
            </a:endParaRPr>
          </a:p>
        </p:txBody>
      </p:sp>
      <p:sp>
        <p:nvSpPr>
          <p:cNvPr id="13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390B-365B-4BB3-B521-89C139368D2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257480" y="720720"/>
            <a:ext cx="4800600" cy="3600360"/>
          </a:xfrm>
          <a:prstGeom prst="rect">
            <a:avLst/>
          </a:prstGeom>
          <a:ln w="0">
            <a:noFill/>
          </a:ln>
        </p:spPr>
      </p:sp>
      <p:sp>
        <p:nvSpPr>
          <p:cNvPr id="139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Arial"/>
                <a:ea typeface="ヒラギノ角ゴ Pro W3"/>
              </a:rPr>
              <a:t>IFN, </a:t>
            </a:r>
            <a:r>
              <a:rPr b="0" i="1" lang="en-US" sz="1200" spc="-1" strike="noStrike">
                <a:solidFill>
                  <a:srgbClr val="000000"/>
                </a:solidFill>
                <a:latin typeface="Arial"/>
                <a:ea typeface="ヒラギノ角ゴ Pro W3"/>
              </a:rPr>
              <a:t>interferon</a:t>
            </a:r>
            <a:endParaRPr b="0" lang="en-US" sz="1200" spc="-1" strike="noStrike">
              <a:solidFill>
                <a:srgbClr val="000000"/>
              </a:solidFill>
              <a:latin typeface="Arial"/>
            </a:endParaRPr>
          </a:p>
        </p:txBody>
      </p:sp>
      <p:sp>
        <p:nvSpPr>
          <p:cNvPr id="139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1A10-EAA8-49A8-9363-8EE57BAC0E0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57480" y="720720"/>
            <a:ext cx="4800600" cy="3600360"/>
          </a:xfrm>
          <a:prstGeom prst="rect">
            <a:avLst/>
          </a:prstGeom>
          <a:ln w="0">
            <a:noFill/>
          </a:ln>
        </p:spPr>
      </p:sp>
      <p:sp>
        <p:nvSpPr>
          <p:cNvPr id="140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N-a, </a:t>
            </a:r>
            <a:r>
              <a:rPr b="0" i="1" lang="en-US" sz="1200" spc="-1" strike="noStrike">
                <a:solidFill>
                  <a:srgbClr val="000000"/>
                </a:solidFill>
                <a:latin typeface="Arial"/>
              </a:rPr>
              <a:t>interferon alpha</a:t>
            </a:r>
            <a:r>
              <a:rPr b="0" lang="en-US" sz="1200" spc="-1" strike="noStrike">
                <a:solidFill>
                  <a:srgbClr val="000000"/>
                </a:solidFill>
                <a:latin typeface="Arial"/>
              </a:rPr>
              <a:t>; </a:t>
            </a:r>
            <a:r>
              <a:rPr b="0" i="1" lang="en-US" sz="1200" spc="-1" strike="noStrike">
                <a:solidFill>
                  <a:srgbClr val="000000"/>
                </a:solidFill>
                <a:latin typeface="Arial"/>
              </a:rPr>
              <a:t>IL-2, interleukin 2; </a:t>
            </a:r>
            <a:r>
              <a:rPr b="0" lang="en-US" sz="1200" spc="-1" strike="noStrike">
                <a:solidFill>
                  <a:srgbClr val="000000"/>
                </a:solidFill>
                <a:latin typeface="Arial"/>
              </a:rPr>
              <a:t>mTOR, </a:t>
            </a:r>
            <a:r>
              <a:rPr b="0" i="1" lang="en-US" sz="1200" spc="-1" strike="noStrike">
                <a:solidFill>
                  <a:srgbClr val="000000"/>
                </a:solidFill>
                <a:latin typeface="Arial"/>
              </a:rPr>
              <a:t>mammalian target of rapamycin; </a:t>
            </a:r>
            <a:r>
              <a:rPr b="0" lang="en-US" sz="1200" spc="-1" strike="noStrike">
                <a:solidFill>
                  <a:srgbClr val="000000"/>
                </a:solidFill>
                <a:latin typeface="Arial"/>
              </a:rPr>
              <a:t>RCC, </a:t>
            </a:r>
            <a:r>
              <a:rPr b="0" i="1" lang="en-US" sz="1200" spc="-1" strike="noStrike">
                <a:solidFill>
                  <a:srgbClr val="000000"/>
                </a:solidFill>
                <a:latin typeface="Arial"/>
              </a:rPr>
              <a:t>renal cell carcinoma; </a:t>
            </a:r>
            <a:r>
              <a:rPr b="0" lang="en-US" sz="1200" spc="-1" strike="noStrike">
                <a:solidFill>
                  <a:srgbClr val="000000"/>
                </a:solidFill>
                <a:latin typeface="Arial"/>
              </a:rPr>
              <a:t>VEGF, </a:t>
            </a:r>
            <a:r>
              <a:rPr b="0" i="1" lang="en-US" sz="1200" spc="-1" strike="noStrike">
                <a:solidFill>
                  <a:srgbClr val="000000"/>
                </a:solidFill>
                <a:latin typeface="Arial"/>
              </a:rPr>
              <a:t>vascular endothelial growth factor</a:t>
            </a:r>
            <a:endParaRPr b="0" lang="en-US" sz="1200" spc="-1" strike="noStrike">
              <a:solidFill>
                <a:srgbClr val="000000"/>
              </a:solidFill>
              <a:latin typeface="Arial"/>
            </a:endParaRPr>
          </a:p>
        </p:txBody>
      </p:sp>
      <p:sp>
        <p:nvSpPr>
          <p:cNvPr id="1401" name="TextBox 4"/>
          <p:cNvSpPr/>
          <p:nvPr/>
        </p:nvSpPr>
        <p:spPr>
          <a:xfrm>
            <a:off x="1136520" y="160200"/>
            <a:ext cx="281160" cy="355680"/>
          </a:xfrm>
          <a:prstGeom prst="rect">
            <a:avLst/>
          </a:prstGeom>
          <a:noFill/>
          <a:ln w="0">
            <a:noFill/>
          </a:ln>
        </p:spPr>
        <p:style>
          <a:lnRef idx="0"/>
          <a:fillRef idx="0"/>
          <a:effectRef idx="0"/>
          <a:fontRef idx="minor"/>
        </p:style>
        <p:txBody>
          <a:bodyPr wrap="none" lIns="96480" rIns="96480" tIns="48240" bIns="48240" anchor="t">
            <a:sp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6553-1596-48D9-9EA0-FA95DB0B176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257480" y="720720"/>
            <a:ext cx="4800600" cy="3600360"/>
          </a:xfrm>
          <a:prstGeom prst="rect">
            <a:avLst/>
          </a:prstGeom>
          <a:ln w="0">
            <a:noFill/>
          </a:ln>
        </p:spPr>
      </p:sp>
      <p:sp>
        <p:nvSpPr>
          <p:cNvPr id="14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L-2, interleukin 2</a:t>
            </a:r>
            <a:r>
              <a:rPr b="0" lang="en-US" sz="1200" spc="-1" strike="noStrike">
                <a:solidFill>
                  <a:srgbClr val="000000"/>
                </a:solidFill>
                <a:latin typeface="Arial"/>
              </a:rPr>
              <a:t>; mTOR, </a:t>
            </a:r>
            <a:r>
              <a:rPr b="0" i="1" lang="en-US" sz="1200" spc="-1" strike="noStrike">
                <a:solidFill>
                  <a:srgbClr val="000000"/>
                </a:solidFill>
                <a:latin typeface="Arial"/>
              </a:rPr>
              <a:t>mammalian target of rapamycin</a:t>
            </a:r>
            <a:r>
              <a:rPr b="0" lang="en-US" sz="1200" spc="-1" strike="noStrike">
                <a:solidFill>
                  <a:srgbClr val="000000"/>
                </a:solidFill>
                <a:latin typeface="Arial"/>
              </a:rPr>
              <a:t>; NCCN, </a:t>
            </a:r>
            <a:r>
              <a:rPr b="0" i="1" lang="en-US" sz="1200" spc="-1" strike="noStrike">
                <a:solidFill>
                  <a:srgbClr val="000000"/>
                </a:solidFill>
                <a:latin typeface="Arial"/>
              </a:rPr>
              <a:t>National Comprehensive Cancer Network; </a:t>
            </a:r>
            <a:r>
              <a:rPr b="0" lang="en-US" sz="1200" spc="-1" strike="noStrike">
                <a:solidFill>
                  <a:srgbClr val="000000"/>
                </a:solidFill>
                <a:latin typeface="Arial"/>
              </a:rPr>
              <a:t>RCC, </a:t>
            </a:r>
            <a:r>
              <a:rPr b="0" i="1" lang="en-US" sz="1200" spc="-1" strike="noStrike">
                <a:solidFill>
                  <a:srgbClr val="000000"/>
                </a:solidFill>
                <a:latin typeface="Arial"/>
              </a:rPr>
              <a:t>renal cell carcinoma</a:t>
            </a:r>
            <a:r>
              <a:rPr b="0" lang="en-US" sz="1200" spc="-1" strike="noStrike">
                <a:solidFill>
                  <a:srgbClr val="000000"/>
                </a:solidFill>
                <a:latin typeface="Arial"/>
              </a:rPr>
              <a:t>; TKI, </a:t>
            </a:r>
            <a:r>
              <a:rPr b="0" i="1" lang="en-US" sz="1200" spc="-1" strike="noStrike">
                <a:solidFill>
                  <a:srgbClr val="000000"/>
                </a:solidFill>
                <a:latin typeface="Arial"/>
              </a:rPr>
              <a:t>Tyrosine kinase inhibitor;</a:t>
            </a:r>
            <a:r>
              <a:rPr b="0" lang="en-US" sz="1200" spc="-1" strike="noStrike">
                <a:solidFill>
                  <a:srgbClr val="000000"/>
                </a:solidFill>
                <a:latin typeface="Arial"/>
              </a:rPr>
              <a:t> VEGF, </a:t>
            </a:r>
            <a:r>
              <a:rPr b="0" i="1" lang="en-US" sz="1200" spc="-1" strike="noStrike">
                <a:solidFill>
                  <a:srgbClr val="000000"/>
                </a:solidFill>
                <a:latin typeface="Arial"/>
              </a:rPr>
              <a:t>vascular endothelial growth factor</a:t>
            </a:r>
            <a:endParaRPr b="0" lang="en-US" sz="1200" spc="-1" strike="noStrike">
              <a:solidFill>
                <a:srgbClr val="000000"/>
              </a:solidFill>
              <a:latin typeface="Arial"/>
            </a:endParaRPr>
          </a:p>
        </p:txBody>
      </p:sp>
      <p:sp>
        <p:nvSpPr>
          <p:cNvPr id="1405" name="Slide Number Placeholder 3"/>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lnSpc>
                <a:spcPct val="90000"/>
              </a:lnSpc>
              <a:spcBef>
                <a:spcPts val="524"/>
              </a:spcBef>
              <a:spcAft>
                <a:spcPts val="37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6" name="TextBox 4"/>
          <p:cNvSpPr/>
          <p:nvPr/>
        </p:nvSpPr>
        <p:spPr>
          <a:xfrm>
            <a:off x="0" y="-3240"/>
            <a:ext cx="2365200" cy="355680"/>
          </a:xfrm>
          <a:prstGeom prst="rect">
            <a:avLst/>
          </a:prstGeom>
          <a:noFill/>
          <a:ln w="0">
            <a:noFill/>
          </a:ln>
        </p:spPr>
        <p:style>
          <a:lnRef idx="0"/>
          <a:fillRef idx="0"/>
          <a:effectRef idx="0"/>
          <a:fontRef idx="minor"/>
        </p:style>
        <p:txBody>
          <a:bodyPr lIns="95760" rIns="95760" tIns="47880" bIns="47880" anchor="t">
            <a:spAutoFit/>
          </a:bodyPr>
          <a:p>
            <a:pPr>
              <a:lnSpc>
                <a:spcPct val="90000"/>
              </a:lnSpc>
              <a:spcBef>
                <a:spcPts val="788"/>
              </a:spcBef>
              <a:spcAft>
                <a:spcPts val="561"/>
              </a:spcAft>
              <a:buClr>
                <a:srgbClr val="8b3d9a"/>
              </a:buClr>
              <a:buFont typeface="Arial"/>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ffffff"/>
              </a:solidFill>
              <a:latin typeface="Arial"/>
            </a:endParaRPr>
          </a:p>
        </p:txBody>
      </p:sp>
      <p:sp>
        <p:nvSpPr>
          <p:cNvPr id="140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623D-66A7-468B-86CB-DA97391CCDC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4145040" y="9118440"/>
            <a:ext cx="3168720" cy="481320"/>
          </a:xfrm>
          <a:prstGeom prst="rect">
            <a:avLst/>
          </a:prstGeom>
          <a:noFill/>
          <a:ln w="0">
            <a:noFill/>
          </a:ln>
        </p:spPr>
        <p:style>
          <a:lnRef idx="0"/>
          <a:fillRef idx="0"/>
          <a:effectRef idx="0"/>
          <a:fontRef idx="minor"/>
        </p:style>
        <p:txBody>
          <a:bodyPr lIns="97920" rIns="97920" tIns="48960" bIns="48960" anchor="b">
            <a:noAutofit/>
          </a:bodyPr>
          <a:p>
            <a:pPr algn="r">
              <a:lnSpc>
                <a:spcPct val="90000"/>
              </a:lnSpc>
              <a:spcBef>
                <a:spcPts val="788"/>
              </a:spcBef>
              <a:spcAft>
                <a:spcPts val="561"/>
              </a:spcAft>
              <a:buClr>
                <a:srgbClr val="8b3d9a"/>
              </a:buClr>
              <a:buFont typeface="Arial"/>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1" lang="en-US" sz="1800" spc="-1" strike="noStrike">
              <a:solidFill>
                <a:srgbClr val="ffffff"/>
              </a:solidFill>
              <a:latin typeface="Arial"/>
            </a:endParaRPr>
          </a:p>
        </p:txBody>
      </p:sp>
      <p:sp>
        <p:nvSpPr>
          <p:cNvPr id="1409" name="PlaceHolder 1"/>
          <p:cNvSpPr>
            <a:spLocks noGrp="1"/>
          </p:cNvSpPr>
          <p:nvPr>
            <p:ph type="sldImg"/>
          </p:nvPr>
        </p:nvSpPr>
        <p:spPr>
          <a:xfrm>
            <a:off x="1257480" y="720720"/>
            <a:ext cx="4800600" cy="3600360"/>
          </a:xfrm>
          <a:prstGeom prst="rect">
            <a:avLst/>
          </a:prstGeom>
          <a:ln w="0">
            <a:noFill/>
          </a:ln>
        </p:spPr>
      </p:sp>
      <p:sp>
        <p:nvSpPr>
          <p:cNvPr id="14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R, </a:t>
            </a:r>
            <a:r>
              <a:rPr b="0" i="1" lang="en-US" sz="1200" spc="-1" strike="noStrike">
                <a:solidFill>
                  <a:srgbClr val="000000"/>
                </a:solidFill>
                <a:latin typeface="Arial"/>
              </a:rPr>
              <a:t>hazard ratio;</a:t>
            </a:r>
            <a:r>
              <a:rPr b="0" lang="en-US" sz="1200" spc="-1" strike="noStrike">
                <a:solidFill>
                  <a:srgbClr val="000000"/>
                </a:solidFill>
                <a:latin typeface="Arial"/>
              </a:rPr>
              <a:t> IF-</a:t>
            </a:r>
            <a:r>
              <a:rPr b="0" lang="en-US" sz="1200" spc="-1" strike="noStrike">
                <a:solidFill>
                  <a:srgbClr val="000000"/>
                </a:solidFill>
                <a:latin typeface="Symbol"/>
                <a:ea typeface="Symbol"/>
              </a:rPr>
              <a:t></a:t>
            </a:r>
            <a:r>
              <a:rPr b="0" lang="en-US" sz="1200" spc="-1" strike="noStrike">
                <a:solidFill>
                  <a:srgbClr val="000000"/>
                </a:solidFill>
                <a:latin typeface="Arial"/>
              </a:rPr>
              <a:t> or IFN-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interferon alpha</a:t>
            </a:r>
            <a:r>
              <a:rPr b="0" lang="en-US" sz="1200" spc="-1" strike="noStrike">
                <a:solidFill>
                  <a:srgbClr val="000000"/>
                </a:solidFill>
                <a:latin typeface="Arial"/>
              </a:rPr>
              <a:t>; IL-2, </a:t>
            </a:r>
            <a:r>
              <a:rPr b="0" i="1" lang="en-US" sz="1200" spc="-1" strike="noStrike">
                <a:solidFill>
                  <a:srgbClr val="000000"/>
                </a:solidFill>
                <a:latin typeface="Arial"/>
              </a:rPr>
              <a:t>interleukin </a:t>
            </a:r>
            <a:r>
              <a:rPr b="0" lang="en-US" sz="1200" spc="-1" strike="noStrike">
                <a:solidFill>
                  <a:srgbClr val="000000"/>
                </a:solidFill>
                <a:latin typeface="Arial"/>
              </a:rPr>
              <a:t>2; mTORi, mammalian target of rapamycin inhibitor; ORR, overall response rate; OS, overall survival; PFS, progression-free survival; TKI, tyrosine kinase inhibitor; VEGF, vascular endothelial growth factor; VEGFR, vascular endothelial growth factor receptor </a:t>
            </a:r>
            <a:endParaRPr b="0" lang="en-US" sz="1200" spc="-1" strike="noStrike">
              <a:solidFill>
                <a:srgbClr val="000000"/>
              </a:solidFill>
              <a:latin typeface="Arial"/>
            </a:endParaRPr>
          </a:p>
        </p:txBody>
      </p:sp>
      <p:sp>
        <p:nvSpPr>
          <p:cNvPr id="14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3A7C-CF7C-436B-9799-4E36661365E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1"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1"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10" descr="CCO_ONC_ForPPT.gif"/>
          <p:cNvPicPr/>
          <p:nvPr/>
        </p:nvPicPr>
        <p:blipFill>
          <a:blip r:embed="rId2"/>
          <a:stretch/>
        </p:blipFill>
        <p:spPr>
          <a:xfrm>
            <a:off x="6151680" y="328680"/>
            <a:ext cx="2671560" cy="946080"/>
          </a:xfrm>
          <a:prstGeom prst="rect">
            <a:avLst/>
          </a:prstGeom>
          <a:ln w="0">
            <a:noFill/>
          </a:ln>
        </p:spPr>
      </p:pic>
      <p:sp>
        <p:nvSpPr>
          <p:cNvPr id="43"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4" name="Picture 9" descr="Default_ONC_ImageforPPT.jpg"/>
          <p:cNvPicPr/>
          <p:nvPr/>
        </p:nvPicPr>
        <p:blipFill>
          <a:blip r:embed="rId3"/>
          <a:stretch/>
        </p:blipFill>
        <p:spPr>
          <a:xfrm>
            <a:off x="4575240" y="3657600"/>
            <a:ext cx="4572000" cy="3200400"/>
          </a:xfrm>
          <a:prstGeom prst="rect">
            <a:avLst/>
          </a:prstGeom>
          <a:ln w="0">
            <a:noFill/>
          </a:ln>
        </p:spPr>
      </p:pic>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3916080"/>
            <a:ext cx="3886200" cy="112068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 Dror Michaelson, MD, PhD </a:t>
            </a:r>
            <a:br>
              <a:rPr sz="2000"/>
            </a:br>
            <a:r>
              <a:rPr b="0" i="1" lang="en-US" sz="1600" spc="-1" strike="noStrike">
                <a:solidFill>
                  <a:srgbClr val="ffffff"/>
                </a:solidFill>
                <a:latin typeface="Arial"/>
                <a:ea typeface="Calibri"/>
              </a:rPr>
              <a:t>Clinical Director</a:t>
            </a:r>
            <a:r>
              <a:rPr b="0" lang="en-US" sz="1600" spc="-1" strike="noStrike">
                <a:solidFill>
                  <a:srgbClr val="ffffff"/>
                </a:solidFill>
                <a:latin typeface="Arial"/>
                <a:ea typeface="Calibri"/>
              </a:rPr>
              <a:t>, Genitourinary Cancer Center</a:t>
            </a:r>
            <a:br>
              <a:rPr sz="1600"/>
            </a:br>
            <a:r>
              <a:rPr b="0" i="1" lang="en-US" sz="1600" spc="-1" strike="noStrike">
                <a:solidFill>
                  <a:srgbClr val="ffffff"/>
                </a:solidFill>
                <a:latin typeface="Arial"/>
                <a:ea typeface="Calibri"/>
              </a:rPr>
              <a:t>Associate Professor of Medicine</a:t>
            </a:r>
            <a:br>
              <a:rPr sz="1600"/>
            </a:br>
            <a:r>
              <a:rPr b="0" lang="en-US" sz="1600" spc="-1" strike="noStrike">
                <a:solidFill>
                  <a:srgbClr val="ffffff"/>
                </a:solidFill>
                <a:latin typeface="Arial"/>
                <a:ea typeface="Calibri"/>
              </a:rPr>
              <a:t>Massachusetts General Hospital </a:t>
            </a:r>
            <a:br>
              <a:rPr sz="1600"/>
            </a:br>
            <a:r>
              <a:rPr b="0" lang="en-US" sz="1600" spc="-1" strike="noStrike">
                <a:solidFill>
                  <a:srgbClr val="ffffff"/>
                </a:solidFill>
                <a:latin typeface="Arial"/>
                <a:ea typeface="Calibri"/>
              </a:rPr>
              <a:t>Cancer Center</a:t>
            </a:r>
            <a:br>
              <a:rPr sz="1600"/>
            </a:br>
            <a:r>
              <a:rPr b="0" lang="en-US" sz="1600" spc="-1" strike="noStrike">
                <a:solidFill>
                  <a:srgbClr val="ffffff"/>
                </a:solidFill>
                <a:latin typeface="Arial"/>
                <a:ea typeface="Calibri"/>
              </a:rPr>
              <a:t>Boston, Massachusetts</a:t>
            </a:r>
            <a:endParaRPr b="0" lang="en-US" sz="1600" spc="-1" strike="noStrike">
              <a:solidFill>
                <a:srgbClr val="fefdde"/>
              </a:solidFill>
              <a:latin typeface="Arial"/>
            </a:endParaRPr>
          </a:p>
        </p:txBody>
      </p:sp>
      <p:sp>
        <p:nvSpPr>
          <p:cNvPr id="167"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ea typeface="Calibri"/>
              </a:rPr>
              <a:t>Second-line Therapy and </a:t>
            </a:r>
            <a:br>
              <a:rPr sz="3900"/>
            </a:br>
            <a:r>
              <a:rPr b="1" lang="en-US" sz="3900" spc="-1" strike="noStrike">
                <a:solidFill>
                  <a:srgbClr val="ffffff"/>
                </a:solidFill>
                <a:latin typeface="Arial"/>
                <a:ea typeface="Calibri"/>
              </a:rPr>
              <a:t>Beyond for Advanced </a:t>
            </a:r>
            <a:br>
              <a:rPr sz="3900"/>
            </a:br>
            <a:r>
              <a:rPr b="1" lang="en-US" sz="3900" spc="-1" strike="noStrike">
                <a:solidFill>
                  <a:srgbClr val="ffffff"/>
                </a:solidFill>
                <a:latin typeface="Arial"/>
                <a:ea typeface="Calibri"/>
              </a:rPr>
              <a:t>Renal Cell Carcinoma</a:t>
            </a:r>
            <a:endParaRPr b="1" lang="en-US" sz="3900" spc="-1" strike="noStrike">
              <a:solidFill>
                <a:srgbClr val="f8f45a"/>
              </a:solidFill>
              <a:latin typeface="Arial"/>
            </a:endParaRPr>
          </a:p>
        </p:txBody>
      </p:sp>
      <p:sp>
        <p:nvSpPr>
          <p:cNvPr id="168" name="Text Box 21"/>
          <p:cNvSpPr/>
          <p:nvPr/>
        </p:nvSpPr>
        <p:spPr>
          <a:xfrm>
            <a:off x="317520" y="5942160"/>
            <a:ext cx="356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1" lang="en-US" sz="1000" spc="-1" strike="noStrike">
              <a:solidFill>
                <a:srgbClr val="ffffff"/>
              </a:solidFill>
              <a:latin typeface="Arial"/>
            </a:endParaRPr>
          </a:p>
        </p:txBody>
      </p:sp>
      <p:pic>
        <p:nvPicPr>
          <p:cNvPr id="169" name="Picture 5" descr="AVEO-Oncology-Logo-Tag-R_WhiteforPPT.gif"/>
          <p:cNvPicPr/>
          <p:nvPr/>
        </p:nvPicPr>
        <p:blipFill>
          <a:blip r:embed="rId1"/>
          <a:stretch/>
        </p:blipFill>
        <p:spPr>
          <a:xfrm>
            <a:off x="2287440" y="6205680"/>
            <a:ext cx="944640" cy="466560"/>
          </a:xfrm>
          <a:prstGeom prst="rect">
            <a:avLst/>
          </a:prstGeom>
          <a:ln w="0">
            <a:noFill/>
          </a:ln>
        </p:spPr>
      </p:pic>
      <p:pic>
        <p:nvPicPr>
          <p:cNvPr id="170" name="Picture 6" descr="Astellas_Logo_White_forPPT.gif"/>
          <p:cNvPicPr/>
          <p:nvPr/>
        </p:nvPicPr>
        <p:blipFill>
          <a:blip r:embed="rId2"/>
          <a:stretch/>
        </p:blipFill>
        <p:spPr>
          <a:xfrm>
            <a:off x="420840" y="624528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AXIS Trial: Axitinib Superior to Sorafenib</a:t>
            </a:r>
            <a:br>
              <a:rPr sz="3200"/>
            </a:br>
            <a:r>
              <a:rPr b="1" lang="en-US" sz="3200" spc="-1" strike="noStrike">
                <a:solidFill>
                  <a:srgbClr val="f8f45a"/>
                </a:solidFill>
                <a:latin typeface="Arial"/>
                <a:ea typeface="Calibri"/>
              </a:rPr>
              <a:t>in Second-line mRCC Therapy</a:t>
            </a:r>
            <a:endParaRPr b="1" lang="en-US" sz="3200" spc="-1" strike="noStrike">
              <a:solidFill>
                <a:srgbClr val="f8f45a"/>
              </a:solidFill>
              <a:latin typeface="Arial"/>
            </a:endParaRPr>
          </a:p>
        </p:txBody>
      </p:sp>
      <p:sp>
        <p:nvSpPr>
          <p:cNvPr id="235" name="Text Box 4"/>
          <p:cNvSpPr/>
          <p:nvPr/>
        </p:nvSpPr>
        <p:spPr>
          <a:xfrm>
            <a:off x="284040" y="6374160"/>
            <a:ext cx="47372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Lancet. 2011;378:1931-1939.</a:t>
            </a:r>
            <a:endParaRPr b="1" lang="en-US" sz="1400" spc="-1" strike="noStrike">
              <a:solidFill>
                <a:srgbClr val="ffffff"/>
              </a:solidFill>
              <a:latin typeface="Arial"/>
            </a:endParaRPr>
          </a:p>
        </p:txBody>
      </p:sp>
      <p:sp>
        <p:nvSpPr>
          <p:cNvPr id="236" name="Straight Connector 5"/>
          <p:cNvSpPr/>
          <p:nvPr/>
        </p:nvSpPr>
        <p:spPr>
          <a:xfrm>
            <a:off x="2333520" y="2257560"/>
            <a:ext cx="0" cy="2600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7" name="Straight Connector 7"/>
          <p:cNvSpPr/>
          <p:nvPr/>
        </p:nvSpPr>
        <p:spPr>
          <a:xfrm>
            <a:off x="2333520" y="4853160"/>
            <a:ext cx="6229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8" name="Straight Connector 7"/>
          <p:cNvSpPr/>
          <p:nvPr/>
        </p:nvSpPr>
        <p:spPr>
          <a:xfrm>
            <a:off x="2260440" y="2271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9" name="Straight Connector 8"/>
          <p:cNvSpPr/>
          <p:nvPr/>
        </p:nvSpPr>
        <p:spPr>
          <a:xfrm>
            <a:off x="2260440" y="2530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0" name="Straight Connector 9"/>
          <p:cNvSpPr/>
          <p:nvPr/>
        </p:nvSpPr>
        <p:spPr>
          <a:xfrm>
            <a:off x="2260440" y="27892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1" name="Straight Connector 10"/>
          <p:cNvSpPr/>
          <p:nvPr/>
        </p:nvSpPr>
        <p:spPr>
          <a:xfrm>
            <a:off x="2260440" y="3046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2" name="Straight Connector 11"/>
          <p:cNvSpPr/>
          <p:nvPr/>
        </p:nvSpPr>
        <p:spPr>
          <a:xfrm>
            <a:off x="2260440" y="3301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Straight Connector 12"/>
          <p:cNvSpPr/>
          <p:nvPr/>
        </p:nvSpPr>
        <p:spPr>
          <a:xfrm>
            <a:off x="2260440" y="3559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Straight Connector 13"/>
          <p:cNvSpPr/>
          <p:nvPr/>
        </p:nvSpPr>
        <p:spPr>
          <a:xfrm>
            <a:off x="2260440" y="38178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5" name="Straight Connector 14"/>
          <p:cNvSpPr/>
          <p:nvPr/>
        </p:nvSpPr>
        <p:spPr>
          <a:xfrm>
            <a:off x="2260440" y="4076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Straight Connector 15"/>
          <p:cNvSpPr/>
          <p:nvPr/>
        </p:nvSpPr>
        <p:spPr>
          <a:xfrm>
            <a:off x="2260440" y="4336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7" name="Straight Connector 16"/>
          <p:cNvSpPr/>
          <p:nvPr/>
        </p:nvSpPr>
        <p:spPr>
          <a:xfrm>
            <a:off x="2260440" y="4595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Straight Connector 17"/>
          <p:cNvSpPr/>
          <p:nvPr/>
        </p:nvSpPr>
        <p:spPr>
          <a:xfrm>
            <a:off x="2260440" y="4854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9" name="Straight Connector 18"/>
          <p:cNvSpPr/>
          <p:nvPr/>
        </p:nvSpPr>
        <p:spPr>
          <a:xfrm>
            <a:off x="233352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0" name="Straight Connector 19"/>
          <p:cNvSpPr/>
          <p:nvPr/>
        </p:nvSpPr>
        <p:spPr>
          <a:xfrm>
            <a:off x="416736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1" name="Straight Connector 20"/>
          <p:cNvSpPr/>
          <p:nvPr/>
        </p:nvSpPr>
        <p:spPr>
          <a:xfrm>
            <a:off x="35542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2" name="Straight Connector 21"/>
          <p:cNvSpPr/>
          <p:nvPr/>
        </p:nvSpPr>
        <p:spPr>
          <a:xfrm>
            <a:off x="29462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3" name="Straight Connector 22"/>
          <p:cNvSpPr/>
          <p:nvPr/>
        </p:nvSpPr>
        <p:spPr>
          <a:xfrm>
            <a:off x="47800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4" name="Straight Connector 23"/>
          <p:cNvSpPr/>
          <p:nvPr/>
        </p:nvSpPr>
        <p:spPr>
          <a:xfrm>
            <a:off x="661356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Straight Connector 24"/>
          <p:cNvSpPr/>
          <p:nvPr/>
        </p:nvSpPr>
        <p:spPr>
          <a:xfrm>
            <a:off x="60008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6" name="Straight Connector 25"/>
          <p:cNvSpPr/>
          <p:nvPr/>
        </p:nvSpPr>
        <p:spPr>
          <a:xfrm>
            <a:off x="539280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7" name="Straight Connector 26"/>
          <p:cNvSpPr/>
          <p:nvPr/>
        </p:nvSpPr>
        <p:spPr>
          <a:xfrm>
            <a:off x="843120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8" name="Straight Connector 27"/>
          <p:cNvSpPr/>
          <p:nvPr/>
        </p:nvSpPr>
        <p:spPr>
          <a:xfrm>
            <a:off x="78184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Straight Connector 28"/>
          <p:cNvSpPr/>
          <p:nvPr/>
        </p:nvSpPr>
        <p:spPr>
          <a:xfrm>
            <a:off x="72104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0" name="TextBox 29"/>
          <p:cNvSpPr/>
          <p:nvPr/>
        </p:nvSpPr>
        <p:spPr>
          <a:xfrm>
            <a:off x="1868760" y="21240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261" name="TextBox 30"/>
          <p:cNvSpPr/>
          <p:nvPr/>
        </p:nvSpPr>
        <p:spPr>
          <a:xfrm>
            <a:off x="1868760" y="237816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9</a:t>
            </a:r>
            <a:endParaRPr b="1" lang="en-US" sz="1600" spc="-1" strike="noStrike">
              <a:solidFill>
                <a:srgbClr val="ffffff"/>
              </a:solidFill>
              <a:latin typeface="Arial"/>
            </a:endParaRPr>
          </a:p>
        </p:txBody>
      </p:sp>
      <p:sp>
        <p:nvSpPr>
          <p:cNvPr id="262" name="TextBox 31"/>
          <p:cNvSpPr/>
          <p:nvPr/>
        </p:nvSpPr>
        <p:spPr>
          <a:xfrm>
            <a:off x="1867320" y="2641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8</a:t>
            </a:r>
            <a:endParaRPr b="1" lang="en-US" sz="1600" spc="-1" strike="noStrike">
              <a:solidFill>
                <a:srgbClr val="ffffff"/>
              </a:solidFill>
              <a:latin typeface="Arial"/>
            </a:endParaRPr>
          </a:p>
        </p:txBody>
      </p:sp>
      <p:sp>
        <p:nvSpPr>
          <p:cNvPr id="263" name="TextBox 32"/>
          <p:cNvSpPr/>
          <p:nvPr/>
        </p:nvSpPr>
        <p:spPr>
          <a:xfrm>
            <a:off x="1867320" y="289404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a:t>
            </a:r>
            <a:endParaRPr b="1" lang="en-US" sz="1600" spc="-1" strike="noStrike">
              <a:solidFill>
                <a:srgbClr val="ffffff"/>
              </a:solidFill>
              <a:latin typeface="Arial"/>
            </a:endParaRPr>
          </a:p>
        </p:txBody>
      </p:sp>
      <p:sp>
        <p:nvSpPr>
          <p:cNvPr id="264" name="TextBox 33"/>
          <p:cNvSpPr/>
          <p:nvPr/>
        </p:nvSpPr>
        <p:spPr>
          <a:xfrm>
            <a:off x="1867320" y="315756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a:t>
            </a:r>
            <a:endParaRPr b="1" lang="en-US" sz="1600" spc="-1" strike="noStrike">
              <a:solidFill>
                <a:srgbClr val="ffffff"/>
              </a:solidFill>
              <a:latin typeface="Arial"/>
            </a:endParaRPr>
          </a:p>
        </p:txBody>
      </p:sp>
      <p:sp>
        <p:nvSpPr>
          <p:cNvPr id="265" name="TextBox 34"/>
          <p:cNvSpPr/>
          <p:nvPr/>
        </p:nvSpPr>
        <p:spPr>
          <a:xfrm>
            <a:off x="1867320" y="34020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endParaRPr b="1" lang="en-US" sz="1600" spc="-1" strike="noStrike">
              <a:solidFill>
                <a:srgbClr val="ffffff"/>
              </a:solidFill>
              <a:latin typeface="Arial"/>
            </a:endParaRPr>
          </a:p>
        </p:txBody>
      </p:sp>
      <p:sp>
        <p:nvSpPr>
          <p:cNvPr id="266" name="TextBox 35"/>
          <p:cNvSpPr/>
          <p:nvPr/>
        </p:nvSpPr>
        <p:spPr>
          <a:xfrm>
            <a:off x="1867320" y="366552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1" lang="en-US" sz="1600" spc="-1" strike="noStrike">
              <a:solidFill>
                <a:srgbClr val="ffffff"/>
              </a:solidFill>
              <a:latin typeface="Arial"/>
            </a:endParaRPr>
          </a:p>
        </p:txBody>
      </p:sp>
      <p:sp>
        <p:nvSpPr>
          <p:cNvPr id="267" name="TextBox 36"/>
          <p:cNvSpPr/>
          <p:nvPr/>
        </p:nvSpPr>
        <p:spPr>
          <a:xfrm>
            <a:off x="1867320" y="3919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1" lang="en-US" sz="1600" spc="-1" strike="noStrike">
              <a:solidFill>
                <a:srgbClr val="ffffff"/>
              </a:solidFill>
              <a:latin typeface="Arial"/>
            </a:endParaRPr>
          </a:p>
        </p:txBody>
      </p:sp>
      <p:sp>
        <p:nvSpPr>
          <p:cNvPr id="268" name="TextBox 37"/>
          <p:cNvSpPr/>
          <p:nvPr/>
        </p:nvSpPr>
        <p:spPr>
          <a:xfrm>
            <a:off x="1865880" y="41832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a:t>
            </a:r>
            <a:endParaRPr b="1" lang="en-US" sz="1600" spc="-1" strike="noStrike">
              <a:solidFill>
                <a:srgbClr val="ffffff"/>
              </a:solidFill>
              <a:latin typeface="Arial"/>
            </a:endParaRPr>
          </a:p>
        </p:txBody>
      </p:sp>
      <p:sp>
        <p:nvSpPr>
          <p:cNvPr id="269" name="TextBox 38"/>
          <p:cNvSpPr/>
          <p:nvPr/>
        </p:nvSpPr>
        <p:spPr>
          <a:xfrm>
            <a:off x="1865880" y="4441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a:t>
            </a:r>
            <a:endParaRPr b="1" lang="en-US" sz="1600" spc="-1" strike="noStrike">
              <a:solidFill>
                <a:srgbClr val="ffffff"/>
              </a:solidFill>
              <a:latin typeface="Arial"/>
            </a:endParaRPr>
          </a:p>
        </p:txBody>
      </p:sp>
      <p:sp>
        <p:nvSpPr>
          <p:cNvPr id="270" name="TextBox 39"/>
          <p:cNvSpPr/>
          <p:nvPr/>
        </p:nvSpPr>
        <p:spPr>
          <a:xfrm>
            <a:off x="2037600" y="470520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1" name="TextBox 40"/>
          <p:cNvSpPr/>
          <p:nvPr/>
        </p:nvSpPr>
        <p:spPr>
          <a:xfrm>
            <a:off x="2190240" y="4905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2" name="TextBox 41"/>
          <p:cNvSpPr/>
          <p:nvPr/>
        </p:nvSpPr>
        <p:spPr>
          <a:xfrm>
            <a:off x="279828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1" lang="en-US" sz="1600" spc="-1" strike="noStrike">
              <a:solidFill>
                <a:srgbClr val="ffffff"/>
              </a:solidFill>
              <a:latin typeface="Arial"/>
            </a:endParaRPr>
          </a:p>
        </p:txBody>
      </p:sp>
      <p:sp>
        <p:nvSpPr>
          <p:cNvPr id="273" name="TextBox 42"/>
          <p:cNvSpPr/>
          <p:nvPr/>
        </p:nvSpPr>
        <p:spPr>
          <a:xfrm>
            <a:off x="341568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274" name="TextBox 43"/>
          <p:cNvSpPr/>
          <p:nvPr/>
        </p:nvSpPr>
        <p:spPr>
          <a:xfrm>
            <a:off x="402372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275" name="TextBox 44"/>
          <p:cNvSpPr/>
          <p:nvPr/>
        </p:nvSpPr>
        <p:spPr>
          <a:xfrm>
            <a:off x="4631760" y="49100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276" name="TextBox 45"/>
          <p:cNvSpPr/>
          <p:nvPr/>
        </p:nvSpPr>
        <p:spPr>
          <a:xfrm>
            <a:off x="5186160" y="49086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277" name="TextBox 46"/>
          <p:cNvSpPr/>
          <p:nvPr/>
        </p:nvSpPr>
        <p:spPr>
          <a:xfrm>
            <a:off x="5788800" y="49086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278" name="TextBox 47"/>
          <p:cNvSpPr/>
          <p:nvPr/>
        </p:nvSpPr>
        <p:spPr>
          <a:xfrm>
            <a:off x="640620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1" lang="en-US" sz="1600" spc="-1" strike="noStrike">
              <a:solidFill>
                <a:srgbClr val="ffffff"/>
              </a:solidFill>
              <a:latin typeface="Arial"/>
            </a:endParaRPr>
          </a:p>
        </p:txBody>
      </p:sp>
      <p:sp>
        <p:nvSpPr>
          <p:cNvPr id="279" name="TextBox 48"/>
          <p:cNvSpPr/>
          <p:nvPr/>
        </p:nvSpPr>
        <p:spPr>
          <a:xfrm>
            <a:off x="700884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1" lang="en-US" sz="1600" spc="-1" strike="noStrike">
              <a:solidFill>
                <a:srgbClr val="ffffff"/>
              </a:solidFill>
              <a:latin typeface="Arial"/>
            </a:endParaRPr>
          </a:p>
        </p:txBody>
      </p:sp>
      <p:sp>
        <p:nvSpPr>
          <p:cNvPr id="280" name="TextBox 49"/>
          <p:cNvSpPr/>
          <p:nvPr/>
        </p:nvSpPr>
        <p:spPr>
          <a:xfrm>
            <a:off x="761184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1" lang="en-US" sz="1600" spc="-1" strike="noStrike">
              <a:solidFill>
                <a:srgbClr val="ffffff"/>
              </a:solidFill>
              <a:latin typeface="Arial"/>
            </a:endParaRPr>
          </a:p>
        </p:txBody>
      </p:sp>
      <p:sp>
        <p:nvSpPr>
          <p:cNvPr id="281" name="TextBox 50"/>
          <p:cNvSpPr/>
          <p:nvPr/>
        </p:nvSpPr>
        <p:spPr>
          <a:xfrm>
            <a:off x="822960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282" name="TextBox 51"/>
          <p:cNvSpPr/>
          <p:nvPr/>
        </p:nvSpPr>
        <p:spPr>
          <a:xfrm rot="16200000">
            <a:off x="506520" y="3366360"/>
            <a:ext cx="1925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ability of PFS</a:t>
            </a:r>
            <a:endParaRPr b="1" lang="en-US" sz="1600" spc="-1" strike="noStrike">
              <a:solidFill>
                <a:srgbClr val="ffffff"/>
              </a:solidFill>
              <a:latin typeface="Arial"/>
            </a:endParaRPr>
          </a:p>
        </p:txBody>
      </p:sp>
      <p:sp>
        <p:nvSpPr>
          <p:cNvPr id="283" name="TextBox 52"/>
          <p:cNvSpPr/>
          <p:nvPr/>
        </p:nvSpPr>
        <p:spPr>
          <a:xfrm>
            <a:off x="4910040" y="2417760"/>
            <a:ext cx="10494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xitinib</a:t>
            </a:r>
            <a:br>
              <a:rPr sz="1600"/>
            </a:br>
            <a:r>
              <a:rPr b="0" lang="en-US" sz="1600" spc="-1" strike="noStrike">
                <a:solidFill>
                  <a:srgbClr val="ffffff"/>
                </a:solidFill>
                <a:latin typeface="Arial"/>
              </a:rPr>
              <a:t>Sorafenib</a:t>
            </a:r>
            <a:endParaRPr b="1" lang="en-US" sz="1600" spc="-1" strike="noStrike">
              <a:solidFill>
                <a:srgbClr val="ffffff"/>
              </a:solidFill>
              <a:latin typeface="Arial"/>
            </a:endParaRPr>
          </a:p>
        </p:txBody>
      </p:sp>
      <p:sp>
        <p:nvSpPr>
          <p:cNvPr id="284" name="TextBox 53"/>
          <p:cNvSpPr/>
          <p:nvPr/>
        </p:nvSpPr>
        <p:spPr>
          <a:xfrm>
            <a:off x="5847120" y="2220840"/>
            <a:ext cx="27028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FS, Mos (95% CI)</a:t>
            </a:r>
            <a:br>
              <a:rPr sz="1600"/>
            </a:br>
            <a:r>
              <a:rPr b="0" lang="en-US" sz="1600" spc="-1" strike="noStrike">
                <a:solidFill>
                  <a:srgbClr val="ffffff"/>
                </a:solidFill>
                <a:latin typeface="Arial"/>
              </a:rPr>
              <a:t>6.7 (6.3-8.6)</a:t>
            </a:r>
            <a:br>
              <a:rPr sz="1600"/>
            </a:br>
            <a:r>
              <a:rPr b="0" lang="en-US" sz="1600" spc="-1" strike="noStrike">
                <a:solidFill>
                  <a:srgbClr val="ffffff"/>
                </a:solidFill>
                <a:latin typeface="Arial"/>
              </a:rPr>
              <a:t>4.7 (4.6-5.6)</a:t>
            </a:r>
            <a:endParaRPr b="1" lang="en-US" sz="1600" spc="-1" strike="noStrike">
              <a:solidFill>
                <a:srgbClr val="ffffff"/>
              </a:solidFill>
              <a:latin typeface="Arial"/>
            </a:endParaRPr>
          </a:p>
        </p:txBody>
      </p:sp>
      <p:sp>
        <p:nvSpPr>
          <p:cNvPr id="285" name="TextBox 54"/>
          <p:cNvSpPr/>
          <p:nvPr/>
        </p:nvSpPr>
        <p:spPr>
          <a:xfrm>
            <a:off x="6531480" y="3103560"/>
            <a:ext cx="221976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ified HR: 0.665</a:t>
            </a:r>
            <a:br>
              <a:rPr sz="1600"/>
            </a:br>
            <a:r>
              <a:rPr b="0" lang="en-US" sz="1600" spc="-1" strike="noStrike">
                <a:solidFill>
                  <a:srgbClr val="ffffff"/>
                </a:solidFill>
                <a:latin typeface="Arial"/>
              </a:rPr>
              <a:t>(95% CI: 0.544-0.812; </a:t>
            </a:r>
            <a:br>
              <a:rPr sz="1600"/>
            </a:br>
            <a:r>
              <a:rPr b="0" i="1" lang="en-US" sz="1600" spc="-1" strike="noStrike">
                <a:solidFill>
                  <a:srgbClr val="ffffff"/>
                </a:solidFill>
                <a:latin typeface="Arial"/>
              </a:rPr>
              <a:t>P</a:t>
            </a:r>
            <a:r>
              <a:rPr b="0" lang="en-US" sz="1600" spc="-1" strike="noStrike">
                <a:solidFill>
                  <a:srgbClr val="ffffff"/>
                </a:solidFill>
                <a:latin typeface="Arial"/>
              </a:rPr>
              <a:t> &lt; .0001)</a:t>
            </a:r>
            <a:endParaRPr b="1" lang="en-US" sz="1600" spc="-1" strike="noStrike">
              <a:solidFill>
                <a:srgbClr val="ffffff"/>
              </a:solidFill>
              <a:latin typeface="Arial"/>
            </a:endParaRPr>
          </a:p>
        </p:txBody>
      </p:sp>
      <p:sp>
        <p:nvSpPr>
          <p:cNvPr id="286" name="TextBox 55"/>
          <p:cNvSpPr/>
          <p:nvPr/>
        </p:nvSpPr>
        <p:spPr>
          <a:xfrm>
            <a:off x="561600" y="5359320"/>
            <a:ext cx="14533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at Risk, n</a:t>
            </a:r>
            <a:br>
              <a:rPr sz="1600"/>
            </a:br>
            <a:r>
              <a:rPr b="0" lang="en-US" sz="1600" spc="-1" strike="noStrike">
                <a:solidFill>
                  <a:srgbClr val="ffffff"/>
                </a:solidFill>
                <a:latin typeface="Arial"/>
              </a:rPr>
              <a:t>Axitinib</a:t>
            </a:r>
            <a:br>
              <a:rPr sz="1600"/>
            </a:br>
            <a:r>
              <a:rPr b="0" lang="en-US" sz="1600" spc="-1" strike="noStrike">
                <a:solidFill>
                  <a:srgbClr val="ffffff"/>
                </a:solidFill>
                <a:latin typeface="Arial"/>
              </a:rPr>
              <a:t>Sorafenib</a:t>
            </a:r>
            <a:endParaRPr b="1" lang="en-US" sz="1600" spc="-1" strike="noStrike">
              <a:solidFill>
                <a:srgbClr val="ffffff"/>
              </a:solidFill>
              <a:latin typeface="Arial"/>
            </a:endParaRPr>
          </a:p>
        </p:txBody>
      </p:sp>
      <p:sp>
        <p:nvSpPr>
          <p:cNvPr id="287" name="TextBox 56"/>
          <p:cNvSpPr/>
          <p:nvPr/>
        </p:nvSpPr>
        <p:spPr>
          <a:xfrm>
            <a:off x="268740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6</a:t>
            </a:r>
            <a:br>
              <a:rPr sz="1600"/>
            </a:br>
            <a:r>
              <a:rPr b="0" lang="en-US" sz="1600" spc="-1" strike="noStrike">
                <a:solidFill>
                  <a:srgbClr val="ffffff"/>
                </a:solidFill>
                <a:latin typeface="Arial"/>
              </a:rPr>
              <a:t>224</a:t>
            </a:r>
            <a:endParaRPr b="1" lang="en-US" sz="1600" spc="-1" strike="noStrike">
              <a:solidFill>
                <a:srgbClr val="ffffff"/>
              </a:solidFill>
              <a:latin typeface="Arial"/>
            </a:endParaRPr>
          </a:p>
        </p:txBody>
      </p:sp>
      <p:sp>
        <p:nvSpPr>
          <p:cNvPr id="288" name="TextBox 57"/>
          <p:cNvSpPr/>
          <p:nvPr/>
        </p:nvSpPr>
        <p:spPr>
          <a:xfrm>
            <a:off x="206064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1</a:t>
            </a:r>
            <a:br>
              <a:rPr sz="1600"/>
            </a:br>
            <a:r>
              <a:rPr b="0" lang="en-US" sz="1600" spc="-1" strike="noStrike">
                <a:solidFill>
                  <a:srgbClr val="ffffff"/>
                </a:solidFill>
                <a:latin typeface="Arial"/>
              </a:rPr>
              <a:t>362</a:t>
            </a:r>
            <a:endParaRPr b="1" lang="en-US" sz="1600" spc="-1" strike="noStrike">
              <a:solidFill>
                <a:srgbClr val="ffffff"/>
              </a:solidFill>
              <a:latin typeface="Arial"/>
            </a:endParaRPr>
          </a:p>
        </p:txBody>
      </p:sp>
      <p:sp>
        <p:nvSpPr>
          <p:cNvPr id="289" name="TextBox 58"/>
          <p:cNvSpPr/>
          <p:nvPr/>
        </p:nvSpPr>
        <p:spPr>
          <a:xfrm>
            <a:off x="330516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2</a:t>
            </a:r>
            <a:br>
              <a:rPr sz="1600"/>
            </a:br>
            <a:r>
              <a:rPr b="0" lang="en-US" sz="1600" spc="-1" strike="noStrike">
                <a:solidFill>
                  <a:srgbClr val="ffffff"/>
                </a:solidFill>
                <a:latin typeface="Arial"/>
              </a:rPr>
              <a:t>157</a:t>
            </a:r>
            <a:endParaRPr b="1" lang="en-US" sz="1600" spc="-1" strike="noStrike">
              <a:solidFill>
                <a:srgbClr val="ffffff"/>
              </a:solidFill>
              <a:latin typeface="Arial"/>
            </a:endParaRPr>
          </a:p>
        </p:txBody>
      </p:sp>
      <p:sp>
        <p:nvSpPr>
          <p:cNvPr id="290" name="TextBox 59"/>
          <p:cNvSpPr/>
          <p:nvPr/>
        </p:nvSpPr>
        <p:spPr>
          <a:xfrm>
            <a:off x="390204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5</a:t>
            </a:r>
            <a:br>
              <a:rPr sz="1600"/>
            </a:br>
            <a:r>
              <a:rPr b="0" lang="en-US" sz="1600" spc="-1" strike="noStrike">
                <a:solidFill>
                  <a:srgbClr val="ffffff"/>
                </a:solidFill>
                <a:latin typeface="Arial"/>
              </a:rPr>
              <a:t>100</a:t>
            </a:r>
            <a:endParaRPr b="1" lang="en-US" sz="1600" spc="-1" strike="noStrike">
              <a:solidFill>
                <a:srgbClr val="ffffff"/>
              </a:solidFill>
              <a:latin typeface="Arial"/>
            </a:endParaRPr>
          </a:p>
        </p:txBody>
      </p:sp>
      <p:sp>
        <p:nvSpPr>
          <p:cNvPr id="291" name="TextBox 60"/>
          <p:cNvSpPr/>
          <p:nvPr/>
        </p:nvSpPr>
        <p:spPr>
          <a:xfrm>
            <a:off x="457812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6</a:t>
            </a:r>
            <a:br>
              <a:rPr sz="1600"/>
            </a:br>
            <a:r>
              <a:rPr b="0" lang="en-US" sz="1600" spc="-1" strike="noStrike">
                <a:solidFill>
                  <a:srgbClr val="ffffff"/>
                </a:solidFill>
                <a:latin typeface="Arial"/>
              </a:rPr>
              <a:t>51</a:t>
            </a:r>
            <a:endParaRPr b="1" lang="en-US" sz="1600" spc="-1" strike="noStrike">
              <a:solidFill>
                <a:srgbClr val="ffffff"/>
              </a:solidFill>
              <a:latin typeface="Arial"/>
            </a:endParaRPr>
          </a:p>
        </p:txBody>
      </p:sp>
      <p:sp>
        <p:nvSpPr>
          <p:cNvPr id="292" name="TextBox 61"/>
          <p:cNvSpPr/>
          <p:nvPr/>
        </p:nvSpPr>
        <p:spPr>
          <a:xfrm>
            <a:off x="519588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br>
              <a:rPr sz="1600"/>
            </a:br>
            <a:r>
              <a:rPr b="0" lang="en-US" sz="1600" spc="-1" strike="noStrike">
                <a:solidFill>
                  <a:srgbClr val="ffffff"/>
                </a:solidFill>
                <a:latin typeface="Arial"/>
              </a:rPr>
              <a:t>28</a:t>
            </a:r>
            <a:endParaRPr b="1" lang="en-US" sz="1600" spc="-1" strike="noStrike">
              <a:solidFill>
                <a:srgbClr val="ffffff"/>
              </a:solidFill>
              <a:latin typeface="Arial"/>
            </a:endParaRPr>
          </a:p>
        </p:txBody>
      </p:sp>
      <p:sp>
        <p:nvSpPr>
          <p:cNvPr id="293" name="TextBox 62"/>
          <p:cNvSpPr/>
          <p:nvPr/>
        </p:nvSpPr>
        <p:spPr>
          <a:xfrm>
            <a:off x="578160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br>
              <a:rPr sz="1600"/>
            </a:b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294" name="TextBox 63"/>
          <p:cNvSpPr/>
          <p:nvPr/>
        </p:nvSpPr>
        <p:spPr>
          <a:xfrm>
            <a:off x="641484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br>
              <a:rPr sz="1600"/>
            </a:b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295" name="TextBox 64"/>
          <p:cNvSpPr/>
          <p:nvPr/>
        </p:nvSpPr>
        <p:spPr>
          <a:xfrm>
            <a:off x="698976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br>
              <a:rPr sz="1600"/>
            </a:br>
            <a:r>
              <a:rPr b="0" lang="en-US" sz="1600" spc="-1" strike="noStrike">
                <a:solidFill>
                  <a:srgbClr val="ffffff"/>
                </a:solidFill>
                <a:latin typeface="Arial"/>
              </a:rPr>
              <a:t>3</a:t>
            </a:r>
            <a:endParaRPr b="1" lang="en-US" sz="1600" spc="-1" strike="noStrike">
              <a:solidFill>
                <a:srgbClr val="ffffff"/>
              </a:solidFill>
              <a:latin typeface="Arial"/>
            </a:endParaRPr>
          </a:p>
        </p:txBody>
      </p:sp>
      <p:sp>
        <p:nvSpPr>
          <p:cNvPr id="296" name="TextBox 65"/>
          <p:cNvSpPr/>
          <p:nvPr/>
        </p:nvSpPr>
        <p:spPr>
          <a:xfrm>
            <a:off x="7659000" y="558180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br>
              <a:rPr sz="1600"/>
            </a:br>
            <a:r>
              <a:rPr b="0" lang="en-US" sz="1600" spc="-1" strike="noStrike">
                <a:solidFill>
                  <a:srgbClr val="ffffff"/>
                </a:solidFill>
                <a:latin typeface="Arial"/>
              </a:rPr>
              <a:t>1</a:t>
            </a:r>
            <a:endParaRPr b="1" lang="en-US" sz="1600" spc="-1" strike="noStrike">
              <a:solidFill>
                <a:srgbClr val="ffffff"/>
              </a:solidFill>
              <a:latin typeface="Arial"/>
            </a:endParaRPr>
          </a:p>
        </p:txBody>
      </p:sp>
      <p:sp>
        <p:nvSpPr>
          <p:cNvPr id="297" name="TextBox 66"/>
          <p:cNvSpPr/>
          <p:nvPr/>
        </p:nvSpPr>
        <p:spPr>
          <a:xfrm>
            <a:off x="8281440" y="558180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98" name="Straight Connector 68"/>
          <p:cNvSpPr/>
          <p:nvPr/>
        </p:nvSpPr>
        <p:spPr>
          <a:xfrm>
            <a:off x="4710240" y="2585880"/>
            <a:ext cx="23652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Straight Connector 69"/>
          <p:cNvSpPr/>
          <p:nvPr/>
        </p:nvSpPr>
        <p:spPr>
          <a:xfrm>
            <a:off x="4710240" y="2805120"/>
            <a:ext cx="23796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00" name="Group 125"/>
          <p:cNvGrpSpPr/>
          <p:nvPr/>
        </p:nvGrpSpPr>
        <p:grpSpPr>
          <a:xfrm>
            <a:off x="2340000" y="2268360"/>
            <a:ext cx="5931000" cy="2370240"/>
            <a:chOff x="2340000" y="2268360"/>
            <a:chExt cx="5931000" cy="2370240"/>
          </a:xfrm>
        </p:grpSpPr>
        <p:sp>
          <p:nvSpPr>
            <p:cNvPr id="301" name="Freeform 70"/>
            <p:cNvSpPr/>
            <p:nvPr/>
          </p:nvSpPr>
          <p:spPr>
            <a:xfrm>
              <a:off x="2340000" y="2268360"/>
              <a:ext cx="5913000" cy="2331360"/>
            </a:xfrm>
            <a:custGeom>
              <a:avLst/>
              <a:gdLst>
                <a:gd name="textAreaLeft" fmla="*/ 0 w 5913000"/>
                <a:gd name="textAreaRight" fmla="*/ 5913360 w 5913000"/>
                <a:gd name="textAreaTop" fmla="*/ 0 h 2331360"/>
                <a:gd name="textAreaBottom" fmla="*/ 2331720 h 2331360"/>
              </a:gdLst>
              <a:ahLst/>
              <a:rect l="textAreaLeft" t="textAreaTop" r="textAreaRight" b="textAreaBottom"/>
              <a:pathLst>
                <a:path w="5911913" h="2331267">
                  <a:moveTo>
                    <a:pt x="0" y="0"/>
                  </a:moveTo>
                  <a:lnTo>
                    <a:pt x="158435" y="0"/>
                  </a:lnTo>
                  <a:lnTo>
                    <a:pt x="153909" y="27160"/>
                  </a:lnTo>
                  <a:lnTo>
                    <a:pt x="230863" y="27160"/>
                  </a:lnTo>
                  <a:lnTo>
                    <a:pt x="230863" y="45267"/>
                  </a:lnTo>
                  <a:lnTo>
                    <a:pt x="258024" y="45267"/>
                  </a:lnTo>
                  <a:lnTo>
                    <a:pt x="258024" y="58848"/>
                  </a:lnTo>
                  <a:lnTo>
                    <a:pt x="312344" y="54321"/>
                  </a:lnTo>
                  <a:lnTo>
                    <a:pt x="312344" y="72428"/>
                  </a:lnTo>
                  <a:lnTo>
                    <a:pt x="344031" y="76955"/>
                  </a:lnTo>
                  <a:lnTo>
                    <a:pt x="344031" y="99588"/>
                  </a:lnTo>
                  <a:lnTo>
                    <a:pt x="407406" y="99588"/>
                  </a:lnTo>
                  <a:lnTo>
                    <a:pt x="407406" y="172016"/>
                  </a:lnTo>
                  <a:lnTo>
                    <a:pt x="430039" y="172016"/>
                  </a:lnTo>
                  <a:lnTo>
                    <a:pt x="420986" y="321398"/>
                  </a:lnTo>
                  <a:lnTo>
                    <a:pt x="443620" y="321398"/>
                  </a:lnTo>
                  <a:lnTo>
                    <a:pt x="443620" y="371192"/>
                  </a:lnTo>
                  <a:lnTo>
                    <a:pt x="457200" y="371192"/>
                  </a:lnTo>
                  <a:lnTo>
                    <a:pt x="452673" y="466254"/>
                  </a:lnTo>
                  <a:lnTo>
                    <a:pt x="475307" y="466254"/>
                  </a:lnTo>
                  <a:lnTo>
                    <a:pt x="466253" y="534155"/>
                  </a:lnTo>
                  <a:lnTo>
                    <a:pt x="488887" y="534155"/>
                  </a:lnTo>
                  <a:lnTo>
                    <a:pt x="493414" y="574895"/>
                  </a:lnTo>
                  <a:lnTo>
                    <a:pt x="516047" y="574895"/>
                  </a:lnTo>
                  <a:lnTo>
                    <a:pt x="516047" y="606582"/>
                  </a:lnTo>
                  <a:lnTo>
                    <a:pt x="556788" y="606582"/>
                  </a:lnTo>
                  <a:lnTo>
                    <a:pt x="552261" y="629216"/>
                  </a:lnTo>
                  <a:lnTo>
                    <a:pt x="624689" y="629216"/>
                  </a:lnTo>
                  <a:lnTo>
                    <a:pt x="624689" y="638269"/>
                  </a:lnTo>
                  <a:lnTo>
                    <a:pt x="760491" y="638269"/>
                  </a:lnTo>
                  <a:lnTo>
                    <a:pt x="760491" y="660903"/>
                  </a:lnTo>
                  <a:lnTo>
                    <a:pt x="787651" y="660903"/>
                  </a:lnTo>
                  <a:lnTo>
                    <a:pt x="783125" y="688063"/>
                  </a:lnTo>
                  <a:lnTo>
                    <a:pt x="851026" y="688063"/>
                  </a:lnTo>
                  <a:lnTo>
                    <a:pt x="846499" y="878186"/>
                  </a:lnTo>
                  <a:lnTo>
                    <a:pt x="873659" y="878186"/>
                  </a:lnTo>
                  <a:lnTo>
                    <a:pt x="878186" y="991355"/>
                  </a:lnTo>
                  <a:lnTo>
                    <a:pt x="909873" y="986828"/>
                  </a:lnTo>
                  <a:lnTo>
                    <a:pt x="909873" y="1032095"/>
                  </a:lnTo>
                  <a:lnTo>
                    <a:pt x="946087" y="1032095"/>
                  </a:lnTo>
                  <a:lnTo>
                    <a:pt x="941560" y="1045675"/>
                  </a:lnTo>
                  <a:lnTo>
                    <a:pt x="1054729" y="1045675"/>
                  </a:lnTo>
                  <a:lnTo>
                    <a:pt x="1050202" y="1068309"/>
                  </a:lnTo>
                  <a:lnTo>
                    <a:pt x="1181477" y="1072836"/>
                  </a:lnTo>
                  <a:lnTo>
                    <a:pt x="1181477" y="1086416"/>
                  </a:lnTo>
                  <a:lnTo>
                    <a:pt x="1312752" y="1086416"/>
                  </a:lnTo>
                  <a:lnTo>
                    <a:pt x="1308226" y="1104523"/>
                  </a:lnTo>
                  <a:lnTo>
                    <a:pt x="1367073" y="1104523"/>
                  </a:lnTo>
                  <a:lnTo>
                    <a:pt x="1367073" y="1136210"/>
                  </a:lnTo>
                  <a:lnTo>
                    <a:pt x="1403287" y="1136210"/>
                  </a:lnTo>
                  <a:lnTo>
                    <a:pt x="1403287" y="1204111"/>
                  </a:lnTo>
                  <a:lnTo>
                    <a:pt x="1425921" y="1204111"/>
                  </a:lnTo>
                  <a:lnTo>
                    <a:pt x="1425921" y="1358020"/>
                  </a:lnTo>
                  <a:lnTo>
                    <a:pt x="1453081" y="1358020"/>
                  </a:lnTo>
                  <a:lnTo>
                    <a:pt x="1444028" y="1389707"/>
                  </a:lnTo>
                  <a:lnTo>
                    <a:pt x="1520982" y="1389707"/>
                  </a:lnTo>
                  <a:lnTo>
                    <a:pt x="1520982" y="1412341"/>
                  </a:lnTo>
                  <a:lnTo>
                    <a:pt x="1593410" y="1412341"/>
                  </a:lnTo>
                  <a:lnTo>
                    <a:pt x="1593410" y="1434974"/>
                  </a:lnTo>
                  <a:lnTo>
                    <a:pt x="1656784" y="1430448"/>
                  </a:lnTo>
                  <a:lnTo>
                    <a:pt x="1656784" y="1457608"/>
                  </a:lnTo>
                  <a:lnTo>
                    <a:pt x="1896701" y="1453081"/>
                  </a:lnTo>
                  <a:lnTo>
                    <a:pt x="1901228" y="1489295"/>
                  </a:lnTo>
                  <a:lnTo>
                    <a:pt x="1955548" y="1484768"/>
                  </a:lnTo>
                  <a:lnTo>
                    <a:pt x="1955548" y="1661311"/>
                  </a:lnTo>
                  <a:lnTo>
                    <a:pt x="2009869" y="1661311"/>
                  </a:lnTo>
                  <a:lnTo>
                    <a:pt x="2009869" y="1697525"/>
                  </a:lnTo>
                  <a:lnTo>
                    <a:pt x="2059663" y="1702052"/>
                  </a:lnTo>
                  <a:lnTo>
                    <a:pt x="2059663" y="1756372"/>
                  </a:lnTo>
                  <a:lnTo>
                    <a:pt x="2186412" y="1756372"/>
                  </a:lnTo>
                  <a:lnTo>
                    <a:pt x="2190938" y="1792586"/>
                  </a:lnTo>
                  <a:lnTo>
                    <a:pt x="2485176" y="1792586"/>
                  </a:lnTo>
                  <a:lnTo>
                    <a:pt x="2485176" y="1828800"/>
                  </a:lnTo>
                  <a:lnTo>
                    <a:pt x="2530443" y="1828800"/>
                  </a:lnTo>
                  <a:lnTo>
                    <a:pt x="2530443" y="1914808"/>
                  </a:lnTo>
                  <a:lnTo>
                    <a:pt x="2648138" y="1914808"/>
                  </a:lnTo>
                  <a:lnTo>
                    <a:pt x="2648138" y="1946495"/>
                  </a:lnTo>
                  <a:lnTo>
                    <a:pt x="2729620" y="1946495"/>
                  </a:lnTo>
                  <a:lnTo>
                    <a:pt x="2729620" y="1991762"/>
                  </a:lnTo>
                  <a:lnTo>
                    <a:pt x="3064598" y="1991762"/>
                  </a:lnTo>
                  <a:lnTo>
                    <a:pt x="3064598" y="2027976"/>
                  </a:lnTo>
                  <a:lnTo>
                    <a:pt x="3114392" y="2027976"/>
                  </a:lnTo>
                  <a:lnTo>
                    <a:pt x="3114392" y="2055137"/>
                  </a:lnTo>
                  <a:lnTo>
                    <a:pt x="3671180" y="2050610"/>
                  </a:lnTo>
                  <a:lnTo>
                    <a:pt x="3675707" y="2154725"/>
                  </a:lnTo>
                  <a:lnTo>
                    <a:pt x="3915624" y="2154725"/>
                  </a:lnTo>
                  <a:lnTo>
                    <a:pt x="3920150" y="2213572"/>
                  </a:lnTo>
                  <a:lnTo>
                    <a:pt x="4784756" y="2204519"/>
                  </a:lnTo>
                  <a:lnTo>
                    <a:pt x="4793810" y="2258840"/>
                  </a:lnTo>
                  <a:lnTo>
                    <a:pt x="4802863" y="2254313"/>
                  </a:lnTo>
                  <a:lnTo>
                    <a:pt x="4802863" y="2331267"/>
                  </a:lnTo>
                  <a:lnTo>
                    <a:pt x="5911913" y="2326741"/>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Oval 71"/>
            <p:cNvSpPr/>
            <p:nvPr/>
          </p:nvSpPr>
          <p:spPr>
            <a:xfrm>
              <a:off x="8194320" y="4549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Oval 72"/>
            <p:cNvSpPr/>
            <p:nvPr/>
          </p:nvSpPr>
          <p:spPr>
            <a:xfrm>
              <a:off x="7635960" y="45619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Oval 73"/>
            <p:cNvSpPr/>
            <p:nvPr/>
          </p:nvSpPr>
          <p:spPr>
            <a:xfrm>
              <a:off x="7222320" y="4555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Oval 74"/>
            <p:cNvSpPr/>
            <p:nvPr/>
          </p:nvSpPr>
          <p:spPr>
            <a:xfrm>
              <a:off x="7140600" y="4555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Oval 75"/>
            <p:cNvSpPr/>
            <p:nvPr/>
          </p:nvSpPr>
          <p:spPr>
            <a:xfrm>
              <a:off x="6484320" y="44380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Oval 76"/>
            <p:cNvSpPr/>
            <p:nvPr/>
          </p:nvSpPr>
          <p:spPr>
            <a:xfrm>
              <a:off x="5986080" y="4374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Oval 77"/>
            <p:cNvSpPr/>
            <p:nvPr/>
          </p:nvSpPr>
          <p:spPr>
            <a:xfrm>
              <a:off x="5918400" y="42840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Oval 78"/>
            <p:cNvSpPr/>
            <p:nvPr/>
          </p:nvSpPr>
          <p:spPr>
            <a:xfrm>
              <a:off x="3725280" y="3522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Oval 79"/>
            <p:cNvSpPr/>
            <p:nvPr/>
          </p:nvSpPr>
          <p:spPr>
            <a:xfrm>
              <a:off x="3814200" y="36381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1" name="Oval 80"/>
            <p:cNvSpPr/>
            <p:nvPr/>
          </p:nvSpPr>
          <p:spPr>
            <a:xfrm>
              <a:off x="4057200" y="36867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Oval 81"/>
            <p:cNvSpPr/>
            <p:nvPr/>
          </p:nvSpPr>
          <p:spPr>
            <a:xfrm>
              <a:off x="4146480" y="3689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3" name="Oval 82"/>
            <p:cNvSpPr/>
            <p:nvPr/>
          </p:nvSpPr>
          <p:spPr>
            <a:xfrm>
              <a:off x="4294440" y="38919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4" name="Oval 83"/>
            <p:cNvSpPr/>
            <p:nvPr/>
          </p:nvSpPr>
          <p:spPr>
            <a:xfrm>
              <a:off x="4360680" y="39718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Oval 84"/>
            <p:cNvSpPr/>
            <p:nvPr/>
          </p:nvSpPr>
          <p:spPr>
            <a:xfrm>
              <a:off x="4408920" y="39794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6" name="Oval 85"/>
            <p:cNvSpPr/>
            <p:nvPr/>
          </p:nvSpPr>
          <p:spPr>
            <a:xfrm>
              <a:off x="4792320" y="40230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Oval 86"/>
            <p:cNvSpPr/>
            <p:nvPr/>
          </p:nvSpPr>
          <p:spPr>
            <a:xfrm>
              <a:off x="4881240" y="41392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8" name="Oval 87"/>
            <p:cNvSpPr/>
            <p:nvPr/>
          </p:nvSpPr>
          <p:spPr>
            <a:xfrm>
              <a:off x="4934160" y="41515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9" name="Oval 88"/>
            <p:cNvSpPr/>
            <p:nvPr/>
          </p:nvSpPr>
          <p:spPr>
            <a:xfrm>
              <a:off x="5448960" y="42811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Oval 89"/>
            <p:cNvSpPr/>
            <p:nvPr/>
          </p:nvSpPr>
          <p:spPr>
            <a:xfrm>
              <a:off x="5614920" y="4288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Oval 90"/>
            <p:cNvSpPr/>
            <p:nvPr/>
          </p:nvSpPr>
          <p:spPr>
            <a:xfrm>
              <a:off x="3711600" y="3436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Oval 91"/>
            <p:cNvSpPr/>
            <p:nvPr/>
          </p:nvSpPr>
          <p:spPr>
            <a:xfrm>
              <a:off x="3929040" y="36759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Oval 92"/>
            <p:cNvSpPr/>
            <p:nvPr/>
          </p:nvSpPr>
          <p:spPr>
            <a:xfrm>
              <a:off x="4978080" y="41724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Oval 93"/>
            <p:cNvSpPr/>
            <p:nvPr/>
          </p:nvSpPr>
          <p:spPr>
            <a:xfrm>
              <a:off x="5727960" y="4288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Oval 94"/>
            <p:cNvSpPr/>
            <p:nvPr/>
          </p:nvSpPr>
          <p:spPr>
            <a:xfrm>
              <a:off x="3990960" y="3688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6" name="Oval 95"/>
            <p:cNvSpPr/>
            <p:nvPr/>
          </p:nvSpPr>
          <p:spPr>
            <a:xfrm>
              <a:off x="4233960" y="37184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7" name="Oval 96"/>
            <p:cNvSpPr/>
            <p:nvPr/>
          </p:nvSpPr>
          <p:spPr>
            <a:xfrm>
              <a:off x="4259520" y="3802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Oval 97"/>
            <p:cNvSpPr/>
            <p:nvPr/>
          </p:nvSpPr>
          <p:spPr>
            <a:xfrm>
              <a:off x="4326120" y="3914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Oval 98"/>
            <p:cNvSpPr/>
            <p:nvPr/>
          </p:nvSpPr>
          <p:spPr>
            <a:xfrm>
              <a:off x="4545720" y="40215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Oval 99"/>
            <p:cNvSpPr/>
            <p:nvPr/>
          </p:nvSpPr>
          <p:spPr>
            <a:xfrm>
              <a:off x="4817880" y="4069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Oval 100"/>
            <p:cNvSpPr/>
            <p:nvPr/>
          </p:nvSpPr>
          <p:spPr>
            <a:xfrm>
              <a:off x="4833000" y="4131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Oval 101"/>
            <p:cNvSpPr/>
            <p:nvPr/>
          </p:nvSpPr>
          <p:spPr>
            <a:xfrm>
              <a:off x="5384160" y="42523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Oval 102"/>
            <p:cNvSpPr/>
            <p:nvPr/>
          </p:nvSpPr>
          <p:spPr>
            <a:xfrm>
              <a:off x="5409720" y="42825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4" name="Oval 103"/>
            <p:cNvSpPr/>
            <p:nvPr/>
          </p:nvSpPr>
          <p:spPr>
            <a:xfrm>
              <a:off x="5516640" y="42811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Oval 104"/>
            <p:cNvSpPr/>
            <p:nvPr/>
          </p:nvSpPr>
          <p:spPr>
            <a:xfrm>
              <a:off x="2809080" y="28339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Oval 105"/>
            <p:cNvSpPr/>
            <p:nvPr/>
          </p:nvSpPr>
          <p:spPr>
            <a:xfrm>
              <a:off x="2966040" y="28684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Oval 106"/>
            <p:cNvSpPr/>
            <p:nvPr/>
          </p:nvSpPr>
          <p:spPr>
            <a:xfrm>
              <a:off x="3068640" y="28850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Oval 107"/>
            <p:cNvSpPr/>
            <p:nvPr/>
          </p:nvSpPr>
          <p:spPr>
            <a:xfrm>
              <a:off x="3080880" y="29106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Oval 108"/>
            <p:cNvSpPr/>
            <p:nvPr/>
          </p:nvSpPr>
          <p:spPr>
            <a:xfrm>
              <a:off x="3138120" y="3004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Oval 109"/>
            <p:cNvSpPr/>
            <p:nvPr/>
          </p:nvSpPr>
          <p:spPr>
            <a:xfrm>
              <a:off x="3154680" y="3088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Oval 110"/>
            <p:cNvSpPr/>
            <p:nvPr/>
          </p:nvSpPr>
          <p:spPr>
            <a:xfrm>
              <a:off x="3171240" y="31734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Oval 111"/>
            <p:cNvSpPr/>
            <p:nvPr/>
          </p:nvSpPr>
          <p:spPr>
            <a:xfrm>
              <a:off x="3197160" y="3230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3" name="Oval 112"/>
            <p:cNvSpPr/>
            <p:nvPr/>
          </p:nvSpPr>
          <p:spPr>
            <a:xfrm>
              <a:off x="3227400" y="32698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Oval 113"/>
            <p:cNvSpPr/>
            <p:nvPr/>
          </p:nvSpPr>
          <p:spPr>
            <a:xfrm>
              <a:off x="3293640" y="32727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Oval 114"/>
            <p:cNvSpPr/>
            <p:nvPr/>
          </p:nvSpPr>
          <p:spPr>
            <a:xfrm>
              <a:off x="3455280" y="3307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6" name="Oval 115"/>
            <p:cNvSpPr/>
            <p:nvPr/>
          </p:nvSpPr>
          <p:spPr>
            <a:xfrm>
              <a:off x="3486600" y="3315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7" name="Oval 116"/>
            <p:cNvSpPr/>
            <p:nvPr/>
          </p:nvSpPr>
          <p:spPr>
            <a:xfrm>
              <a:off x="3664800" y="3340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8" name="Oval 117"/>
            <p:cNvSpPr/>
            <p:nvPr/>
          </p:nvSpPr>
          <p:spPr>
            <a:xfrm>
              <a:off x="3704040" y="33753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Oval 118"/>
            <p:cNvSpPr/>
            <p:nvPr/>
          </p:nvSpPr>
          <p:spPr>
            <a:xfrm>
              <a:off x="2789640" y="27964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Oval 119"/>
            <p:cNvSpPr/>
            <p:nvPr/>
          </p:nvSpPr>
          <p:spPr>
            <a:xfrm>
              <a:off x="2774520" y="27403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Oval 120"/>
            <p:cNvSpPr/>
            <p:nvPr/>
          </p:nvSpPr>
          <p:spPr>
            <a:xfrm>
              <a:off x="2768400" y="2707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Oval 121"/>
            <p:cNvSpPr/>
            <p:nvPr/>
          </p:nvSpPr>
          <p:spPr>
            <a:xfrm>
              <a:off x="2739600" y="2601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Oval 122"/>
            <p:cNvSpPr/>
            <p:nvPr/>
          </p:nvSpPr>
          <p:spPr>
            <a:xfrm>
              <a:off x="2747160" y="2532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4" name="Oval 123"/>
            <p:cNvSpPr/>
            <p:nvPr/>
          </p:nvSpPr>
          <p:spPr>
            <a:xfrm>
              <a:off x="2714040" y="23950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5" name="Oval 124"/>
            <p:cNvSpPr/>
            <p:nvPr/>
          </p:nvSpPr>
          <p:spPr>
            <a:xfrm>
              <a:off x="2671920" y="23256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356" name="Group 188"/>
          <p:cNvGrpSpPr/>
          <p:nvPr/>
        </p:nvGrpSpPr>
        <p:grpSpPr>
          <a:xfrm>
            <a:off x="2333520" y="2238480"/>
            <a:ext cx="6023160" cy="2384280"/>
            <a:chOff x="2333520" y="2238480"/>
            <a:chExt cx="6023160" cy="2384280"/>
          </a:xfrm>
        </p:grpSpPr>
        <p:grpSp>
          <p:nvGrpSpPr>
            <p:cNvPr id="357" name="Group 182"/>
            <p:cNvGrpSpPr/>
            <p:nvPr/>
          </p:nvGrpSpPr>
          <p:grpSpPr>
            <a:xfrm>
              <a:off x="2343960" y="2265480"/>
              <a:ext cx="6012720" cy="2357280"/>
              <a:chOff x="2343960" y="2265480"/>
              <a:chExt cx="6012720" cy="2357280"/>
            </a:xfrm>
          </p:grpSpPr>
          <p:sp>
            <p:nvSpPr>
              <p:cNvPr id="358" name="Freeform 126"/>
              <p:cNvSpPr/>
              <p:nvPr/>
            </p:nvSpPr>
            <p:spPr>
              <a:xfrm>
                <a:off x="2343960" y="2271600"/>
                <a:ext cx="5981040" cy="2317680"/>
              </a:xfrm>
              <a:custGeom>
                <a:avLst/>
                <a:gdLst/>
                <a:ahLst/>
                <a:rect l="l" t="t" r="r" b="b"/>
                <a:pathLst>
                  <a:path w="5979813" h="2317687">
                    <a:moveTo>
                      <a:pt x="0" y="0"/>
                    </a:moveTo>
                    <a:lnTo>
                      <a:pt x="176542" y="0"/>
                    </a:lnTo>
                    <a:lnTo>
                      <a:pt x="181069" y="22633"/>
                    </a:lnTo>
                    <a:lnTo>
                      <a:pt x="325924" y="22633"/>
                    </a:lnTo>
                    <a:lnTo>
                      <a:pt x="325924" y="40740"/>
                    </a:lnTo>
                    <a:lnTo>
                      <a:pt x="393825" y="45267"/>
                    </a:lnTo>
                    <a:lnTo>
                      <a:pt x="393825" y="104115"/>
                    </a:lnTo>
                    <a:lnTo>
                      <a:pt x="420986" y="104115"/>
                    </a:lnTo>
                    <a:lnTo>
                      <a:pt x="420986" y="339505"/>
                    </a:lnTo>
                    <a:lnTo>
                      <a:pt x="457200" y="339505"/>
                    </a:lnTo>
                    <a:lnTo>
                      <a:pt x="457200" y="448146"/>
                    </a:lnTo>
                    <a:lnTo>
                      <a:pt x="488887" y="448146"/>
                    </a:lnTo>
                    <a:lnTo>
                      <a:pt x="488887" y="493414"/>
                    </a:lnTo>
                    <a:lnTo>
                      <a:pt x="516047" y="493414"/>
                    </a:lnTo>
                    <a:lnTo>
                      <a:pt x="511520" y="534154"/>
                    </a:lnTo>
                    <a:lnTo>
                      <a:pt x="552261" y="534154"/>
                    </a:lnTo>
                    <a:lnTo>
                      <a:pt x="556788" y="561315"/>
                    </a:lnTo>
                    <a:lnTo>
                      <a:pt x="633742" y="561315"/>
                    </a:lnTo>
                    <a:lnTo>
                      <a:pt x="633742" y="579422"/>
                    </a:lnTo>
                    <a:lnTo>
                      <a:pt x="679009" y="579422"/>
                    </a:lnTo>
                    <a:lnTo>
                      <a:pt x="679009" y="593002"/>
                    </a:lnTo>
                    <a:lnTo>
                      <a:pt x="733330" y="593002"/>
                    </a:lnTo>
                    <a:lnTo>
                      <a:pt x="733330" y="602055"/>
                    </a:lnTo>
                    <a:lnTo>
                      <a:pt x="796704" y="597529"/>
                    </a:lnTo>
                    <a:lnTo>
                      <a:pt x="792178" y="629216"/>
                    </a:lnTo>
                    <a:lnTo>
                      <a:pt x="832918" y="638269"/>
                    </a:lnTo>
                    <a:lnTo>
                      <a:pt x="837445" y="692590"/>
                    </a:lnTo>
                    <a:lnTo>
                      <a:pt x="851025" y="692590"/>
                    </a:lnTo>
                    <a:lnTo>
                      <a:pt x="855552" y="783125"/>
                    </a:lnTo>
                    <a:lnTo>
                      <a:pt x="891766" y="783125"/>
                    </a:lnTo>
                    <a:lnTo>
                      <a:pt x="891766" y="805758"/>
                    </a:lnTo>
                    <a:lnTo>
                      <a:pt x="964194" y="805758"/>
                    </a:lnTo>
                    <a:lnTo>
                      <a:pt x="964194" y="805758"/>
                    </a:lnTo>
                    <a:lnTo>
                      <a:pt x="968720" y="841972"/>
                    </a:lnTo>
                    <a:lnTo>
                      <a:pt x="1095469" y="837445"/>
                    </a:lnTo>
                    <a:lnTo>
                      <a:pt x="1095469" y="869132"/>
                    </a:lnTo>
                    <a:lnTo>
                      <a:pt x="1317279" y="869132"/>
                    </a:lnTo>
                    <a:lnTo>
                      <a:pt x="1317279" y="891766"/>
                    </a:lnTo>
                    <a:lnTo>
                      <a:pt x="1385180" y="896293"/>
                    </a:lnTo>
                    <a:lnTo>
                      <a:pt x="1380653" y="941560"/>
                    </a:lnTo>
                    <a:lnTo>
                      <a:pt x="1416867" y="946087"/>
                    </a:lnTo>
                    <a:lnTo>
                      <a:pt x="1412340" y="1027568"/>
                    </a:lnTo>
                    <a:lnTo>
                      <a:pt x="1457607" y="1032095"/>
                    </a:lnTo>
                    <a:lnTo>
                      <a:pt x="1457607" y="1099996"/>
                    </a:lnTo>
                    <a:lnTo>
                      <a:pt x="1892174" y="1095469"/>
                    </a:lnTo>
                    <a:lnTo>
                      <a:pt x="1887647" y="1136210"/>
                    </a:lnTo>
                    <a:lnTo>
                      <a:pt x="1932914" y="1136210"/>
                    </a:lnTo>
                    <a:lnTo>
                      <a:pt x="1928388" y="1172424"/>
                    </a:lnTo>
                    <a:lnTo>
                      <a:pt x="1973655" y="1172424"/>
                    </a:lnTo>
                    <a:lnTo>
                      <a:pt x="1973655" y="1231271"/>
                    </a:lnTo>
                    <a:lnTo>
                      <a:pt x="1996289" y="1231271"/>
                    </a:lnTo>
                    <a:lnTo>
                      <a:pt x="1996289" y="1272012"/>
                    </a:lnTo>
                    <a:lnTo>
                      <a:pt x="2050609" y="1272012"/>
                    </a:lnTo>
                    <a:lnTo>
                      <a:pt x="2055136" y="1317279"/>
                    </a:lnTo>
                    <a:lnTo>
                      <a:pt x="2525916" y="1321806"/>
                    </a:lnTo>
                    <a:lnTo>
                      <a:pt x="2530443" y="1444028"/>
                    </a:lnTo>
                    <a:lnTo>
                      <a:pt x="2611924" y="1444028"/>
                    </a:lnTo>
                    <a:lnTo>
                      <a:pt x="2611924" y="1471188"/>
                    </a:lnTo>
                    <a:lnTo>
                      <a:pt x="2842788" y="1471188"/>
                    </a:lnTo>
                    <a:lnTo>
                      <a:pt x="2847314" y="1498348"/>
                    </a:lnTo>
                    <a:lnTo>
                      <a:pt x="3037437" y="1498348"/>
                    </a:lnTo>
                    <a:lnTo>
                      <a:pt x="3037437" y="1520982"/>
                    </a:lnTo>
                    <a:lnTo>
                      <a:pt x="3078178" y="1520982"/>
                    </a:lnTo>
                    <a:lnTo>
                      <a:pt x="3082704" y="1575303"/>
                    </a:lnTo>
                    <a:lnTo>
                      <a:pt x="3114392" y="1575303"/>
                    </a:lnTo>
                    <a:lnTo>
                      <a:pt x="3109865" y="1597936"/>
                    </a:lnTo>
                    <a:lnTo>
                      <a:pt x="3177766" y="1597936"/>
                    </a:lnTo>
                    <a:lnTo>
                      <a:pt x="3177766" y="1620570"/>
                    </a:lnTo>
                    <a:lnTo>
                      <a:pt x="3227560" y="1620570"/>
                    </a:lnTo>
                    <a:lnTo>
                      <a:pt x="3227560" y="1643204"/>
                    </a:lnTo>
                    <a:lnTo>
                      <a:pt x="3322621" y="1643204"/>
                    </a:lnTo>
                    <a:lnTo>
                      <a:pt x="3322621" y="1661311"/>
                    </a:lnTo>
                    <a:lnTo>
                      <a:pt x="3372415" y="1661311"/>
                    </a:lnTo>
                    <a:lnTo>
                      <a:pt x="3372415" y="1688471"/>
                    </a:lnTo>
                    <a:lnTo>
                      <a:pt x="3625912" y="1688471"/>
                    </a:lnTo>
                    <a:lnTo>
                      <a:pt x="3625912" y="1711105"/>
                    </a:lnTo>
                    <a:lnTo>
                      <a:pt x="3662126" y="1711105"/>
                    </a:lnTo>
                    <a:lnTo>
                      <a:pt x="3662126" y="1774479"/>
                    </a:lnTo>
                    <a:lnTo>
                      <a:pt x="3698340" y="1774479"/>
                    </a:lnTo>
                    <a:lnTo>
                      <a:pt x="3698340" y="1819746"/>
                    </a:lnTo>
                    <a:lnTo>
                      <a:pt x="4178174" y="1815220"/>
                    </a:lnTo>
                    <a:lnTo>
                      <a:pt x="4178174" y="1855960"/>
                    </a:lnTo>
                    <a:lnTo>
                      <a:pt x="4209861" y="1851433"/>
                    </a:lnTo>
                    <a:lnTo>
                      <a:pt x="4218914" y="1892174"/>
                    </a:lnTo>
                    <a:lnTo>
                      <a:pt x="4273235" y="1892174"/>
                    </a:lnTo>
                    <a:lnTo>
                      <a:pt x="4277762" y="1910281"/>
                    </a:lnTo>
                    <a:lnTo>
                      <a:pt x="4648954" y="1910281"/>
                    </a:lnTo>
                    <a:lnTo>
                      <a:pt x="4644427" y="1951022"/>
                    </a:lnTo>
                    <a:lnTo>
                      <a:pt x="4725908" y="1955548"/>
                    </a:lnTo>
                    <a:lnTo>
                      <a:pt x="4725908" y="2000816"/>
                    </a:lnTo>
                    <a:lnTo>
                      <a:pt x="4793809" y="2000816"/>
                    </a:lnTo>
                    <a:lnTo>
                      <a:pt x="4793809" y="2050610"/>
                    </a:lnTo>
                    <a:lnTo>
                      <a:pt x="5391338" y="2041556"/>
                    </a:lnTo>
                    <a:lnTo>
                      <a:pt x="5395865" y="2317687"/>
                    </a:lnTo>
                    <a:lnTo>
                      <a:pt x="5979813" y="2317687"/>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9" name="Oval 127"/>
              <p:cNvSpPr/>
              <p:nvPr/>
            </p:nvSpPr>
            <p:spPr>
              <a:xfrm>
                <a:off x="4236480" y="338472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0" name="Oval 128"/>
              <p:cNvSpPr/>
              <p:nvPr/>
            </p:nvSpPr>
            <p:spPr>
              <a:xfrm>
                <a:off x="4303080" y="347832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1" name="Oval 129"/>
              <p:cNvSpPr/>
              <p:nvPr/>
            </p:nvSpPr>
            <p:spPr>
              <a:xfrm>
                <a:off x="4827240" y="35672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2" name="Oval 130"/>
              <p:cNvSpPr/>
              <p:nvPr/>
            </p:nvSpPr>
            <p:spPr>
              <a:xfrm>
                <a:off x="4897080" y="36655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3" name="Oval 131"/>
              <p:cNvSpPr/>
              <p:nvPr/>
            </p:nvSpPr>
            <p:spPr>
              <a:xfrm>
                <a:off x="4990680" y="3714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Oval 132"/>
              <p:cNvSpPr/>
              <p:nvPr/>
            </p:nvSpPr>
            <p:spPr>
              <a:xfrm>
                <a:off x="5959080" y="39434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5" name="Oval 133"/>
              <p:cNvSpPr/>
              <p:nvPr/>
            </p:nvSpPr>
            <p:spPr>
              <a:xfrm>
                <a:off x="5984640" y="39960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Oval 134"/>
              <p:cNvSpPr/>
              <p:nvPr/>
            </p:nvSpPr>
            <p:spPr>
              <a:xfrm>
                <a:off x="5995800" y="401328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7" name="Oval 135"/>
              <p:cNvSpPr/>
              <p:nvPr/>
            </p:nvSpPr>
            <p:spPr>
              <a:xfrm>
                <a:off x="6588000" y="41292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Oval 136"/>
              <p:cNvSpPr/>
              <p:nvPr/>
            </p:nvSpPr>
            <p:spPr>
              <a:xfrm>
                <a:off x="4263480" y="3444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9" name="Oval 137"/>
              <p:cNvSpPr/>
              <p:nvPr/>
            </p:nvSpPr>
            <p:spPr>
              <a:xfrm>
                <a:off x="7085160" y="42228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Oval 138"/>
              <p:cNvSpPr/>
              <p:nvPr/>
            </p:nvSpPr>
            <p:spPr>
              <a:xfrm>
                <a:off x="4353840" y="35193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1" name="Oval 139"/>
              <p:cNvSpPr/>
              <p:nvPr/>
            </p:nvSpPr>
            <p:spPr>
              <a:xfrm>
                <a:off x="4498560" y="3554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Oval 140"/>
              <p:cNvSpPr/>
              <p:nvPr/>
            </p:nvSpPr>
            <p:spPr>
              <a:xfrm>
                <a:off x="4830480" y="367020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Oval 141"/>
              <p:cNvSpPr/>
              <p:nvPr/>
            </p:nvSpPr>
            <p:spPr>
              <a:xfrm>
                <a:off x="5341680" y="373716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Oval 142"/>
              <p:cNvSpPr/>
              <p:nvPr/>
            </p:nvSpPr>
            <p:spPr>
              <a:xfrm>
                <a:off x="5398920" y="38084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5" name="Oval 143"/>
              <p:cNvSpPr/>
              <p:nvPr/>
            </p:nvSpPr>
            <p:spPr>
              <a:xfrm>
                <a:off x="5913360" y="39020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Oval 144"/>
              <p:cNvSpPr/>
              <p:nvPr/>
            </p:nvSpPr>
            <p:spPr>
              <a:xfrm>
                <a:off x="6038640" y="4049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Oval 145"/>
              <p:cNvSpPr/>
              <p:nvPr/>
            </p:nvSpPr>
            <p:spPr>
              <a:xfrm>
                <a:off x="7015320" y="418788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8" name="Oval 146"/>
              <p:cNvSpPr/>
              <p:nvPr/>
            </p:nvSpPr>
            <p:spPr>
              <a:xfrm>
                <a:off x="7086600" y="427680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Oval 147"/>
              <p:cNvSpPr/>
              <p:nvPr/>
            </p:nvSpPr>
            <p:spPr>
              <a:xfrm>
                <a:off x="7577280" y="42703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0" name="Oval 148"/>
              <p:cNvSpPr/>
              <p:nvPr/>
            </p:nvSpPr>
            <p:spPr>
              <a:xfrm>
                <a:off x="4384080" y="35672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1" name="Oval 149"/>
              <p:cNvSpPr/>
              <p:nvPr/>
            </p:nvSpPr>
            <p:spPr>
              <a:xfrm>
                <a:off x="4673160" y="35514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2" name="Oval 150"/>
              <p:cNvSpPr/>
              <p:nvPr/>
            </p:nvSpPr>
            <p:spPr>
              <a:xfrm>
                <a:off x="4924080" y="37083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Oval 151"/>
              <p:cNvSpPr/>
              <p:nvPr/>
            </p:nvSpPr>
            <p:spPr>
              <a:xfrm>
                <a:off x="5352840" y="375624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4" name="Oval 152"/>
              <p:cNvSpPr/>
              <p:nvPr/>
            </p:nvSpPr>
            <p:spPr>
              <a:xfrm>
                <a:off x="5482800" y="384516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5" name="Oval 153"/>
              <p:cNvSpPr/>
              <p:nvPr/>
            </p:nvSpPr>
            <p:spPr>
              <a:xfrm>
                <a:off x="5540040" y="38577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Oval 154"/>
              <p:cNvSpPr/>
              <p:nvPr/>
            </p:nvSpPr>
            <p:spPr>
              <a:xfrm>
                <a:off x="6522840" y="41277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Oval 155"/>
              <p:cNvSpPr/>
              <p:nvPr/>
            </p:nvSpPr>
            <p:spPr>
              <a:xfrm>
                <a:off x="7226280" y="42800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8" name="Oval 156"/>
              <p:cNvSpPr/>
              <p:nvPr/>
            </p:nvSpPr>
            <p:spPr>
              <a:xfrm>
                <a:off x="7361280" y="42786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Oval 157"/>
              <p:cNvSpPr/>
              <p:nvPr/>
            </p:nvSpPr>
            <p:spPr>
              <a:xfrm>
                <a:off x="7616880" y="42721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0" name="Oval 158"/>
              <p:cNvSpPr/>
              <p:nvPr/>
            </p:nvSpPr>
            <p:spPr>
              <a:xfrm>
                <a:off x="7669440" y="427536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Oval 159"/>
              <p:cNvSpPr/>
              <p:nvPr/>
            </p:nvSpPr>
            <p:spPr>
              <a:xfrm>
                <a:off x="8280720" y="45468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2" name="Oval 160"/>
              <p:cNvSpPr/>
              <p:nvPr/>
            </p:nvSpPr>
            <p:spPr>
              <a:xfrm>
                <a:off x="2777400" y="2663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3" name="Oval 161"/>
              <p:cNvSpPr/>
              <p:nvPr/>
            </p:nvSpPr>
            <p:spPr>
              <a:xfrm>
                <a:off x="3137760" y="2879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Oval 162"/>
              <p:cNvSpPr/>
              <p:nvPr/>
            </p:nvSpPr>
            <p:spPr>
              <a:xfrm>
                <a:off x="3158280" y="30002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5" name="Oval 163"/>
              <p:cNvSpPr/>
              <p:nvPr/>
            </p:nvSpPr>
            <p:spPr>
              <a:xfrm>
                <a:off x="3496680" y="31035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6" name="Oval 164"/>
              <p:cNvSpPr/>
              <p:nvPr/>
            </p:nvSpPr>
            <p:spPr>
              <a:xfrm>
                <a:off x="3572640" y="31068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7" name="Oval 165"/>
              <p:cNvSpPr/>
              <p:nvPr/>
            </p:nvSpPr>
            <p:spPr>
              <a:xfrm>
                <a:off x="3852360" y="3335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Oval 166"/>
              <p:cNvSpPr/>
              <p:nvPr/>
            </p:nvSpPr>
            <p:spPr>
              <a:xfrm>
                <a:off x="3890160" y="332424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Oval 167"/>
              <p:cNvSpPr/>
              <p:nvPr/>
            </p:nvSpPr>
            <p:spPr>
              <a:xfrm>
                <a:off x="3915720" y="3336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0" name="Oval 168"/>
              <p:cNvSpPr/>
              <p:nvPr/>
            </p:nvSpPr>
            <p:spPr>
              <a:xfrm>
                <a:off x="2742480" y="245736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1" name="Oval 169"/>
              <p:cNvSpPr/>
              <p:nvPr/>
            </p:nvSpPr>
            <p:spPr>
              <a:xfrm>
                <a:off x="3143880" y="2949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2" name="Oval 170"/>
              <p:cNvSpPr/>
              <p:nvPr/>
            </p:nvSpPr>
            <p:spPr>
              <a:xfrm>
                <a:off x="3237840" y="30430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Oval 171"/>
              <p:cNvSpPr/>
              <p:nvPr/>
            </p:nvSpPr>
            <p:spPr>
              <a:xfrm>
                <a:off x="3385440" y="308628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4" name="Oval 172"/>
              <p:cNvSpPr/>
              <p:nvPr/>
            </p:nvSpPr>
            <p:spPr>
              <a:xfrm>
                <a:off x="3664800" y="31212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5" name="Oval 173"/>
              <p:cNvSpPr/>
              <p:nvPr/>
            </p:nvSpPr>
            <p:spPr>
              <a:xfrm>
                <a:off x="3699720" y="3173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6" name="Oval 174"/>
              <p:cNvSpPr/>
              <p:nvPr/>
            </p:nvSpPr>
            <p:spPr>
              <a:xfrm>
                <a:off x="3720600" y="32400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Oval 175"/>
              <p:cNvSpPr/>
              <p:nvPr/>
            </p:nvSpPr>
            <p:spPr>
              <a:xfrm>
                <a:off x="3728520" y="32655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8" name="Oval 176"/>
              <p:cNvSpPr/>
              <p:nvPr/>
            </p:nvSpPr>
            <p:spPr>
              <a:xfrm>
                <a:off x="3766320" y="3336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9" name="Oval 177"/>
              <p:cNvSpPr/>
              <p:nvPr/>
            </p:nvSpPr>
            <p:spPr>
              <a:xfrm>
                <a:off x="4125240" y="3335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0" name="Oval 178"/>
              <p:cNvSpPr/>
              <p:nvPr/>
            </p:nvSpPr>
            <p:spPr>
              <a:xfrm>
                <a:off x="4188960" y="33386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Oval 179"/>
              <p:cNvSpPr/>
              <p:nvPr/>
            </p:nvSpPr>
            <p:spPr>
              <a:xfrm>
                <a:off x="2691360" y="230652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Oval 180"/>
              <p:cNvSpPr/>
              <p:nvPr/>
            </p:nvSpPr>
            <p:spPr>
              <a:xfrm>
                <a:off x="2618640" y="2265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3" name="Oval 181"/>
            <p:cNvSpPr/>
            <p:nvPr/>
          </p:nvSpPr>
          <p:spPr>
            <a:xfrm>
              <a:off x="2333520" y="2238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4" name="Straight Connector 184"/>
          <p:cNvSpPr/>
          <p:nvPr/>
        </p:nvSpPr>
        <p:spPr>
          <a:xfrm>
            <a:off x="2363760" y="3562200"/>
            <a:ext cx="205884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Straight Connector 186"/>
          <p:cNvSpPr/>
          <p:nvPr/>
        </p:nvSpPr>
        <p:spPr>
          <a:xfrm>
            <a:off x="4416480" y="3567240"/>
            <a:ext cx="0" cy="12808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Straight Connector 187"/>
          <p:cNvSpPr/>
          <p:nvPr/>
        </p:nvSpPr>
        <p:spPr>
          <a:xfrm>
            <a:off x="3814920" y="3564000"/>
            <a:ext cx="0" cy="12808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7" name="TextBox 1"/>
          <p:cNvSpPr/>
          <p:nvPr/>
        </p:nvSpPr>
        <p:spPr>
          <a:xfrm>
            <a:off x="4935240" y="5160960"/>
            <a:ext cx="929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th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4"/>
          <p:cNvSpPr/>
          <p:nvPr/>
        </p:nvSpPr>
        <p:spPr>
          <a:xfrm>
            <a:off x="5133960" y="4105440"/>
            <a:ext cx="96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9" name="Line 5"/>
          <p:cNvSpPr/>
          <p:nvPr/>
        </p:nvSpPr>
        <p:spPr>
          <a:xfrm>
            <a:off x="5133960" y="2384280"/>
            <a:ext cx="96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RECORD-1: Everolimus (RAD001) in mRCC</a:t>
            </a:r>
            <a:endParaRPr b="1" lang="en-US" sz="3200" spc="-1" strike="noStrike">
              <a:solidFill>
                <a:srgbClr val="f8f45a"/>
              </a:solidFill>
              <a:latin typeface="Arial"/>
            </a:endParaRPr>
          </a:p>
        </p:txBody>
      </p:sp>
      <p:sp>
        <p:nvSpPr>
          <p:cNvPr id="421" name="PlaceHolder 2"/>
          <p:cNvSpPr>
            <a:spLocks noGrp="1"/>
          </p:cNvSpPr>
          <p:nvPr>
            <p:ph/>
          </p:nvPr>
        </p:nvSpPr>
        <p:spPr>
          <a:xfrm>
            <a:off x="383760" y="5305320"/>
            <a:ext cx="8185320" cy="1069920"/>
          </a:xfrm>
          <a:prstGeom prst="rect">
            <a:avLst/>
          </a:prstGeom>
          <a:noFill/>
          <a:ln w="0">
            <a:noFill/>
          </a:ln>
        </p:spPr>
        <p:txBody>
          <a:bodyPr anchor="t">
            <a:normAutofit/>
          </a:bodyPr>
          <a:p>
            <a:pPr marL="343080" indent="-343080">
              <a:lnSpc>
                <a:spcPct val="8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ea typeface="Calibri"/>
              </a:rPr>
              <a:t>Primary endpoint: PFS(central review)</a:t>
            </a:r>
            <a:endParaRPr b="0" lang="en-US" sz="1800" spc="-1" strike="noStrike">
              <a:solidFill>
                <a:srgbClr val="fefdde"/>
              </a:solidFill>
              <a:latin typeface="Arial"/>
            </a:endParaRPr>
          </a:p>
          <a:p>
            <a:pPr marL="343080" indent="-343080">
              <a:lnSpc>
                <a:spcPct val="8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ea typeface="Calibri"/>
              </a:rPr>
              <a:t>Secondary endpoints: safety, response rates, OS, QoL</a:t>
            </a:r>
            <a:endParaRPr b="0" lang="en-US" sz="1800" spc="-1" strike="noStrike">
              <a:solidFill>
                <a:srgbClr val="fefdde"/>
              </a:solidFill>
              <a:latin typeface="Arial"/>
            </a:endParaRPr>
          </a:p>
        </p:txBody>
      </p:sp>
      <p:sp>
        <p:nvSpPr>
          <p:cNvPr id="422" name="AutoShape 9"/>
          <p:cNvSpPr/>
          <p:nvPr/>
        </p:nvSpPr>
        <p:spPr>
          <a:xfrm>
            <a:off x="6154560" y="3736800"/>
            <a:ext cx="2401920" cy="987480"/>
          </a:xfrm>
          <a:prstGeom prst="roundRect">
            <a:avLst>
              <a:gd name="adj" fmla="val 0"/>
            </a:avLst>
          </a:prstGeom>
          <a:solidFill>
            <a:srgbClr val="ffc000"/>
          </a:solidFill>
          <a:ln w="0">
            <a:noFill/>
          </a:ln>
        </p:spPr>
        <p:style>
          <a:lnRef idx="0"/>
          <a:fillRef idx="0"/>
          <a:effectRef idx="0"/>
          <a:fontRef idx="minor"/>
        </p:style>
        <p:txBody>
          <a:bodyPr lIns="90360" rIns="90360" tIns="44280" bIns="44280" anchor="ctr">
            <a:no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Arial"/>
                <a:ea typeface="Arial"/>
              </a:rPr>
              <a:t>Everolimus (RAD001) 10 mg QD</a:t>
            </a:r>
            <a:br>
              <a:rPr sz="1600"/>
            </a:br>
            <a:r>
              <a:rPr b="0" lang="en-US" sz="1600" spc="-1" strike="noStrike">
                <a:solidFill>
                  <a:srgbClr val="000000"/>
                </a:solidFill>
                <a:latin typeface="Arial"/>
                <a:ea typeface="Arial"/>
              </a:rPr>
              <a:t>(n = 272)</a:t>
            </a:r>
            <a:endParaRPr b="1" lang="en-US" sz="1600" spc="-1" strike="noStrike">
              <a:solidFill>
                <a:srgbClr val="ffffff"/>
              </a:solidFill>
              <a:latin typeface="Arial"/>
            </a:endParaRPr>
          </a:p>
        </p:txBody>
      </p:sp>
      <p:sp>
        <p:nvSpPr>
          <p:cNvPr id="423" name="AutoShape 10"/>
          <p:cNvSpPr/>
          <p:nvPr/>
        </p:nvSpPr>
        <p:spPr>
          <a:xfrm>
            <a:off x="6154560" y="2014560"/>
            <a:ext cx="2401920" cy="987480"/>
          </a:xfrm>
          <a:prstGeom prst="roundRect">
            <a:avLst>
              <a:gd name="adj" fmla="val 0"/>
            </a:avLst>
          </a:prstGeom>
          <a:solidFill>
            <a:srgbClr val="5aaace"/>
          </a:solidFill>
          <a:ln w="0">
            <a:noFill/>
          </a:ln>
        </p:spPr>
        <p:style>
          <a:lnRef idx="0"/>
          <a:fillRef idx="0"/>
          <a:effectRef idx="0"/>
          <a:fontRef idx="minor"/>
        </p:style>
        <p:txBody>
          <a:bodyPr lIns="90360" rIns="90360" tIns="44280" bIns="44280" anchor="ctr">
            <a:no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Arial"/>
                <a:ea typeface="Arial"/>
              </a:rPr>
              <a:t>Placebo</a:t>
            </a:r>
            <a:br>
              <a:rPr sz="1600"/>
            </a:br>
            <a:r>
              <a:rPr b="0" lang="en-US" sz="1600" spc="-1" strike="noStrike">
                <a:solidFill>
                  <a:srgbClr val="000000"/>
                </a:solidFill>
                <a:latin typeface="Arial"/>
                <a:ea typeface="Arial"/>
              </a:rPr>
              <a:t>(n = 138)</a:t>
            </a:r>
            <a:endParaRPr b="1" lang="en-US" sz="1600" spc="-1" strike="noStrike">
              <a:solidFill>
                <a:srgbClr val="ffffff"/>
              </a:solidFill>
              <a:latin typeface="Arial"/>
            </a:endParaRPr>
          </a:p>
        </p:txBody>
      </p:sp>
      <p:sp>
        <p:nvSpPr>
          <p:cNvPr id="424" name="Rectangle 11"/>
          <p:cNvSpPr/>
          <p:nvPr/>
        </p:nvSpPr>
        <p:spPr>
          <a:xfrm rot="16200000">
            <a:off x="3422880" y="3188160"/>
            <a:ext cx="3026520" cy="478080"/>
          </a:xfrm>
          <a:prstGeom prst="rect">
            <a:avLst/>
          </a:prstGeom>
          <a:solidFill>
            <a:srgbClr val="cdcdcf"/>
          </a:solidFill>
          <a:ln w="0">
            <a:noFill/>
          </a:ln>
        </p:spPr>
        <p:style>
          <a:lnRef idx="0"/>
          <a:fillRef idx="0"/>
          <a:effectRef idx="0"/>
          <a:fontRef idx="minor"/>
        </p:style>
        <p:txBody>
          <a:bodyPr lIns="90360" rIns="90360" tIns="44280" bIns="44280" anchor="t" vert="eaVert">
            <a:sp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Arial"/>
                <a:ea typeface="Arial"/>
              </a:rPr>
              <a:t>R</a:t>
            </a:r>
            <a:br>
              <a:rPr sz="1600"/>
            </a:br>
            <a:r>
              <a:rPr b="0" lang="en-GB" sz="1600" spc="-1" strike="noStrike">
                <a:solidFill>
                  <a:srgbClr val="000000"/>
                </a:solidFill>
                <a:latin typeface="Arial"/>
                <a:ea typeface="Arial"/>
              </a:rPr>
              <a:t>A</a:t>
            </a:r>
            <a:br>
              <a:rPr sz="1600"/>
            </a:br>
            <a:r>
              <a:rPr b="0" lang="en-GB" sz="1600" spc="-1" strike="noStrike">
                <a:solidFill>
                  <a:srgbClr val="000000"/>
                </a:solidFill>
                <a:latin typeface="Arial"/>
                <a:ea typeface="Arial"/>
              </a:rPr>
              <a:t>N</a:t>
            </a:r>
            <a:br>
              <a:rPr sz="1600"/>
            </a:br>
            <a:r>
              <a:rPr b="0" lang="en-GB" sz="1600" spc="-1" strike="noStrike">
                <a:solidFill>
                  <a:srgbClr val="000000"/>
                </a:solidFill>
                <a:latin typeface="Arial"/>
                <a:ea typeface="Arial"/>
              </a:rPr>
              <a:t>D</a:t>
            </a:r>
            <a:br>
              <a:rPr sz="1600"/>
            </a:br>
            <a:r>
              <a:rPr b="0" lang="en-GB" sz="1600" spc="-1" strike="noStrike">
                <a:solidFill>
                  <a:srgbClr val="000000"/>
                </a:solidFill>
                <a:latin typeface="Arial"/>
                <a:ea typeface="Arial"/>
              </a:rPr>
              <a:t>O</a:t>
            </a:r>
            <a:br>
              <a:rPr sz="1600"/>
            </a:br>
            <a:r>
              <a:rPr b="0" lang="en-GB" sz="1600" spc="-1" strike="noStrike">
                <a:solidFill>
                  <a:srgbClr val="000000"/>
                </a:solidFill>
                <a:latin typeface="Arial"/>
                <a:ea typeface="Arial"/>
              </a:rPr>
              <a:t>M</a:t>
            </a:r>
            <a:br>
              <a:rPr sz="1600"/>
            </a:br>
            <a:r>
              <a:rPr b="0" lang="en-GB" sz="1600" spc="-1" strike="noStrike">
                <a:solidFill>
                  <a:srgbClr val="000000"/>
                </a:solidFill>
                <a:latin typeface="Arial"/>
                <a:ea typeface="Arial"/>
              </a:rPr>
              <a:t>I</a:t>
            </a:r>
            <a:br>
              <a:rPr sz="1600"/>
            </a:br>
            <a:r>
              <a:rPr b="0" lang="en-GB" sz="1600" spc="-1" strike="noStrike">
                <a:solidFill>
                  <a:srgbClr val="000000"/>
                </a:solidFill>
                <a:latin typeface="Arial"/>
                <a:ea typeface="Arial"/>
              </a:rPr>
              <a:t>Z</a:t>
            </a:r>
            <a:br>
              <a:rPr sz="1600"/>
            </a:br>
            <a:r>
              <a:rPr b="0" lang="en-GB" sz="1600" spc="-1" strike="noStrike">
                <a:solidFill>
                  <a:srgbClr val="000000"/>
                </a:solidFill>
                <a:latin typeface="Arial"/>
                <a:ea typeface="Arial"/>
              </a:rPr>
              <a:t>A</a:t>
            </a:r>
            <a:br>
              <a:rPr sz="1600"/>
            </a:br>
            <a:r>
              <a:rPr b="0" lang="en-GB" sz="1600" spc="-1" strike="noStrike">
                <a:solidFill>
                  <a:srgbClr val="000000"/>
                </a:solidFill>
                <a:latin typeface="Arial"/>
                <a:ea typeface="Arial"/>
              </a:rPr>
              <a:t>T</a:t>
            </a:r>
            <a:br>
              <a:rPr sz="1600"/>
            </a:br>
            <a:r>
              <a:rPr b="0" lang="en-GB" sz="1600" spc="-1" strike="noStrike">
                <a:solidFill>
                  <a:srgbClr val="000000"/>
                </a:solidFill>
                <a:latin typeface="Arial"/>
                <a:ea typeface="Arial"/>
              </a:rPr>
              <a:t>I</a:t>
            </a:r>
            <a:br>
              <a:rPr sz="1600"/>
            </a:br>
            <a:r>
              <a:rPr b="0" lang="en-GB" sz="1600" spc="-1" strike="noStrike">
                <a:solidFill>
                  <a:srgbClr val="000000"/>
                </a:solidFill>
                <a:latin typeface="Arial"/>
                <a:ea typeface="Arial"/>
              </a:rPr>
              <a:t>O</a:t>
            </a:r>
            <a:br>
              <a:rPr sz="1600"/>
            </a:br>
            <a:r>
              <a:rPr b="0" lang="en-GB" sz="1600" spc="-1" strike="noStrike">
                <a:solidFill>
                  <a:srgbClr val="000000"/>
                </a:solidFill>
                <a:latin typeface="Arial"/>
                <a:ea typeface="Arial"/>
              </a:rPr>
              <a:t>N</a:t>
            </a:r>
            <a:endParaRPr b="1" lang="en-US" sz="1600" spc="-1" strike="noStrike">
              <a:solidFill>
                <a:srgbClr val="ffffff"/>
              </a:solidFill>
              <a:latin typeface="Arial"/>
            </a:endParaRPr>
          </a:p>
        </p:txBody>
      </p:sp>
      <p:sp>
        <p:nvSpPr>
          <p:cNvPr id="425" name="AutoShape 12"/>
          <p:cNvSpPr/>
          <p:nvPr/>
        </p:nvSpPr>
        <p:spPr>
          <a:xfrm>
            <a:off x="928800" y="2585880"/>
            <a:ext cx="3043080" cy="1402200"/>
          </a:xfrm>
          <a:prstGeom prst="roundRect">
            <a:avLst>
              <a:gd name="adj" fmla="val 0"/>
            </a:avLst>
          </a:prstGeom>
          <a:noFill/>
          <a:ln w="0">
            <a:noFill/>
          </a:ln>
        </p:spPr>
        <p:style>
          <a:lnRef idx="0"/>
          <a:fillRef idx="0"/>
          <a:effectRef idx="0"/>
          <a:fontRef idx="minor"/>
        </p:style>
        <p:txBody>
          <a:bodyPr lIns="90360" rIns="90360" tIns="44280" bIns="44280" anchor="t">
            <a:sp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600" spc="-1" strike="noStrike">
                <a:solidFill>
                  <a:srgbClr val="ffffff"/>
                </a:solidFill>
                <a:latin typeface="Arial"/>
                <a:ea typeface="Arial"/>
              </a:rPr>
              <a:t>Patients with mRCC following failure of VEGFR therapy, clear-cell histology, previous therapy with sunitinib or sorafenib within 6 mos, Karnofsky PS ≥ 70</a:t>
            </a:r>
            <a:endParaRPr b="1" lang="en-US" sz="1600" spc="-1" strike="noStrike">
              <a:solidFill>
                <a:srgbClr val="ffffff"/>
              </a:solidFill>
              <a:latin typeface="Arial"/>
            </a:endParaRPr>
          </a:p>
        </p:txBody>
      </p:sp>
      <p:cxnSp>
        <p:nvCxnSpPr>
          <p:cNvPr id="426" name="AutoShape 13"/>
          <p:cNvCxnSpPr/>
          <p:nvPr/>
        </p:nvCxnSpPr>
        <p:spPr>
          <a:xfrm>
            <a:off x="3919680" y="3285720"/>
            <a:ext cx="707040" cy="1080"/>
          </a:xfrm>
          <a:prstGeom prst="straightConnector1">
            <a:avLst/>
          </a:prstGeom>
          <a:ln w="28440">
            <a:solidFill>
              <a:srgbClr val="ffffff"/>
            </a:solidFill>
            <a:miter/>
            <a:tailEnd len="med" type="triangle" w="med"/>
          </a:ln>
        </p:spPr>
      </p:cxnSp>
      <p:sp>
        <p:nvSpPr>
          <p:cNvPr id="427" name="Text Box 14"/>
          <p:cNvSpPr/>
          <p:nvPr/>
        </p:nvSpPr>
        <p:spPr>
          <a:xfrm>
            <a:off x="284040" y="6375240"/>
            <a:ext cx="7620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Lancet. 2008;372:449-456.</a:t>
            </a:r>
            <a:endParaRPr b="1"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Progression-Free Survival</a:t>
            </a:r>
            <a:endParaRPr b="1" lang="en-US" sz="3200" spc="-1" strike="noStrike">
              <a:solidFill>
                <a:srgbClr val="f8f45a"/>
              </a:solidFill>
              <a:latin typeface="Arial"/>
            </a:endParaRPr>
          </a:p>
        </p:txBody>
      </p:sp>
      <p:sp>
        <p:nvSpPr>
          <p:cNvPr id="429" name="Text Box 4"/>
          <p:cNvSpPr/>
          <p:nvPr/>
        </p:nvSpPr>
        <p:spPr>
          <a:xfrm>
            <a:off x="6132600" y="2091240"/>
            <a:ext cx="1838160" cy="1026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an PFS, Mos</a:t>
            </a:r>
            <a:br>
              <a:rPr sz="1400"/>
            </a:br>
            <a:r>
              <a:rPr b="0" lang="en-US" sz="1400" spc="-1" strike="noStrike">
                <a:solidFill>
                  <a:srgbClr val="ffffff"/>
                </a:solidFill>
                <a:latin typeface="Arial"/>
              </a:rPr>
              <a:t>Everolimus: 4.0 </a:t>
            </a:r>
            <a:br>
              <a:rPr sz="1400"/>
            </a:br>
            <a:r>
              <a:rPr b="0" lang="en-US" sz="1400" spc="-1" strike="noStrike">
                <a:solidFill>
                  <a:srgbClr val="ffffff"/>
                </a:solidFill>
                <a:latin typeface="Arial"/>
              </a:rPr>
              <a:t>Placebo: 1.9</a:t>
            </a:r>
            <a:endParaRPr b="1" lang="en-US" sz="1400" spc="-1" strike="noStrike">
              <a:solidFill>
                <a:srgbClr val="ffffff"/>
              </a:solidFill>
              <a:latin typeface="Arial"/>
            </a:endParaRPr>
          </a:p>
          <a:p>
            <a:pPr algn="ct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lt; .0001</a:t>
            </a:r>
            <a:endParaRPr b="1" lang="en-US" sz="1400" spc="-1" strike="noStrike">
              <a:solidFill>
                <a:srgbClr val="ffffff"/>
              </a:solidFill>
              <a:latin typeface="Arial"/>
            </a:endParaRPr>
          </a:p>
        </p:txBody>
      </p:sp>
      <p:sp>
        <p:nvSpPr>
          <p:cNvPr id="430" name="Text Box 5"/>
          <p:cNvSpPr/>
          <p:nvPr/>
        </p:nvSpPr>
        <p:spPr>
          <a:xfrm>
            <a:off x="284040" y="6375240"/>
            <a:ext cx="7620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Lancet. 2008;372:449-456.</a:t>
            </a:r>
            <a:endParaRPr b="1" lang="en-US" sz="1400" spc="-1" strike="noStrike">
              <a:solidFill>
                <a:srgbClr val="ffffff"/>
              </a:solidFill>
              <a:latin typeface="Arial"/>
            </a:endParaRPr>
          </a:p>
        </p:txBody>
      </p:sp>
      <p:sp>
        <p:nvSpPr>
          <p:cNvPr id="431" name="Straight Connector 5"/>
          <p:cNvSpPr/>
          <p:nvPr/>
        </p:nvSpPr>
        <p:spPr>
          <a:xfrm>
            <a:off x="1666800" y="1971720"/>
            <a:ext cx="0" cy="3228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2" name="Straight Connector 6"/>
          <p:cNvSpPr/>
          <p:nvPr/>
        </p:nvSpPr>
        <p:spPr>
          <a:xfrm>
            <a:off x="1593720" y="1984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Straight Connector 8"/>
          <p:cNvSpPr/>
          <p:nvPr/>
        </p:nvSpPr>
        <p:spPr>
          <a:xfrm>
            <a:off x="1593720" y="260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Straight Connector 10"/>
          <p:cNvSpPr/>
          <p:nvPr/>
        </p:nvSpPr>
        <p:spPr>
          <a:xfrm>
            <a:off x="1593720" y="3224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5" name="Straight Connector 12"/>
          <p:cNvSpPr/>
          <p:nvPr/>
        </p:nvSpPr>
        <p:spPr>
          <a:xfrm>
            <a:off x="1593720" y="384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6" name="Straight Connector 14"/>
          <p:cNvSpPr/>
          <p:nvPr/>
        </p:nvSpPr>
        <p:spPr>
          <a:xfrm>
            <a:off x="1593720" y="4462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7" name="Straight Connector 16"/>
          <p:cNvSpPr/>
          <p:nvPr/>
        </p:nvSpPr>
        <p:spPr>
          <a:xfrm>
            <a:off x="1593720" y="5083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8" name="Straight Connector 17"/>
          <p:cNvSpPr/>
          <p:nvPr/>
        </p:nvSpPr>
        <p:spPr>
          <a:xfrm>
            <a:off x="1962000" y="52005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9" name="TextBox 18"/>
          <p:cNvSpPr/>
          <p:nvPr/>
        </p:nvSpPr>
        <p:spPr>
          <a:xfrm>
            <a:off x="1122120" y="1838160"/>
            <a:ext cx="51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ffffff"/>
              </a:solidFill>
              <a:latin typeface="Arial"/>
            </a:endParaRPr>
          </a:p>
        </p:txBody>
      </p:sp>
      <p:sp>
        <p:nvSpPr>
          <p:cNvPr id="440" name="TextBox 20"/>
          <p:cNvSpPr/>
          <p:nvPr/>
        </p:nvSpPr>
        <p:spPr>
          <a:xfrm>
            <a:off x="1234800" y="245736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1" lang="en-US" sz="1600" spc="-1" strike="noStrike">
              <a:solidFill>
                <a:srgbClr val="ffffff"/>
              </a:solidFill>
              <a:latin typeface="Arial"/>
            </a:endParaRPr>
          </a:p>
        </p:txBody>
      </p:sp>
      <p:sp>
        <p:nvSpPr>
          <p:cNvPr id="441" name="TextBox 22"/>
          <p:cNvSpPr/>
          <p:nvPr/>
        </p:nvSpPr>
        <p:spPr>
          <a:xfrm>
            <a:off x="1234800" y="30751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1" lang="en-US" sz="1600" spc="-1" strike="noStrike">
              <a:solidFill>
                <a:srgbClr val="ffffff"/>
              </a:solidFill>
              <a:latin typeface="Arial"/>
            </a:endParaRPr>
          </a:p>
        </p:txBody>
      </p:sp>
      <p:sp>
        <p:nvSpPr>
          <p:cNvPr id="442" name="TextBox 24"/>
          <p:cNvSpPr/>
          <p:nvPr/>
        </p:nvSpPr>
        <p:spPr>
          <a:xfrm>
            <a:off x="1234800" y="369396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1" lang="en-US" sz="1600" spc="-1" strike="noStrike">
              <a:solidFill>
                <a:srgbClr val="ffffff"/>
              </a:solidFill>
              <a:latin typeface="Arial"/>
            </a:endParaRPr>
          </a:p>
        </p:txBody>
      </p:sp>
      <p:sp>
        <p:nvSpPr>
          <p:cNvPr id="443" name="TextBox 26"/>
          <p:cNvSpPr/>
          <p:nvPr/>
        </p:nvSpPr>
        <p:spPr>
          <a:xfrm>
            <a:off x="1234800" y="43117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444" name="TextBox 28"/>
          <p:cNvSpPr/>
          <p:nvPr/>
        </p:nvSpPr>
        <p:spPr>
          <a:xfrm>
            <a:off x="1348560" y="4930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45" name="TextBox 29"/>
          <p:cNvSpPr/>
          <p:nvPr/>
        </p:nvSpPr>
        <p:spPr>
          <a:xfrm>
            <a:off x="1828080" y="5256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46" name="Straight Connector 32"/>
          <p:cNvSpPr/>
          <p:nvPr/>
        </p:nvSpPr>
        <p:spPr>
          <a:xfrm>
            <a:off x="1657440" y="5191200"/>
            <a:ext cx="698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7" name="Straight Connector 33"/>
          <p:cNvSpPr/>
          <p:nvPr/>
        </p:nvSpPr>
        <p:spPr>
          <a:xfrm>
            <a:off x="3079800" y="519120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8" name="TextBox 34"/>
          <p:cNvSpPr/>
          <p:nvPr/>
        </p:nvSpPr>
        <p:spPr>
          <a:xfrm>
            <a:off x="2947320" y="52484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1" lang="en-US" sz="1600" spc="-1" strike="noStrike">
              <a:solidFill>
                <a:srgbClr val="ffffff"/>
              </a:solidFill>
              <a:latin typeface="Arial"/>
            </a:endParaRPr>
          </a:p>
        </p:txBody>
      </p:sp>
      <p:sp>
        <p:nvSpPr>
          <p:cNvPr id="449" name="Straight Connector 35"/>
          <p:cNvSpPr/>
          <p:nvPr/>
        </p:nvSpPr>
        <p:spPr>
          <a:xfrm>
            <a:off x="4199040" y="5199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0" name="TextBox 36"/>
          <p:cNvSpPr/>
          <p:nvPr/>
        </p:nvSpPr>
        <p:spPr>
          <a:xfrm>
            <a:off x="4066560" y="5256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451" name="Straight Connector 37"/>
          <p:cNvSpPr/>
          <p:nvPr/>
        </p:nvSpPr>
        <p:spPr>
          <a:xfrm>
            <a:off x="5318280" y="5189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2" name="TextBox 38"/>
          <p:cNvSpPr/>
          <p:nvPr/>
        </p:nvSpPr>
        <p:spPr>
          <a:xfrm>
            <a:off x="5184000" y="52466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453" name="Straight Connector 39"/>
          <p:cNvSpPr/>
          <p:nvPr/>
        </p:nvSpPr>
        <p:spPr>
          <a:xfrm>
            <a:off x="6424560" y="51973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TextBox 40"/>
          <p:cNvSpPr/>
          <p:nvPr/>
        </p:nvSpPr>
        <p:spPr>
          <a:xfrm>
            <a:off x="6290640" y="52545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455" name="Straight Connector 41"/>
          <p:cNvSpPr/>
          <p:nvPr/>
        </p:nvSpPr>
        <p:spPr>
          <a:xfrm>
            <a:off x="7543800" y="52052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6" name="TextBox 42"/>
          <p:cNvSpPr/>
          <p:nvPr/>
        </p:nvSpPr>
        <p:spPr>
          <a:xfrm>
            <a:off x="7344360" y="526104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457" name="Straight Connector 43"/>
          <p:cNvSpPr/>
          <p:nvPr/>
        </p:nvSpPr>
        <p:spPr>
          <a:xfrm>
            <a:off x="8616960" y="51958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TextBox 44"/>
          <p:cNvSpPr/>
          <p:nvPr/>
        </p:nvSpPr>
        <p:spPr>
          <a:xfrm>
            <a:off x="8427960" y="52531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459" name="TextBox 45"/>
          <p:cNvSpPr/>
          <p:nvPr/>
        </p:nvSpPr>
        <p:spPr>
          <a:xfrm rot="16200000">
            <a:off x="-61200" y="3373200"/>
            <a:ext cx="2296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ability of PFS (%)</a:t>
            </a:r>
            <a:endParaRPr b="1" lang="en-US" sz="1600" spc="-1" strike="noStrike">
              <a:solidFill>
                <a:srgbClr val="ffffff"/>
              </a:solidFill>
              <a:latin typeface="Arial"/>
            </a:endParaRPr>
          </a:p>
        </p:txBody>
      </p:sp>
      <p:sp>
        <p:nvSpPr>
          <p:cNvPr id="460" name="TextBox 46"/>
          <p:cNvSpPr/>
          <p:nvPr/>
        </p:nvSpPr>
        <p:spPr>
          <a:xfrm>
            <a:off x="2019600" y="4583160"/>
            <a:ext cx="11865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olimus</a:t>
            </a:r>
            <a:br>
              <a:rPr sz="1600"/>
            </a:br>
            <a:r>
              <a:rPr b="0" lang="en-US" sz="1600" spc="-1" strike="noStrike">
                <a:solidFill>
                  <a:srgbClr val="ffffff"/>
                </a:solidFill>
                <a:latin typeface="Arial"/>
              </a:rPr>
              <a:t>Placebo</a:t>
            </a:r>
            <a:endParaRPr b="1" lang="en-US" sz="1600" spc="-1" strike="noStrike">
              <a:solidFill>
                <a:srgbClr val="ffffff"/>
              </a:solidFill>
              <a:latin typeface="Arial"/>
            </a:endParaRPr>
          </a:p>
        </p:txBody>
      </p:sp>
      <p:sp>
        <p:nvSpPr>
          <p:cNvPr id="461" name="Straight Connector 47"/>
          <p:cNvSpPr/>
          <p:nvPr/>
        </p:nvSpPr>
        <p:spPr>
          <a:xfrm>
            <a:off x="1819440" y="4751280"/>
            <a:ext cx="23796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2" name="Straight Connector 48"/>
          <p:cNvSpPr/>
          <p:nvPr/>
        </p:nvSpPr>
        <p:spPr>
          <a:xfrm>
            <a:off x="1820880" y="4970520"/>
            <a:ext cx="236520" cy="0"/>
          </a:xfrm>
          <a:prstGeom prst="line">
            <a:avLst/>
          </a:prstGeom>
          <a:ln w="28440">
            <a:solidFill>
              <a:srgbClr val="5aaace"/>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3" name="TextBox 49"/>
          <p:cNvSpPr/>
          <p:nvPr/>
        </p:nvSpPr>
        <p:spPr>
          <a:xfrm>
            <a:off x="255240" y="5535720"/>
            <a:ext cx="14533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at Risk, n</a:t>
            </a:r>
            <a:br>
              <a:rPr sz="1600"/>
            </a:br>
            <a:r>
              <a:rPr b="0" lang="en-US" sz="1600" spc="-1" strike="noStrike">
                <a:solidFill>
                  <a:srgbClr val="ffffff"/>
                </a:solidFill>
                <a:latin typeface="Arial"/>
              </a:rPr>
              <a:t>Everolimus</a:t>
            </a:r>
            <a:br>
              <a:rPr sz="1600"/>
            </a:br>
            <a:r>
              <a:rPr b="0" lang="en-US" sz="1600" spc="-1" strike="noStrike">
                <a:solidFill>
                  <a:srgbClr val="ffffff"/>
                </a:solidFill>
                <a:latin typeface="Arial"/>
              </a:rPr>
              <a:t>Placebo</a:t>
            </a:r>
            <a:endParaRPr b="1" lang="en-US" sz="1600" spc="-1" strike="noStrike">
              <a:solidFill>
                <a:srgbClr val="ffffff"/>
              </a:solidFill>
              <a:latin typeface="Arial"/>
            </a:endParaRPr>
          </a:p>
        </p:txBody>
      </p:sp>
      <p:sp>
        <p:nvSpPr>
          <p:cNvPr id="464" name="TextBox 50"/>
          <p:cNvSpPr/>
          <p:nvPr/>
        </p:nvSpPr>
        <p:spPr>
          <a:xfrm>
            <a:off x="2812320" y="575784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2</a:t>
            </a:r>
            <a:br>
              <a:rPr sz="1600"/>
            </a:br>
            <a:r>
              <a:rPr b="0" lang="en-US" sz="1600" spc="-1" strike="noStrike">
                <a:solidFill>
                  <a:srgbClr val="ffffff"/>
                </a:solidFill>
                <a:latin typeface="Arial"/>
              </a:rPr>
              <a:t>32</a:t>
            </a:r>
            <a:endParaRPr b="1" lang="en-US" sz="1600" spc="-1" strike="noStrike">
              <a:solidFill>
                <a:srgbClr val="ffffff"/>
              </a:solidFill>
              <a:latin typeface="Arial"/>
            </a:endParaRPr>
          </a:p>
        </p:txBody>
      </p:sp>
      <p:sp>
        <p:nvSpPr>
          <p:cNvPr id="465" name="TextBox 51"/>
          <p:cNvSpPr/>
          <p:nvPr/>
        </p:nvSpPr>
        <p:spPr>
          <a:xfrm>
            <a:off x="1678680" y="575784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2</a:t>
            </a:r>
            <a:br>
              <a:rPr sz="1600"/>
            </a:br>
            <a:r>
              <a:rPr b="0" lang="en-US" sz="1600" spc="-1" strike="noStrike">
                <a:solidFill>
                  <a:srgbClr val="ffffff"/>
                </a:solidFill>
                <a:latin typeface="Arial"/>
              </a:rPr>
              <a:t>138</a:t>
            </a:r>
            <a:endParaRPr b="1" lang="en-US" sz="1600" spc="-1" strike="noStrike">
              <a:solidFill>
                <a:srgbClr val="ffffff"/>
              </a:solidFill>
              <a:latin typeface="Arial"/>
            </a:endParaRPr>
          </a:p>
        </p:txBody>
      </p:sp>
      <p:sp>
        <p:nvSpPr>
          <p:cNvPr id="466" name="TextBox 52"/>
          <p:cNvSpPr/>
          <p:nvPr/>
        </p:nvSpPr>
        <p:spPr>
          <a:xfrm>
            <a:off x="4034520" y="575784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7</a:t>
            </a:r>
            <a:br>
              <a:rPr sz="1600"/>
            </a:b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467" name="TextBox 53"/>
          <p:cNvSpPr/>
          <p:nvPr/>
        </p:nvSpPr>
        <p:spPr>
          <a:xfrm>
            <a:off x="5191920" y="57578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br>
              <a:rPr sz="1600"/>
            </a:br>
            <a:r>
              <a:rPr b="0" lang="en-US" sz="1600" spc="-1" strike="noStrike">
                <a:solidFill>
                  <a:srgbClr val="ffffff"/>
                </a:solidFill>
                <a:latin typeface="Arial"/>
              </a:rPr>
              <a:t>1</a:t>
            </a:r>
            <a:endParaRPr b="1" lang="en-US" sz="1600" spc="-1" strike="noStrike">
              <a:solidFill>
                <a:srgbClr val="ffffff"/>
              </a:solidFill>
              <a:latin typeface="Arial"/>
            </a:endParaRPr>
          </a:p>
        </p:txBody>
      </p:sp>
      <p:sp>
        <p:nvSpPr>
          <p:cNvPr id="468" name="TextBox 54"/>
          <p:cNvSpPr/>
          <p:nvPr/>
        </p:nvSpPr>
        <p:spPr>
          <a:xfrm>
            <a:off x="6287400" y="57578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69" name="TextBox 55"/>
          <p:cNvSpPr/>
          <p:nvPr/>
        </p:nvSpPr>
        <p:spPr>
          <a:xfrm>
            <a:off x="7403400" y="57452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70" name="TextBox 56"/>
          <p:cNvSpPr/>
          <p:nvPr/>
        </p:nvSpPr>
        <p:spPr>
          <a:xfrm>
            <a:off x="8462160" y="574668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71" name="TextBox 57"/>
          <p:cNvSpPr/>
          <p:nvPr/>
        </p:nvSpPr>
        <p:spPr>
          <a:xfrm>
            <a:off x="5080680" y="5456160"/>
            <a:ext cx="586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a:t>
            </a:r>
            <a:endParaRPr b="1" lang="en-US" sz="1600" spc="-1" strike="noStrike">
              <a:solidFill>
                <a:srgbClr val="ffffff"/>
              </a:solidFill>
              <a:latin typeface="Arial"/>
            </a:endParaRPr>
          </a:p>
        </p:txBody>
      </p:sp>
      <p:grpSp>
        <p:nvGrpSpPr>
          <p:cNvPr id="472" name="Group 67"/>
          <p:cNvGrpSpPr/>
          <p:nvPr/>
        </p:nvGrpSpPr>
        <p:grpSpPr>
          <a:xfrm>
            <a:off x="1952640" y="1967040"/>
            <a:ext cx="3610080" cy="3076560"/>
            <a:chOff x="1952640" y="1967040"/>
            <a:chExt cx="3610080" cy="3076560"/>
          </a:xfrm>
        </p:grpSpPr>
        <p:sp>
          <p:nvSpPr>
            <p:cNvPr id="473" name="Freeform 58"/>
            <p:cNvSpPr/>
            <p:nvPr/>
          </p:nvSpPr>
          <p:spPr>
            <a:xfrm>
              <a:off x="1952640" y="1967040"/>
              <a:ext cx="3610080" cy="3076560"/>
            </a:xfrm>
            <a:custGeom>
              <a:avLst/>
              <a:gdLst>
                <a:gd name="textAreaLeft" fmla="*/ 0 w 3610080"/>
                <a:gd name="textAreaRight" fmla="*/ 3610440 w 3610080"/>
                <a:gd name="textAreaTop" fmla="*/ 0 h 3076560"/>
                <a:gd name="textAreaBottom" fmla="*/ 3076920 h 3076560"/>
              </a:gdLst>
              <a:ahLst/>
              <a:rect l="textAreaLeft" t="textAreaTop" r="textAreaRight" b="textAreaBottom"/>
              <a:pathLst>
                <a:path w="3609975" h="3076575">
                  <a:moveTo>
                    <a:pt x="0" y="0"/>
                  </a:moveTo>
                  <a:lnTo>
                    <a:pt x="414338" y="0"/>
                  </a:lnTo>
                  <a:lnTo>
                    <a:pt x="414338" y="66675"/>
                  </a:lnTo>
                  <a:lnTo>
                    <a:pt x="495300" y="61912"/>
                  </a:lnTo>
                  <a:lnTo>
                    <a:pt x="495300" y="85725"/>
                  </a:lnTo>
                  <a:lnTo>
                    <a:pt x="542925" y="85725"/>
                  </a:lnTo>
                  <a:lnTo>
                    <a:pt x="542925" y="138112"/>
                  </a:lnTo>
                  <a:lnTo>
                    <a:pt x="571500" y="138112"/>
                  </a:lnTo>
                  <a:lnTo>
                    <a:pt x="571500" y="204787"/>
                  </a:lnTo>
                  <a:lnTo>
                    <a:pt x="628650" y="204787"/>
                  </a:lnTo>
                  <a:lnTo>
                    <a:pt x="623888" y="238125"/>
                  </a:lnTo>
                  <a:lnTo>
                    <a:pt x="652463" y="238125"/>
                  </a:lnTo>
                  <a:lnTo>
                    <a:pt x="652463" y="271462"/>
                  </a:lnTo>
                  <a:lnTo>
                    <a:pt x="685800" y="271462"/>
                  </a:lnTo>
                  <a:lnTo>
                    <a:pt x="685800" y="333375"/>
                  </a:lnTo>
                  <a:lnTo>
                    <a:pt x="733425" y="333375"/>
                  </a:lnTo>
                  <a:lnTo>
                    <a:pt x="733425" y="371475"/>
                  </a:lnTo>
                  <a:lnTo>
                    <a:pt x="766763" y="371475"/>
                  </a:lnTo>
                  <a:lnTo>
                    <a:pt x="766763" y="433387"/>
                  </a:lnTo>
                  <a:lnTo>
                    <a:pt x="809625" y="433387"/>
                  </a:lnTo>
                  <a:lnTo>
                    <a:pt x="809625" y="471487"/>
                  </a:lnTo>
                  <a:lnTo>
                    <a:pt x="876300" y="471487"/>
                  </a:lnTo>
                  <a:lnTo>
                    <a:pt x="881063" y="581025"/>
                  </a:lnTo>
                  <a:lnTo>
                    <a:pt x="914400" y="581025"/>
                  </a:lnTo>
                  <a:lnTo>
                    <a:pt x="909638" y="619125"/>
                  </a:lnTo>
                  <a:lnTo>
                    <a:pt x="938213" y="619125"/>
                  </a:lnTo>
                  <a:lnTo>
                    <a:pt x="933450" y="762000"/>
                  </a:lnTo>
                  <a:lnTo>
                    <a:pt x="952500" y="766762"/>
                  </a:lnTo>
                  <a:lnTo>
                    <a:pt x="962025" y="852487"/>
                  </a:lnTo>
                  <a:lnTo>
                    <a:pt x="985838" y="852487"/>
                  </a:lnTo>
                  <a:lnTo>
                    <a:pt x="981075" y="990600"/>
                  </a:lnTo>
                  <a:lnTo>
                    <a:pt x="1000125" y="990600"/>
                  </a:lnTo>
                  <a:lnTo>
                    <a:pt x="1000125" y="1162050"/>
                  </a:lnTo>
                  <a:lnTo>
                    <a:pt x="1009650" y="1162050"/>
                  </a:lnTo>
                  <a:lnTo>
                    <a:pt x="1014413" y="1281112"/>
                  </a:lnTo>
                  <a:lnTo>
                    <a:pt x="1033463" y="1290637"/>
                  </a:lnTo>
                  <a:cubicBezTo>
                    <a:pt x="1031875" y="1371600"/>
                    <a:pt x="1030288" y="1452562"/>
                    <a:pt x="1028700" y="1533525"/>
                  </a:cubicBezTo>
                  <a:lnTo>
                    <a:pt x="1047750" y="1528762"/>
                  </a:lnTo>
                  <a:lnTo>
                    <a:pt x="1047750" y="1676400"/>
                  </a:lnTo>
                  <a:lnTo>
                    <a:pt x="1071563" y="1681162"/>
                  </a:lnTo>
                  <a:lnTo>
                    <a:pt x="1066800" y="1876425"/>
                  </a:lnTo>
                  <a:lnTo>
                    <a:pt x="1119188" y="1876425"/>
                  </a:lnTo>
                  <a:lnTo>
                    <a:pt x="1119188" y="1914525"/>
                  </a:lnTo>
                  <a:lnTo>
                    <a:pt x="1138238" y="1919287"/>
                  </a:lnTo>
                  <a:lnTo>
                    <a:pt x="1138238" y="1952625"/>
                  </a:lnTo>
                  <a:lnTo>
                    <a:pt x="1219200" y="1952625"/>
                  </a:lnTo>
                  <a:lnTo>
                    <a:pt x="1219200" y="2028825"/>
                  </a:lnTo>
                  <a:lnTo>
                    <a:pt x="1328738" y="2028825"/>
                  </a:lnTo>
                  <a:lnTo>
                    <a:pt x="1328738" y="2062162"/>
                  </a:lnTo>
                  <a:lnTo>
                    <a:pt x="1576388" y="2062162"/>
                  </a:lnTo>
                  <a:lnTo>
                    <a:pt x="1576388" y="2138362"/>
                  </a:lnTo>
                  <a:lnTo>
                    <a:pt x="1619250" y="2138362"/>
                  </a:lnTo>
                  <a:lnTo>
                    <a:pt x="1624013" y="2185987"/>
                  </a:lnTo>
                  <a:lnTo>
                    <a:pt x="1924050" y="2185987"/>
                  </a:lnTo>
                  <a:lnTo>
                    <a:pt x="1919288" y="2224087"/>
                  </a:lnTo>
                  <a:lnTo>
                    <a:pt x="1962150" y="2224087"/>
                  </a:lnTo>
                  <a:lnTo>
                    <a:pt x="1957388" y="2276475"/>
                  </a:lnTo>
                  <a:lnTo>
                    <a:pt x="1990725" y="2276475"/>
                  </a:lnTo>
                  <a:lnTo>
                    <a:pt x="1985963" y="2314575"/>
                  </a:lnTo>
                  <a:lnTo>
                    <a:pt x="2024063" y="2314575"/>
                  </a:lnTo>
                  <a:lnTo>
                    <a:pt x="2014538" y="2552700"/>
                  </a:lnTo>
                  <a:lnTo>
                    <a:pt x="2085975" y="2557462"/>
                  </a:lnTo>
                  <a:lnTo>
                    <a:pt x="2081213" y="2695575"/>
                  </a:lnTo>
                  <a:lnTo>
                    <a:pt x="2114550" y="2695575"/>
                  </a:lnTo>
                  <a:lnTo>
                    <a:pt x="2114550" y="2795587"/>
                  </a:lnTo>
                  <a:lnTo>
                    <a:pt x="2185988" y="2795587"/>
                  </a:lnTo>
                  <a:lnTo>
                    <a:pt x="2181225" y="2847975"/>
                  </a:lnTo>
                  <a:lnTo>
                    <a:pt x="2538413" y="2847975"/>
                  </a:lnTo>
                  <a:lnTo>
                    <a:pt x="2538413" y="2919412"/>
                  </a:lnTo>
                  <a:lnTo>
                    <a:pt x="2876550" y="2919412"/>
                  </a:lnTo>
                  <a:lnTo>
                    <a:pt x="2881313" y="2981325"/>
                  </a:lnTo>
                  <a:lnTo>
                    <a:pt x="3190875" y="2981325"/>
                  </a:lnTo>
                  <a:lnTo>
                    <a:pt x="3195638" y="3052762"/>
                  </a:lnTo>
                  <a:lnTo>
                    <a:pt x="3609975" y="3052762"/>
                  </a:lnTo>
                  <a:lnTo>
                    <a:pt x="3605213" y="3076575"/>
                  </a:lnTo>
                </a:path>
              </a:pathLst>
            </a:custGeom>
            <a:noFill/>
            <a:ln w="28440">
              <a:solidFill>
                <a:srgbClr val="5aaace"/>
              </a:solidFill>
              <a:prstDash val="sysDash"/>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4" name="Straight Connector 60"/>
            <p:cNvSpPr/>
            <p:nvPr/>
          </p:nvSpPr>
          <p:spPr>
            <a:xfrm>
              <a:off x="4071960" y="469620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5" name="Straight Connector 61"/>
            <p:cNvSpPr/>
            <p:nvPr/>
          </p:nvSpPr>
          <p:spPr>
            <a:xfrm>
              <a:off x="3881520" y="408636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6" name="Straight Connector 62"/>
            <p:cNvSpPr/>
            <p:nvPr/>
          </p:nvSpPr>
          <p:spPr>
            <a:xfrm>
              <a:off x="3881520" y="415800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7" name="Straight Connector 63"/>
            <p:cNvSpPr/>
            <p:nvPr/>
          </p:nvSpPr>
          <p:spPr>
            <a:xfrm>
              <a:off x="3219480" y="392436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8" name="Straight Connector 64"/>
            <p:cNvSpPr/>
            <p:nvPr/>
          </p:nvSpPr>
          <p:spPr>
            <a:xfrm>
              <a:off x="2819520" y="240012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9" name="Straight Connector 65"/>
            <p:cNvSpPr/>
            <p:nvPr/>
          </p:nvSpPr>
          <p:spPr>
            <a:xfrm>
              <a:off x="2781360" y="238608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0" name="Straight Connector 66"/>
            <p:cNvSpPr/>
            <p:nvPr/>
          </p:nvSpPr>
          <p:spPr>
            <a:xfrm>
              <a:off x="2633760" y="219564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81" name="Group 113"/>
          <p:cNvGrpSpPr/>
          <p:nvPr/>
        </p:nvGrpSpPr>
        <p:grpSpPr>
          <a:xfrm>
            <a:off x="1962000" y="1886040"/>
            <a:ext cx="4700880" cy="3186000"/>
            <a:chOff x="1962000" y="1886040"/>
            <a:chExt cx="4700880" cy="3186000"/>
          </a:xfrm>
        </p:grpSpPr>
        <p:sp>
          <p:nvSpPr>
            <p:cNvPr id="482" name="Freeform 68"/>
            <p:cNvSpPr/>
            <p:nvPr/>
          </p:nvSpPr>
          <p:spPr>
            <a:xfrm>
              <a:off x="1962000" y="1966680"/>
              <a:ext cx="4700880" cy="3105360"/>
            </a:xfrm>
            <a:custGeom>
              <a:avLst/>
              <a:gdLst>
                <a:gd name="textAreaLeft" fmla="*/ 0 w 4700880"/>
                <a:gd name="textAreaRight" fmla="*/ 4701240 w 4700880"/>
                <a:gd name="textAreaTop" fmla="*/ 0 h 3105360"/>
                <a:gd name="textAreaBottom" fmla="*/ 3105720 h 3105360"/>
              </a:gdLst>
              <a:ahLst/>
              <a:rect l="textAreaLeft" t="textAreaTop" r="textAreaRight" b="textAreaBottom"/>
              <a:pathLst>
                <a:path w="4700588" h="3105150">
                  <a:moveTo>
                    <a:pt x="0" y="0"/>
                  </a:moveTo>
                  <a:lnTo>
                    <a:pt x="433388" y="0"/>
                  </a:lnTo>
                  <a:lnTo>
                    <a:pt x="428625" y="28575"/>
                  </a:lnTo>
                  <a:lnTo>
                    <a:pt x="476250" y="28575"/>
                  </a:lnTo>
                  <a:lnTo>
                    <a:pt x="466725" y="47625"/>
                  </a:lnTo>
                  <a:lnTo>
                    <a:pt x="542925" y="47625"/>
                  </a:lnTo>
                  <a:lnTo>
                    <a:pt x="542925" y="71437"/>
                  </a:lnTo>
                  <a:lnTo>
                    <a:pt x="585788" y="71437"/>
                  </a:lnTo>
                  <a:lnTo>
                    <a:pt x="585788" y="95250"/>
                  </a:lnTo>
                  <a:lnTo>
                    <a:pt x="671513" y="95250"/>
                  </a:lnTo>
                  <a:lnTo>
                    <a:pt x="671513" y="114300"/>
                  </a:lnTo>
                  <a:lnTo>
                    <a:pt x="747713" y="114300"/>
                  </a:lnTo>
                  <a:lnTo>
                    <a:pt x="747713" y="138112"/>
                  </a:lnTo>
                  <a:lnTo>
                    <a:pt x="776288" y="138112"/>
                  </a:lnTo>
                  <a:lnTo>
                    <a:pt x="776288" y="166687"/>
                  </a:lnTo>
                  <a:lnTo>
                    <a:pt x="819150" y="166687"/>
                  </a:lnTo>
                  <a:lnTo>
                    <a:pt x="814388" y="185737"/>
                  </a:lnTo>
                  <a:lnTo>
                    <a:pt x="904875" y="180975"/>
                  </a:lnTo>
                  <a:lnTo>
                    <a:pt x="904875" y="233362"/>
                  </a:lnTo>
                  <a:lnTo>
                    <a:pt x="933450" y="233362"/>
                  </a:lnTo>
                  <a:lnTo>
                    <a:pt x="933450" y="276225"/>
                  </a:lnTo>
                  <a:lnTo>
                    <a:pt x="952500" y="280987"/>
                  </a:lnTo>
                  <a:lnTo>
                    <a:pt x="957263" y="319087"/>
                  </a:lnTo>
                  <a:lnTo>
                    <a:pt x="971550" y="319087"/>
                  </a:lnTo>
                  <a:lnTo>
                    <a:pt x="971550" y="409575"/>
                  </a:lnTo>
                  <a:lnTo>
                    <a:pt x="995363" y="409575"/>
                  </a:lnTo>
                  <a:lnTo>
                    <a:pt x="995363" y="457200"/>
                  </a:lnTo>
                  <a:lnTo>
                    <a:pt x="1019175" y="452437"/>
                  </a:lnTo>
                  <a:lnTo>
                    <a:pt x="1019175" y="523875"/>
                  </a:lnTo>
                  <a:lnTo>
                    <a:pt x="1042988" y="523875"/>
                  </a:lnTo>
                  <a:lnTo>
                    <a:pt x="1042988" y="700087"/>
                  </a:lnTo>
                  <a:lnTo>
                    <a:pt x="1104900" y="700087"/>
                  </a:lnTo>
                  <a:lnTo>
                    <a:pt x="1104900" y="742950"/>
                  </a:lnTo>
                  <a:lnTo>
                    <a:pt x="1133475" y="742950"/>
                  </a:lnTo>
                  <a:lnTo>
                    <a:pt x="1128713" y="800100"/>
                  </a:lnTo>
                  <a:lnTo>
                    <a:pt x="1166813" y="800100"/>
                  </a:lnTo>
                  <a:lnTo>
                    <a:pt x="1166813" y="838200"/>
                  </a:lnTo>
                  <a:lnTo>
                    <a:pt x="1271588" y="838200"/>
                  </a:lnTo>
                  <a:lnTo>
                    <a:pt x="1271588" y="871537"/>
                  </a:lnTo>
                  <a:lnTo>
                    <a:pt x="1328738" y="871537"/>
                  </a:lnTo>
                  <a:lnTo>
                    <a:pt x="1333500" y="895350"/>
                  </a:lnTo>
                  <a:lnTo>
                    <a:pt x="1466850" y="895350"/>
                  </a:lnTo>
                  <a:lnTo>
                    <a:pt x="1466850" y="904875"/>
                  </a:lnTo>
                  <a:lnTo>
                    <a:pt x="1543050" y="904875"/>
                  </a:lnTo>
                  <a:lnTo>
                    <a:pt x="1543050" y="938212"/>
                  </a:lnTo>
                  <a:lnTo>
                    <a:pt x="1633538" y="933450"/>
                  </a:lnTo>
                  <a:lnTo>
                    <a:pt x="1638300" y="952500"/>
                  </a:lnTo>
                  <a:lnTo>
                    <a:pt x="1662113" y="952500"/>
                  </a:lnTo>
                  <a:lnTo>
                    <a:pt x="1666875" y="995362"/>
                  </a:lnTo>
                  <a:lnTo>
                    <a:pt x="1709738" y="995362"/>
                  </a:lnTo>
                  <a:lnTo>
                    <a:pt x="1714500" y="1014412"/>
                  </a:lnTo>
                  <a:lnTo>
                    <a:pt x="1776413" y="1014412"/>
                  </a:lnTo>
                  <a:lnTo>
                    <a:pt x="1771650" y="1033462"/>
                  </a:lnTo>
                  <a:lnTo>
                    <a:pt x="1804988" y="1033462"/>
                  </a:lnTo>
                  <a:lnTo>
                    <a:pt x="1804988" y="1057275"/>
                  </a:lnTo>
                  <a:lnTo>
                    <a:pt x="1885950" y="1057275"/>
                  </a:lnTo>
                  <a:lnTo>
                    <a:pt x="1890713" y="1109662"/>
                  </a:lnTo>
                  <a:lnTo>
                    <a:pt x="1957388" y="1095375"/>
                  </a:lnTo>
                  <a:lnTo>
                    <a:pt x="1957388" y="1157287"/>
                  </a:lnTo>
                  <a:lnTo>
                    <a:pt x="1976438" y="1157287"/>
                  </a:lnTo>
                  <a:lnTo>
                    <a:pt x="1976438" y="1200150"/>
                  </a:lnTo>
                  <a:lnTo>
                    <a:pt x="2019300" y="1200150"/>
                  </a:lnTo>
                  <a:lnTo>
                    <a:pt x="2019300" y="1238250"/>
                  </a:lnTo>
                  <a:lnTo>
                    <a:pt x="2052638" y="1238250"/>
                  </a:lnTo>
                  <a:lnTo>
                    <a:pt x="2052638" y="1281112"/>
                  </a:lnTo>
                  <a:lnTo>
                    <a:pt x="2076450" y="1281112"/>
                  </a:lnTo>
                  <a:lnTo>
                    <a:pt x="2076450" y="1366837"/>
                  </a:lnTo>
                  <a:lnTo>
                    <a:pt x="2109788" y="1366837"/>
                  </a:lnTo>
                  <a:lnTo>
                    <a:pt x="2109788" y="1404937"/>
                  </a:lnTo>
                  <a:lnTo>
                    <a:pt x="2138363" y="1404937"/>
                  </a:lnTo>
                  <a:lnTo>
                    <a:pt x="2138363" y="1447800"/>
                  </a:lnTo>
                  <a:lnTo>
                    <a:pt x="2176463" y="1447800"/>
                  </a:lnTo>
                  <a:lnTo>
                    <a:pt x="2171700" y="1471612"/>
                  </a:lnTo>
                  <a:lnTo>
                    <a:pt x="2224088" y="1471612"/>
                  </a:lnTo>
                  <a:lnTo>
                    <a:pt x="2224088" y="1514475"/>
                  </a:lnTo>
                  <a:lnTo>
                    <a:pt x="2257425" y="1514475"/>
                  </a:lnTo>
                  <a:lnTo>
                    <a:pt x="2262188" y="1571625"/>
                  </a:lnTo>
                  <a:lnTo>
                    <a:pt x="2395538" y="1566862"/>
                  </a:lnTo>
                  <a:lnTo>
                    <a:pt x="2386013" y="1609725"/>
                  </a:lnTo>
                  <a:lnTo>
                    <a:pt x="2481263" y="1609725"/>
                  </a:lnTo>
                  <a:lnTo>
                    <a:pt x="2481263" y="1657350"/>
                  </a:lnTo>
                  <a:lnTo>
                    <a:pt x="2895600" y="1657350"/>
                  </a:lnTo>
                  <a:lnTo>
                    <a:pt x="2900363" y="1695450"/>
                  </a:lnTo>
                  <a:lnTo>
                    <a:pt x="2990850" y="1695450"/>
                  </a:lnTo>
                  <a:lnTo>
                    <a:pt x="2986088" y="1771650"/>
                  </a:lnTo>
                  <a:lnTo>
                    <a:pt x="3024188" y="1771650"/>
                  </a:lnTo>
                  <a:lnTo>
                    <a:pt x="3019425" y="1833562"/>
                  </a:lnTo>
                  <a:lnTo>
                    <a:pt x="3071813" y="1833562"/>
                  </a:lnTo>
                  <a:lnTo>
                    <a:pt x="3076575" y="1971675"/>
                  </a:lnTo>
                  <a:lnTo>
                    <a:pt x="3109913" y="1971675"/>
                  </a:lnTo>
                  <a:lnTo>
                    <a:pt x="3109913" y="2024062"/>
                  </a:lnTo>
                  <a:lnTo>
                    <a:pt x="3138488" y="2024062"/>
                  </a:lnTo>
                  <a:lnTo>
                    <a:pt x="3128963" y="2052637"/>
                  </a:lnTo>
                  <a:lnTo>
                    <a:pt x="3209925" y="2052637"/>
                  </a:lnTo>
                  <a:lnTo>
                    <a:pt x="3214688" y="2138362"/>
                  </a:lnTo>
                  <a:lnTo>
                    <a:pt x="3248025" y="2138362"/>
                  </a:lnTo>
                  <a:lnTo>
                    <a:pt x="3252788" y="2228850"/>
                  </a:lnTo>
                  <a:lnTo>
                    <a:pt x="3276600" y="2224087"/>
                  </a:lnTo>
                  <a:lnTo>
                    <a:pt x="3276600" y="2309812"/>
                  </a:lnTo>
                  <a:lnTo>
                    <a:pt x="3557588" y="2309812"/>
                  </a:lnTo>
                  <a:lnTo>
                    <a:pt x="3557588" y="2419350"/>
                  </a:lnTo>
                  <a:lnTo>
                    <a:pt x="4110038" y="2419350"/>
                  </a:lnTo>
                  <a:lnTo>
                    <a:pt x="4110038" y="2600325"/>
                  </a:lnTo>
                  <a:lnTo>
                    <a:pt x="4695825" y="2600325"/>
                  </a:lnTo>
                  <a:cubicBezTo>
                    <a:pt x="4697413" y="2768600"/>
                    <a:pt x="4699000" y="2936875"/>
                    <a:pt x="4700588" y="3105150"/>
                  </a:cubicBez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Straight Connector 70"/>
            <p:cNvSpPr/>
            <p:nvPr/>
          </p:nvSpPr>
          <p:spPr>
            <a:xfrm>
              <a:off x="6591600" y="449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4" name="Straight Connector 71"/>
            <p:cNvSpPr/>
            <p:nvPr/>
          </p:nvSpPr>
          <p:spPr>
            <a:xfrm>
              <a:off x="6096240" y="44863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5" name="Straight Connector 72"/>
            <p:cNvSpPr/>
            <p:nvPr/>
          </p:nvSpPr>
          <p:spPr>
            <a:xfrm>
              <a:off x="4343400" y="34862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6" name="Straight Connector 73"/>
            <p:cNvSpPr/>
            <p:nvPr/>
          </p:nvSpPr>
          <p:spPr>
            <a:xfrm>
              <a:off x="4400640" y="3519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7" name="Straight Connector 74"/>
            <p:cNvSpPr/>
            <p:nvPr/>
          </p:nvSpPr>
          <p:spPr>
            <a:xfrm>
              <a:off x="4556160" y="35672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8" name="Straight Connector 75"/>
            <p:cNvSpPr/>
            <p:nvPr/>
          </p:nvSpPr>
          <p:spPr>
            <a:xfrm>
              <a:off x="4724280" y="3548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9" name="Straight Connector 76"/>
            <p:cNvSpPr/>
            <p:nvPr/>
          </p:nvSpPr>
          <p:spPr>
            <a:xfrm>
              <a:off x="4971960" y="36720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0" name="Straight Connector 77"/>
            <p:cNvSpPr/>
            <p:nvPr/>
          </p:nvSpPr>
          <p:spPr>
            <a:xfrm>
              <a:off x="5059440" y="38959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1" name="Straight Connector 78"/>
            <p:cNvSpPr/>
            <p:nvPr/>
          </p:nvSpPr>
          <p:spPr>
            <a:xfrm>
              <a:off x="5119920" y="39434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2" name="Straight Connector 79"/>
            <p:cNvSpPr/>
            <p:nvPr/>
          </p:nvSpPr>
          <p:spPr>
            <a:xfrm>
              <a:off x="5158080" y="39434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3" name="Straight Connector 80"/>
            <p:cNvSpPr/>
            <p:nvPr/>
          </p:nvSpPr>
          <p:spPr>
            <a:xfrm>
              <a:off x="5295960" y="4224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4" name="Straight Connector 81"/>
            <p:cNvSpPr/>
            <p:nvPr/>
          </p:nvSpPr>
          <p:spPr>
            <a:xfrm>
              <a:off x="5572440" y="4329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5" name="Straight Connector 82"/>
            <p:cNvSpPr/>
            <p:nvPr/>
          </p:nvSpPr>
          <p:spPr>
            <a:xfrm>
              <a:off x="5877000" y="431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6" name="Straight Connector 83"/>
            <p:cNvSpPr/>
            <p:nvPr/>
          </p:nvSpPr>
          <p:spPr>
            <a:xfrm>
              <a:off x="6024960" y="431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7" name="Straight Connector 84"/>
            <p:cNvSpPr/>
            <p:nvPr/>
          </p:nvSpPr>
          <p:spPr>
            <a:xfrm>
              <a:off x="4314960" y="34815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8" name="Straight Connector 85"/>
            <p:cNvSpPr/>
            <p:nvPr/>
          </p:nvSpPr>
          <p:spPr>
            <a:xfrm>
              <a:off x="3281040" y="27716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9" name="Straight Connector 86"/>
            <p:cNvSpPr/>
            <p:nvPr/>
          </p:nvSpPr>
          <p:spPr>
            <a:xfrm>
              <a:off x="3300120" y="27766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0" name="Straight Connector 87"/>
            <p:cNvSpPr/>
            <p:nvPr/>
          </p:nvSpPr>
          <p:spPr>
            <a:xfrm>
              <a:off x="3414600" y="2814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1" name="Straight Connector 88"/>
            <p:cNvSpPr/>
            <p:nvPr/>
          </p:nvSpPr>
          <p:spPr>
            <a:xfrm>
              <a:off x="3471840" y="2814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2" name="Straight Connector 89"/>
            <p:cNvSpPr/>
            <p:nvPr/>
          </p:nvSpPr>
          <p:spPr>
            <a:xfrm>
              <a:off x="3538440" y="2838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3" name="Straight Connector 90"/>
            <p:cNvSpPr/>
            <p:nvPr/>
          </p:nvSpPr>
          <p:spPr>
            <a:xfrm>
              <a:off x="3862440" y="29862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4" name="Straight Connector 91"/>
            <p:cNvSpPr/>
            <p:nvPr/>
          </p:nvSpPr>
          <p:spPr>
            <a:xfrm>
              <a:off x="3905280" y="30146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Straight Connector 92"/>
            <p:cNvSpPr/>
            <p:nvPr/>
          </p:nvSpPr>
          <p:spPr>
            <a:xfrm>
              <a:off x="3971880" y="31575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6" name="Straight Connector 93"/>
            <p:cNvSpPr/>
            <p:nvPr/>
          </p:nvSpPr>
          <p:spPr>
            <a:xfrm>
              <a:off x="4002120" y="31669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7" name="Straight Connector 94"/>
            <p:cNvSpPr/>
            <p:nvPr/>
          </p:nvSpPr>
          <p:spPr>
            <a:xfrm>
              <a:off x="4043160" y="32814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8" name="Straight Connector 95"/>
            <p:cNvSpPr/>
            <p:nvPr/>
          </p:nvSpPr>
          <p:spPr>
            <a:xfrm>
              <a:off x="4067280" y="32907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Straight Connector 96"/>
            <p:cNvSpPr/>
            <p:nvPr/>
          </p:nvSpPr>
          <p:spPr>
            <a:xfrm>
              <a:off x="4267080" y="34718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0" name="Straight Connector 97"/>
            <p:cNvSpPr/>
            <p:nvPr/>
          </p:nvSpPr>
          <p:spPr>
            <a:xfrm>
              <a:off x="4148280" y="33433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1" name="Straight Connector 98"/>
            <p:cNvSpPr/>
            <p:nvPr/>
          </p:nvSpPr>
          <p:spPr>
            <a:xfrm>
              <a:off x="4243320" y="3467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Straight Connector 99"/>
            <p:cNvSpPr/>
            <p:nvPr/>
          </p:nvSpPr>
          <p:spPr>
            <a:xfrm>
              <a:off x="4205160" y="34527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3" name="Straight Connector 100"/>
            <p:cNvSpPr/>
            <p:nvPr/>
          </p:nvSpPr>
          <p:spPr>
            <a:xfrm>
              <a:off x="2766960" y="2076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4" name="Straight Connector 101"/>
            <p:cNvSpPr/>
            <p:nvPr/>
          </p:nvSpPr>
          <p:spPr>
            <a:xfrm>
              <a:off x="2819160" y="2076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5" name="Straight Connector 102"/>
            <p:cNvSpPr/>
            <p:nvPr/>
          </p:nvSpPr>
          <p:spPr>
            <a:xfrm>
              <a:off x="2866680" y="2109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6" name="Straight Connector 103"/>
            <p:cNvSpPr/>
            <p:nvPr/>
          </p:nvSpPr>
          <p:spPr>
            <a:xfrm>
              <a:off x="2971440" y="2376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Straight Connector 104"/>
            <p:cNvSpPr/>
            <p:nvPr/>
          </p:nvSpPr>
          <p:spPr>
            <a:xfrm>
              <a:off x="3043080" y="260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8" name="Straight Connector 105"/>
            <p:cNvSpPr/>
            <p:nvPr/>
          </p:nvSpPr>
          <p:spPr>
            <a:xfrm>
              <a:off x="3081240" y="26146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9" name="Straight Connector 106"/>
            <p:cNvSpPr/>
            <p:nvPr/>
          </p:nvSpPr>
          <p:spPr>
            <a:xfrm>
              <a:off x="3105000" y="2700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Straight Connector 107"/>
            <p:cNvSpPr/>
            <p:nvPr/>
          </p:nvSpPr>
          <p:spPr>
            <a:xfrm>
              <a:off x="3138480" y="2733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1" name="Straight Connector 108"/>
            <p:cNvSpPr/>
            <p:nvPr/>
          </p:nvSpPr>
          <p:spPr>
            <a:xfrm>
              <a:off x="3200400" y="2757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2" name="Straight Connector 109"/>
            <p:cNvSpPr/>
            <p:nvPr/>
          </p:nvSpPr>
          <p:spPr>
            <a:xfrm>
              <a:off x="2643120" y="2000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3" name="Straight Connector 110"/>
            <p:cNvSpPr/>
            <p:nvPr/>
          </p:nvSpPr>
          <p:spPr>
            <a:xfrm>
              <a:off x="2485800" y="1947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4" name="Straight Connector 111"/>
            <p:cNvSpPr/>
            <p:nvPr/>
          </p:nvSpPr>
          <p:spPr>
            <a:xfrm>
              <a:off x="2290320" y="188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Straight Connector 112"/>
            <p:cNvSpPr/>
            <p:nvPr/>
          </p:nvSpPr>
          <p:spPr>
            <a:xfrm>
              <a:off x="1971360" y="188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4"/>
          <p:cNvSpPr/>
          <p:nvPr/>
        </p:nvSpPr>
        <p:spPr>
          <a:xfrm>
            <a:off x="392040" y="2214720"/>
            <a:ext cx="2822760" cy="2346120"/>
          </a:xfrm>
          <a:prstGeom prst="rect">
            <a:avLst/>
          </a:prstGeom>
          <a:solidFill>
            <a:srgbClr val="cdcdcf"/>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Patients with mRCC and PD on first-line sunitinib</a:t>
            </a:r>
            <a:br>
              <a:rPr sz="1600"/>
            </a:br>
            <a:r>
              <a:rPr b="0" lang="en-US" sz="1600" spc="-1" strike="noStrike">
                <a:solidFill>
                  <a:srgbClr val="000000"/>
                </a:solidFill>
                <a:latin typeface="Arial"/>
                <a:ea typeface="Geneva"/>
              </a:rPr>
              <a:t>(N = 512)</a:t>
            </a:r>
            <a:endParaRPr b="1" lang="en-US" sz="1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Stratification factors:</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Duration of sunitinib therapy (≤ or &gt; 6 mos)</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MSKCC risk group</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Histology (clear cell or </a:t>
            </a:r>
            <a:br>
              <a:rPr sz="1600"/>
            </a:br>
            <a:r>
              <a:rPr b="0" lang="en-US" sz="1600" spc="-1" strike="noStrike">
                <a:solidFill>
                  <a:srgbClr val="000000"/>
                </a:solidFill>
                <a:latin typeface="Arial"/>
                <a:ea typeface="Geneva"/>
              </a:rPr>
              <a:t>non–clear cell)</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Nephrectomy status</a:t>
            </a:r>
            <a:endParaRPr b="1" lang="en-US" sz="1600" spc="-1" strike="noStrike">
              <a:solidFill>
                <a:srgbClr val="ffffff"/>
              </a:solidFill>
              <a:latin typeface="Arial"/>
            </a:endParaRPr>
          </a:p>
        </p:txBody>
      </p:sp>
      <p:pic>
        <p:nvPicPr>
          <p:cNvPr id="527" name="TextBox 5" descr=""/>
          <p:cNvPicPr/>
          <p:nvPr/>
        </p:nvPicPr>
        <p:blipFill>
          <a:blip r:embed="rId1"/>
          <a:stretch/>
        </p:blipFill>
        <p:spPr>
          <a:xfrm>
            <a:off x="3633840" y="2146320"/>
            <a:ext cx="603360" cy="2541600"/>
          </a:xfrm>
          <a:prstGeom prst="rect">
            <a:avLst/>
          </a:prstGeom>
          <a:ln w="0">
            <a:noFill/>
          </a:ln>
        </p:spPr>
      </p:pic>
      <p:cxnSp>
        <p:nvCxnSpPr>
          <p:cNvPr id="528" name="Straight Arrow Connector 7"/>
          <p:cNvCxnSpPr/>
          <p:nvPr/>
        </p:nvCxnSpPr>
        <p:spPr>
          <a:xfrm>
            <a:off x="3206520" y="3395160"/>
            <a:ext cx="425880" cy="1080"/>
          </a:xfrm>
          <a:prstGeom prst="straightConnector1">
            <a:avLst/>
          </a:prstGeom>
          <a:ln w="28440">
            <a:solidFill>
              <a:srgbClr val="ffffff"/>
            </a:solidFill>
            <a:miter/>
            <a:tailEnd len="med" type="triangle" w="med"/>
          </a:ln>
        </p:spPr>
      </p:cxnSp>
      <p:sp>
        <p:nvSpPr>
          <p:cNvPr id="529" name="TextBox 9"/>
          <p:cNvSpPr/>
          <p:nvPr/>
        </p:nvSpPr>
        <p:spPr>
          <a:xfrm>
            <a:off x="4703760" y="2481120"/>
            <a:ext cx="2449440" cy="750600"/>
          </a:xfrm>
          <a:prstGeom prst="rect">
            <a:avLst/>
          </a:prstGeom>
          <a:solidFill>
            <a:srgbClr val="f6a108"/>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Temsirolimus </a:t>
            </a:r>
            <a:br>
              <a:rPr sz="1600"/>
            </a:br>
            <a:r>
              <a:rPr b="1" lang="en-US" sz="1600" spc="-1" strike="noStrike">
                <a:solidFill>
                  <a:srgbClr val="000000"/>
                </a:solidFill>
                <a:latin typeface="Arial"/>
                <a:ea typeface="Geneva"/>
              </a:rPr>
              <a:t>25 mg IV weekly*</a:t>
            </a:r>
            <a:br>
              <a:rPr sz="1600"/>
            </a:br>
            <a:r>
              <a:rPr b="0" lang="en-US" sz="1600" spc="-1" strike="noStrike">
                <a:solidFill>
                  <a:srgbClr val="000000"/>
                </a:solidFill>
                <a:latin typeface="Arial"/>
                <a:ea typeface="Geneva"/>
              </a:rPr>
              <a:t>(n = 259)</a:t>
            </a:r>
            <a:endParaRPr b="1" lang="en-US" sz="1600" spc="-1" strike="noStrike">
              <a:solidFill>
                <a:srgbClr val="ffffff"/>
              </a:solidFill>
              <a:latin typeface="Arial"/>
            </a:endParaRPr>
          </a:p>
        </p:txBody>
      </p:sp>
      <p:sp>
        <p:nvSpPr>
          <p:cNvPr id="530" name="TextBox 10"/>
          <p:cNvSpPr/>
          <p:nvPr/>
        </p:nvSpPr>
        <p:spPr>
          <a:xfrm>
            <a:off x="3524400" y="4716360"/>
            <a:ext cx="634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Geneva"/>
              </a:rPr>
              <a:t>1:1</a:t>
            </a:r>
            <a:endParaRPr b="1" lang="en-US" sz="1600" spc="-1" strike="noStrike">
              <a:solidFill>
                <a:srgbClr val="ffffff"/>
              </a:solidFill>
              <a:latin typeface="Arial"/>
            </a:endParaRPr>
          </a:p>
        </p:txBody>
      </p:sp>
      <p:sp>
        <p:nvSpPr>
          <p:cNvPr id="531" name="TextBox 11"/>
          <p:cNvSpPr/>
          <p:nvPr/>
        </p:nvSpPr>
        <p:spPr>
          <a:xfrm>
            <a:off x="4694400" y="3686040"/>
            <a:ext cx="2449440" cy="750600"/>
          </a:xfrm>
          <a:prstGeom prst="rect">
            <a:avLst/>
          </a:prstGeom>
          <a:solidFill>
            <a:srgbClr val="5aaace"/>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Sorafenib </a:t>
            </a:r>
            <a:br>
              <a:rPr sz="1600"/>
            </a:br>
            <a:r>
              <a:rPr b="1" lang="en-US" sz="1600" spc="-1" strike="noStrike">
                <a:solidFill>
                  <a:srgbClr val="000000"/>
                </a:solidFill>
                <a:latin typeface="Arial"/>
                <a:ea typeface="Geneva"/>
              </a:rPr>
              <a:t>400 mg oral BID*</a:t>
            </a:r>
            <a:br>
              <a:rPr sz="1600"/>
            </a:br>
            <a:r>
              <a:rPr b="0" lang="en-US" sz="1600" spc="-1" strike="noStrike">
                <a:solidFill>
                  <a:srgbClr val="000000"/>
                </a:solidFill>
                <a:latin typeface="Arial"/>
                <a:ea typeface="Geneva"/>
              </a:rPr>
              <a:t>(n = 253)</a:t>
            </a:r>
            <a:endParaRPr b="1" lang="en-US" sz="1600" spc="-1" strike="noStrike">
              <a:solidFill>
                <a:srgbClr val="ffffff"/>
              </a:solidFill>
              <a:latin typeface="Arial"/>
            </a:endParaRPr>
          </a:p>
        </p:txBody>
      </p:sp>
      <p:grpSp>
        <p:nvGrpSpPr>
          <p:cNvPr id="532" name="Group 16"/>
          <p:cNvGrpSpPr/>
          <p:nvPr/>
        </p:nvGrpSpPr>
        <p:grpSpPr>
          <a:xfrm>
            <a:off x="4094280" y="2844360"/>
            <a:ext cx="590760" cy="1224360"/>
            <a:chOff x="4094280" y="2844360"/>
            <a:chExt cx="590760" cy="1224360"/>
          </a:xfrm>
        </p:grpSpPr>
        <p:cxnSp>
          <p:nvCxnSpPr>
            <p:cNvPr id="533" name="Straight Arrow Connector 13"/>
            <p:cNvCxnSpPr/>
            <p:nvPr/>
          </p:nvCxnSpPr>
          <p:spPr>
            <a:xfrm flipV="1">
              <a:off x="4094280" y="2844360"/>
              <a:ext cx="591120" cy="629280"/>
            </a:xfrm>
            <a:prstGeom prst="straightConnector1">
              <a:avLst/>
            </a:prstGeom>
            <a:ln w="28440">
              <a:solidFill>
                <a:srgbClr val="ffffff"/>
              </a:solidFill>
              <a:miter/>
              <a:tailEnd len="med" type="triangle" w="med"/>
            </a:ln>
          </p:spPr>
        </p:cxnSp>
        <p:cxnSp>
          <p:nvCxnSpPr>
            <p:cNvPr id="534" name="Straight Arrow Connector 15"/>
            <p:cNvCxnSpPr/>
            <p:nvPr/>
          </p:nvCxnSpPr>
          <p:spPr>
            <a:xfrm>
              <a:off x="4112640" y="3461760"/>
              <a:ext cx="556200" cy="607320"/>
            </a:xfrm>
            <a:prstGeom prst="straightConnector1">
              <a:avLst/>
            </a:prstGeom>
            <a:ln w="28440">
              <a:solidFill>
                <a:srgbClr val="ffffff"/>
              </a:solidFill>
              <a:miter/>
              <a:tailEnd len="med" type="triangle" w="med"/>
            </a:ln>
          </p:spPr>
        </p:cxnSp>
      </p:grpSp>
      <p:sp>
        <p:nvSpPr>
          <p:cNvPr id="535" name="TextBox 17"/>
          <p:cNvSpPr/>
          <p:nvPr/>
        </p:nvSpPr>
        <p:spPr>
          <a:xfrm>
            <a:off x="4575240" y="4633920"/>
            <a:ext cx="3720960" cy="531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3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Treat until PD, unacceptable toxicity, or discontinuation for any other reason </a:t>
            </a:r>
            <a:endParaRPr b="1" lang="en-US" sz="1600" spc="-1" strike="noStrike">
              <a:solidFill>
                <a:srgbClr val="ffffff"/>
              </a:solidFill>
              <a:latin typeface="Arial"/>
            </a:endParaRPr>
          </a:p>
        </p:txBody>
      </p:sp>
      <p:sp>
        <p:nvSpPr>
          <p:cNvPr id="536" name="TextBox 11"/>
          <p:cNvSpPr/>
          <p:nvPr/>
        </p:nvSpPr>
        <p:spPr>
          <a:xfrm>
            <a:off x="7605720" y="2629800"/>
            <a:ext cx="1241280" cy="1736280"/>
          </a:xfrm>
          <a:prstGeom prst="rect">
            <a:avLst/>
          </a:prstGeom>
          <a:noFill/>
          <a:ln w="22320">
            <a:solidFill>
              <a:srgbClr val="00003e"/>
            </a:solidFill>
            <a:miter/>
          </a:ln>
        </p:spPr>
        <p:style>
          <a:lnRef idx="0"/>
          <a:fillRef idx="0"/>
          <a:effectRef idx="0"/>
          <a:fontRef idx="minor"/>
        </p:style>
        <p:txBody>
          <a:bodyPr lIns="90000" rIns="90000" tIns="46800" bIns="46800" anchor="ctr" anchorCtr="1">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Geneva"/>
              </a:rPr>
              <a:t>Primary endpoint: </a:t>
            </a:r>
            <a:r>
              <a:rPr b="0" lang="en-US" sz="1600" spc="-1" strike="noStrike">
                <a:solidFill>
                  <a:srgbClr val="ffffff"/>
                </a:solidFill>
                <a:latin typeface="Arial"/>
                <a:ea typeface="Geneva"/>
              </a:rPr>
              <a:t>PFS </a:t>
            </a:r>
            <a:br>
              <a:rPr sz="1600"/>
            </a:br>
            <a:r>
              <a:rPr b="0" lang="en-US" sz="1600" spc="-1" strike="noStrike">
                <a:solidFill>
                  <a:srgbClr val="ffffff"/>
                </a:solidFill>
                <a:latin typeface="Arial"/>
                <a:ea typeface="Geneva"/>
              </a:rPr>
              <a:t>(per IRC)</a:t>
            </a:r>
            <a:endParaRPr b="1" lang="en-US" sz="1600" spc="-1" strike="noStrike">
              <a:solidFill>
                <a:srgbClr val="ffffff"/>
              </a:solidFill>
              <a:latin typeface="Arial"/>
            </a:endParaRPr>
          </a:p>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37" name="TextBox 19"/>
          <p:cNvSpPr/>
          <p:nvPr/>
        </p:nvSpPr>
        <p:spPr>
          <a:xfrm>
            <a:off x="284040" y="6369120"/>
            <a:ext cx="79632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ClinicalTrials.gov. NCT00474786.</a:t>
            </a:r>
            <a:endParaRPr b="1" lang="en-US" sz="1400" spc="-1" strike="noStrike">
              <a:solidFill>
                <a:srgbClr val="ffffff"/>
              </a:solidFill>
              <a:latin typeface="Arial"/>
            </a:endParaRPr>
          </a:p>
        </p:txBody>
      </p:sp>
      <p:sp>
        <p:nvSpPr>
          <p:cNvPr id="538" name="TextBox 20"/>
          <p:cNvSpPr/>
          <p:nvPr/>
        </p:nvSpPr>
        <p:spPr>
          <a:xfrm>
            <a:off x="403200" y="5357880"/>
            <a:ext cx="844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Dose reductions were allowed: temsirolimus (to 20 mg, then 15 mg), sorafenib (to 400 mg/day, then every other day).</a:t>
            </a:r>
            <a:endParaRPr b="1" lang="en-US" sz="1600" spc="-1" strike="noStrike">
              <a:solidFill>
                <a:srgbClr val="ffffff"/>
              </a:solidFill>
              <a:latin typeface="Arial"/>
            </a:endParaRPr>
          </a:p>
        </p:txBody>
      </p:sp>
      <p:sp>
        <p:nvSpPr>
          <p:cNvPr id="5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Geneva"/>
              </a:rPr>
              <a:t>INTORSECT Study Design</a:t>
            </a:r>
            <a:endParaRPr b="1" lang="en-US" sz="3200" spc="-1" strike="noStrike">
              <a:solidFill>
                <a:srgbClr val="f8f45a"/>
              </a:solidFill>
              <a:latin typeface="Arial"/>
            </a:endParaRPr>
          </a:p>
        </p:txBody>
      </p:sp>
      <p:cxnSp>
        <p:nvCxnSpPr>
          <p:cNvPr id="540" name="Straight Arrow Connector 19"/>
          <p:cNvCxnSpPr/>
          <p:nvPr/>
        </p:nvCxnSpPr>
        <p:spPr>
          <a:xfrm>
            <a:off x="7140600" y="2833200"/>
            <a:ext cx="426240" cy="1080"/>
          </a:xfrm>
          <a:prstGeom prst="straightConnector1">
            <a:avLst/>
          </a:prstGeom>
          <a:ln w="28440">
            <a:solidFill>
              <a:srgbClr val="ffffff"/>
            </a:solidFill>
            <a:miter/>
            <a:tailEnd len="med" type="triangle" w="med"/>
          </a:ln>
        </p:spPr>
      </p:cxnSp>
      <p:cxnSp>
        <p:nvCxnSpPr>
          <p:cNvPr id="541" name="Straight Arrow Connector 20"/>
          <p:cNvCxnSpPr/>
          <p:nvPr/>
        </p:nvCxnSpPr>
        <p:spPr>
          <a:xfrm>
            <a:off x="7140600" y="4071600"/>
            <a:ext cx="426240" cy="1080"/>
          </a:xfrm>
          <a:prstGeom prst="straightConnector1">
            <a:avLst/>
          </a:prstGeom>
          <a:ln w="28440">
            <a:solidFill>
              <a:srgbClr val="ffffff"/>
            </a:solidFill>
            <a:miter/>
            <a:tailEnd len="med" type="triangle"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5"/>
          <p:cNvGrpSpPr/>
          <p:nvPr/>
        </p:nvGrpSpPr>
        <p:grpSpPr>
          <a:xfrm>
            <a:off x="2371680" y="1994040"/>
            <a:ext cx="5451480" cy="3154320"/>
            <a:chOff x="2371680" y="1994040"/>
            <a:chExt cx="5451480" cy="3154320"/>
          </a:xfrm>
        </p:grpSpPr>
        <p:sp>
          <p:nvSpPr>
            <p:cNvPr id="543" name="Freeform 1"/>
            <p:cNvSpPr/>
            <p:nvPr/>
          </p:nvSpPr>
          <p:spPr>
            <a:xfrm>
              <a:off x="2371680" y="1994040"/>
              <a:ext cx="1174680" cy="1787400"/>
            </a:xfrm>
            <a:custGeom>
              <a:avLst/>
              <a:gdLst>
                <a:gd name="textAreaLeft" fmla="*/ 0 w 1174680"/>
                <a:gd name="textAreaRight" fmla="*/ 1175040 w 1174680"/>
                <a:gd name="textAreaTop" fmla="*/ 0 h 1787400"/>
                <a:gd name="textAreaBottom" fmla="*/ 1787760 h 1787400"/>
              </a:gdLst>
              <a:ahLst/>
              <a:rect l="textAreaLeft" t="textAreaTop" r="textAreaRight" b="textAreaBottom"/>
              <a:pathLst>
                <a:path w="1174750" h="1787525">
                  <a:moveTo>
                    <a:pt x="0" y="0"/>
                  </a:moveTo>
                  <a:cubicBezTo>
                    <a:pt x="5292" y="3175"/>
                    <a:pt x="11190" y="5509"/>
                    <a:pt x="15875" y="9525"/>
                  </a:cubicBezTo>
                  <a:cubicBezTo>
                    <a:pt x="18772" y="12008"/>
                    <a:pt x="19527" y="16352"/>
                    <a:pt x="22225" y="19050"/>
                  </a:cubicBezTo>
                  <a:cubicBezTo>
                    <a:pt x="24923" y="21748"/>
                    <a:pt x="28575" y="23283"/>
                    <a:pt x="31750" y="25400"/>
                  </a:cubicBezTo>
                  <a:lnTo>
                    <a:pt x="44450" y="44450"/>
                  </a:lnTo>
                  <a:cubicBezTo>
                    <a:pt x="54371" y="59331"/>
                    <a:pt x="47036" y="53348"/>
                    <a:pt x="69850" y="57150"/>
                  </a:cubicBezTo>
                  <a:cubicBezTo>
                    <a:pt x="98425" y="56092"/>
                    <a:pt x="126980" y="53975"/>
                    <a:pt x="155575" y="53975"/>
                  </a:cubicBezTo>
                  <a:cubicBezTo>
                    <a:pt x="162013" y="53975"/>
                    <a:pt x="169780" y="52911"/>
                    <a:pt x="174625" y="57150"/>
                  </a:cubicBezTo>
                  <a:cubicBezTo>
                    <a:pt x="179662" y="61558"/>
                    <a:pt x="174625" y="74083"/>
                    <a:pt x="180975" y="76200"/>
                  </a:cubicBezTo>
                  <a:cubicBezTo>
                    <a:pt x="202748" y="83458"/>
                    <a:pt x="175724" y="74887"/>
                    <a:pt x="206375" y="82550"/>
                  </a:cubicBezTo>
                  <a:cubicBezTo>
                    <a:pt x="209622" y="83362"/>
                    <a:pt x="212682" y="84806"/>
                    <a:pt x="215900" y="85725"/>
                  </a:cubicBezTo>
                  <a:cubicBezTo>
                    <a:pt x="220096" y="86924"/>
                    <a:pt x="224367" y="87842"/>
                    <a:pt x="228600" y="88900"/>
                  </a:cubicBezTo>
                  <a:cubicBezTo>
                    <a:pt x="240799" y="97032"/>
                    <a:pt x="248430" y="98592"/>
                    <a:pt x="254000" y="111125"/>
                  </a:cubicBezTo>
                  <a:cubicBezTo>
                    <a:pt x="256718" y="117242"/>
                    <a:pt x="260350" y="130175"/>
                    <a:pt x="260350" y="130175"/>
                  </a:cubicBezTo>
                  <a:cubicBezTo>
                    <a:pt x="261408" y="144992"/>
                    <a:pt x="261885" y="159861"/>
                    <a:pt x="263525" y="174625"/>
                  </a:cubicBezTo>
                  <a:cubicBezTo>
                    <a:pt x="264007" y="178962"/>
                    <a:pt x="265983" y="183021"/>
                    <a:pt x="266700" y="187325"/>
                  </a:cubicBezTo>
                  <a:cubicBezTo>
                    <a:pt x="268103" y="195741"/>
                    <a:pt x="268472" y="204309"/>
                    <a:pt x="269875" y="212725"/>
                  </a:cubicBezTo>
                  <a:cubicBezTo>
                    <a:pt x="270592" y="217029"/>
                    <a:pt x="270629" y="221794"/>
                    <a:pt x="273050" y="225425"/>
                  </a:cubicBezTo>
                  <a:cubicBezTo>
                    <a:pt x="275167" y="228600"/>
                    <a:pt x="279400" y="229658"/>
                    <a:pt x="282575" y="231775"/>
                  </a:cubicBezTo>
                  <a:cubicBezTo>
                    <a:pt x="284692" y="234950"/>
                    <a:pt x="287803" y="237653"/>
                    <a:pt x="288925" y="241300"/>
                  </a:cubicBezTo>
                  <a:cubicBezTo>
                    <a:pt x="296873" y="267132"/>
                    <a:pt x="294681" y="278420"/>
                    <a:pt x="298450" y="304800"/>
                  </a:cubicBezTo>
                  <a:cubicBezTo>
                    <a:pt x="300169" y="316835"/>
                    <a:pt x="305976" y="327733"/>
                    <a:pt x="307975" y="339725"/>
                  </a:cubicBezTo>
                  <a:cubicBezTo>
                    <a:pt x="309378" y="348141"/>
                    <a:pt x="309578" y="356739"/>
                    <a:pt x="311150" y="365125"/>
                  </a:cubicBezTo>
                  <a:cubicBezTo>
                    <a:pt x="312758" y="373703"/>
                    <a:pt x="317500" y="390525"/>
                    <a:pt x="317500" y="390525"/>
                  </a:cubicBezTo>
                  <a:cubicBezTo>
                    <a:pt x="312873" y="473817"/>
                    <a:pt x="307417" y="547130"/>
                    <a:pt x="317500" y="635000"/>
                  </a:cubicBezTo>
                  <a:cubicBezTo>
                    <a:pt x="318263" y="641650"/>
                    <a:pt x="336550" y="641350"/>
                    <a:pt x="336550" y="641350"/>
                  </a:cubicBezTo>
                  <a:cubicBezTo>
                    <a:pt x="338671" y="645592"/>
                    <a:pt x="345452" y="657658"/>
                    <a:pt x="346075" y="663575"/>
                  </a:cubicBezTo>
                  <a:cubicBezTo>
                    <a:pt x="353426" y="733414"/>
                    <a:pt x="345196" y="693763"/>
                    <a:pt x="352425" y="758825"/>
                  </a:cubicBezTo>
                  <a:cubicBezTo>
                    <a:pt x="352907" y="763162"/>
                    <a:pt x="354401" y="767329"/>
                    <a:pt x="355600" y="771525"/>
                  </a:cubicBezTo>
                  <a:cubicBezTo>
                    <a:pt x="356519" y="774743"/>
                    <a:pt x="355717" y="779691"/>
                    <a:pt x="358775" y="781050"/>
                  </a:cubicBezTo>
                  <a:cubicBezTo>
                    <a:pt x="366572" y="784515"/>
                    <a:pt x="375708" y="783167"/>
                    <a:pt x="384175" y="784225"/>
                  </a:cubicBezTo>
                  <a:cubicBezTo>
                    <a:pt x="387350" y="786342"/>
                    <a:pt x="391187" y="787703"/>
                    <a:pt x="393700" y="790575"/>
                  </a:cubicBezTo>
                  <a:cubicBezTo>
                    <a:pt x="402640" y="800792"/>
                    <a:pt x="406947" y="810719"/>
                    <a:pt x="412750" y="822325"/>
                  </a:cubicBezTo>
                  <a:cubicBezTo>
                    <a:pt x="412764" y="822410"/>
                    <a:pt x="418056" y="855423"/>
                    <a:pt x="419100" y="857250"/>
                  </a:cubicBezTo>
                  <a:cubicBezTo>
                    <a:pt x="421996" y="862319"/>
                    <a:pt x="433261" y="865145"/>
                    <a:pt x="438150" y="866775"/>
                  </a:cubicBezTo>
                  <a:cubicBezTo>
                    <a:pt x="441325" y="868892"/>
                    <a:pt x="444153" y="871657"/>
                    <a:pt x="447675" y="873125"/>
                  </a:cubicBezTo>
                  <a:lnTo>
                    <a:pt x="485775" y="885825"/>
                  </a:lnTo>
                  <a:cubicBezTo>
                    <a:pt x="491629" y="887776"/>
                    <a:pt x="496032" y="892796"/>
                    <a:pt x="501650" y="895350"/>
                  </a:cubicBezTo>
                  <a:cubicBezTo>
                    <a:pt x="507744" y="898120"/>
                    <a:pt x="520700" y="901700"/>
                    <a:pt x="520700" y="901700"/>
                  </a:cubicBezTo>
                  <a:cubicBezTo>
                    <a:pt x="523875" y="903817"/>
                    <a:pt x="526738" y="906500"/>
                    <a:pt x="530225" y="908050"/>
                  </a:cubicBezTo>
                  <a:cubicBezTo>
                    <a:pt x="536342" y="910768"/>
                    <a:pt x="549275" y="914400"/>
                    <a:pt x="549275" y="914400"/>
                  </a:cubicBezTo>
                  <a:cubicBezTo>
                    <a:pt x="551392" y="917575"/>
                    <a:pt x="553918" y="920512"/>
                    <a:pt x="555625" y="923925"/>
                  </a:cubicBezTo>
                  <a:cubicBezTo>
                    <a:pt x="562042" y="936759"/>
                    <a:pt x="558853" y="951671"/>
                    <a:pt x="561975" y="965200"/>
                  </a:cubicBezTo>
                  <a:cubicBezTo>
                    <a:pt x="562833" y="968918"/>
                    <a:pt x="566618" y="971312"/>
                    <a:pt x="568325" y="974725"/>
                  </a:cubicBezTo>
                  <a:cubicBezTo>
                    <a:pt x="569822" y="977718"/>
                    <a:pt x="569409" y="981637"/>
                    <a:pt x="571500" y="984250"/>
                  </a:cubicBezTo>
                  <a:cubicBezTo>
                    <a:pt x="573884" y="987230"/>
                    <a:pt x="577850" y="988483"/>
                    <a:pt x="581025" y="990600"/>
                  </a:cubicBezTo>
                  <a:lnTo>
                    <a:pt x="593725" y="1009650"/>
                  </a:lnTo>
                  <a:cubicBezTo>
                    <a:pt x="595842" y="1012825"/>
                    <a:pt x="598868" y="1015555"/>
                    <a:pt x="600075" y="1019175"/>
                  </a:cubicBezTo>
                  <a:cubicBezTo>
                    <a:pt x="607688" y="1042013"/>
                    <a:pt x="598452" y="1013493"/>
                    <a:pt x="606425" y="1041400"/>
                  </a:cubicBezTo>
                  <a:cubicBezTo>
                    <a:pt x="607344" y="1044618"/>
                    <a:pt x="608788" y="1047678"/>
                    <a:pt x="609600" y="1050925"/>
                  </a:cubicBezTo>
                  <a:cubicBezTo>
                    <a:pt x="610909" y="1056160"/>
                    <a:pt x="611810" y="1061491"/>
                    <a:pt x="612775" y="1066800"/>
                  </a:cubicBezTo>
                  <a:cubicBezTo>
                    <a:pt x="613927" y="1073134"/>
                    <a:pt x="614389" y="1079605"/>
                    <a:pt x="615950" y="1085850"/>
                  </a:cubicBezTo>
                  <a:cubicBezTo>
                    <a:pt x="617573" y="1092344"/>
                    <a:pt x="620183" y="1098550"/>
                    <a:pt x="622300" y="1104900"/>
                  </a:cubicBezTo>
                  <a:lnTo>
                    <a:pt x="625475" y="1114425"/>
                  </a:lnTo>
                  <a:lnTo>
                    <a:pt x="628650" y="1123950"/>
                  </a:lnTo>
                  <a:lnTo>
                    <a:pt x="631825" y="1133475"/>
                  </a:lnTo>
                  <a:cubicBezTo>
                    <a:pt x="632883" y="1143000"/>
                    <a:pt x="633424" y="1152597"/>
                    <a:pt x="635000" y="1162050"/>
                  </a:cubicBezTo>
                  <a:cubicBezTo>
                    <a:pt x="635550" y="1165351"/>
                    <a:pt x="637363" y="1168328"/>
                    <a:pt x="638175" y="1171575"/>
                  </a:cubicBezTo>
                  <a:cubicBezTo>
                    <a:pt x="639484" y="1176810"/>
                    <a:pt x="640385" y="1182141"/>
                    <a:pt x="641350" y="1187450"/>
                  </a:cubicBezTo>
                  <a:cubicBezTo>
                    <a:pt x="642502" y="1193784"/>
                    <a:pt x="643128" y="1200216"/>
                    <a:pt x="644525" y="1206500"/>
                  </a:cubicBezTo>
                  <a:cubicBezTo>
                    <a:pt x="645835" y="1212396"/>
                    <a:pt x="652702" y="1228305"/>
                    <a:pt x="654050" y="1231900"/>
                  </a:cubicBezTo>
                  <a:cubicBezTo>
                    <a:pt x="655225" y="1235034"/>
                    <a:pt x="655728" y="1238432"/>
                    <a:pt x="657225" y="1241425"/>
                  </a:cubicBezTo>
                  <a:cubicBezTo>
                    <a:pt x="658932" y="1244838"/>
                    <a:pt x="662025" y="1247463"/>
                    <a:pt x="663575" y="1250950"/>
                  </a:cubicBezTo>
                  <a:cubicBezTo>
                    <a:pt x="666293" y="1257067"/>
                    <a:pt x="667808" y="1263650"/>
                    <a:pt x="669925" y="1270000"/>
                  </a:cubicBezTo>
                  <a:lnTo>
                    <a:pt x="676275" y="1289050"/>
                  </a:lnTo>
                  <a:cubicBezTo>
                    <a:pt x="679258" y="1298000"/>
                    <a:pt x="679246" y="1302695"/>
                    <a:pt x="688975" y="1308100"/>
                  </a:cubicBezTo>
                  <a:cubicBezTo>
                    <a:pt x="694826" y="1311351"/>
                    <a:pt x="701675" y="1312333"/>
                    <a:pt x="708025" y="1314450"/>
                  </a:cubicBezTo>
                  <a:lnTo>
                    <a:pt x="717550" y="1317625"/>
                  </a:lnTo>
                  <a:cubicBezTo>
                    <a:pt x="721988" y="1319104"/>
                    <a:pt x="749277" y="1323442"/>
                    <a:pt x="752475" y="1323975"/>
                  </a:cubicBezTo>
                  <a:cubicBezTo>
                    <a:pt x="775450" y="1331633"/>
                    <a:pt x="753485" y="1325146"/>
                    <a:pt x="800100" y="1330325"/>
                  </a:cubicBezTo>
                  <a:cubicBezTo>
                    <a:pt x="806498" y="1331036"/>
                    <a:pt x="812800" y="1332442"/>
                    <a:pt x="819150" y="1333500"/>
                  </a:cubicBezTo>
                  <a:cubicBezTo>
                    <a:pt x="835915" y="1339088"/>
                    <a:pt x="825890" y="1334819"/>
                    <a:pt x="847725" y="1349375"/>
                  </a:cubicBezTo>
                  <a:lnTo>
                    <a:pt x="857250" y="1355725"/>
                  </a:lnTo>
                  <a:cubicBezTo>
                    <a:pt x="859367" y="1358900"/>
                    <a:pt x="861157" y="1362319"/>
                    <a:pt x="863600" y="1365250"/>
                  </a:cubicBezTo>
                  <a:cubicBezTo>
                    <a:pt x="866475" y="1368699"/>
                    <a:pt x="870634" y="1371039"/>
                    <a:pt x="873125" y="1374775"/>
                  </a:cubicBezTo>
                  <a:cubicBezTo>
                    <a:pt x="875028" y="1377630"/>
                    <a:pt x="878946" y="1395148"/>
                    <a:pt x="879475" y="1397000"/>
                  </a:cubicBezTo>
                  <a:cubicBezTo>
                    <a:pt x="880394" y="1400218"/>
                    <a:pt x="881838" y="1403278"/>
                    <a:pt x="882650" y="1406525"/>
                  </a:cubicBezTo>
                  <a:lnTo>
                    <a:pt x="889000" y="1431925"/>
                  </a:lnTo>
                  <a:cubicBezTo>
                    <a:pt x="890058" y="1439333"/>
                    <a:pt x="890707" y="1446812"/>
                    <a:pt x="892175" y="1454150"/>
                  </a:cubicBezTo>
                  <a:cubicBezTo>
                    <a:pt x="892831" y="1457432"/>
                    <a:pt x="894431" y="1460457"/>
                    <a:pt x="895350" y="1463675"/>
                  </a:cubicBezTo>
                  <a:cubicBezTo>
                    <a:pt x="896549" y="1467871"/>
                    <a:pt x="897744" y="1472082"/>
                    <a:pt x="898525" y="1476375"/>
                  </a:cubicBezTo>
                  <a:cubicBezTo>
                    <a:pt x="905120" y="1512645"/>
                    <a:pt x="897122" y="1484865"/>
                    <a:pt x="908050" y="1517650"/>
                  </a:cubicBezTo>
                  <a:cubicBezTo>
                    <a:pt x="909108" y="1520825"/>
                    <a:pt x="909217" y="1524498"/>
                    <a:pt x="911225" y="1527175"/>
                  </a:cubicBezTo>
                  <a:lnTo>
                    <a:pt x="920750" y="1539875"/>
                  </a:lnTo>
                  <a:cubicBezTo>
                    <a:pt x="930676" y="1579577"/>
                    <a:pt x="917990" y="1530216"/>
                    <a:pt x="927100" y="1562100"/>
                  </a:cubicBezTo>
                  <a:cubicBezTo>
                    <a:pt x="928299" y="1566296"/>
                    <a:pt x="928743" y="1570714"/>
                    <a:pt x="930275" y="1574800"/>
                  </a:cubicBezTo>
                  <a:cubicBezTo>
                    <a:pt x="940435" y="1601893"/>
                    <a:pt x="933493" y="1574949"/>
                    <a:pt x="939800" y="1597025"/>
                  </a:cubicBezTo>
                  <a:cubicBezTo>
                    <a:pt x="946126" y="1619165"/>
                    <a:pt x="939913" y="1600708"/>
                    <a:pt x="946150" y="1628775"/>
                  </a:cubicBezTo>
                  <a:cubicBezTo>
                    <a:pt x="946876" y="1632042"/>
                    <a:pt x="947234" y="1635687"/>
                    <a:pt x="949325" y="1638300"/>
                  </a:cubicBezTo>
                  <a:cubicBezTo>
                    <a:pt x="951709" y="1641280"/>
                    <a:pt x="955675" y="1642533"/>
                    <a:pt x="958850" y="1644650"/>
                  </a:cubicBezTo>
                  <a:lnTo>
                    <a:pt x="971550" y="1663700"/>
                  </a:lnTo>
                  <a:cubicBezTo>
                    <a:pt x="973667" y="1666875"/>
                    <a:pt x="975202" y="1670527"/>
                    <a:pt x="977900" y="1673225"/>
                  </a:cubicBezTo>
                  <a:cubicBezTo>
                    <a:pt x="981075" y="1676400"/>
                    <a:pt x="983976" y="1679875"/>
                    <a:pt x="987425" y="1682750"/>
                  </a:cubicBezTo>
                  <a:cubicBezTo>
                    <a:pt x="1013947" y="1704852"/>
                    <a:pt x="978648" y="1670798"/>
                    <a:pt x="1006475" y="1698625"/>
                  </a:cubicBezTo>
                  <a:cubicBezTo>
                    <a:pt x="1011555" y="1713865"/>
                    <a:pt x="1005628" y="1704552"/>
                    <a:pt x="1019175" y="1711325"/>
                  </a:cubicBezTo>
                  <a:cubicBezTo>
                    <a:pt x="1022588" y="1713032"/>
                    <a:pt x="1025213" y="1716125"/>
                    <a:pt x="1028700" y="1717675"/>
                  </a:cubicBezTo>
                  <a:cubicBezTo>
                    <a:pt x="1051124" y="1727641"/>
                    <a:pt x="1061108" y="1725053"/>
                    <a:pt x="1089025" y="1727200"/>
                  </a:cubicBezTo>
                  <a:cubicBezTo>
                    <a:pt x="1105958" y="1752600"/>
                    <a:pt x="1083733" y="1721908"/>
                    <a:pt x="1104900" y="1743075"/>
                  </a:cubicBezTo>
                  <a:cubicBezTo>
                    <a:pt x="1107598" y="1745773"/>
                    <a:pt x="1107937" y="1750707"/>
                    <a:pt x="1111250" y="1752600"/>
                  </a:cubicBezTo>
                  <a:cubicBezTo>
                    <a:pt x="1115935" y="1755277"/>
                    <a:pt x="1121833" y="1754717"/>
                    <a:pt x="1127125" y="1755775"/>
                  </a:cubicBezTo>
                  <a:cubicBezTo>
                    <a:pt x="1148559" y="1770064"/>
                    <a:pt x="1121729" y="1754156"/>
                    <a:pt x="1158875" y="1765300"/>
                  </a:cubicBezTo>
                  <a:cubicBezTo>
                    <a:pt x="1162530" y="1766396"/>
                    <a:pt x="1165225" y="1769533"/>
                    <a:pt x="1168400" y="1771650"/>
                  </a:cubicBezTo>
                  <a:cubicBezTo>
                    <a:pt x="1172323" y="1783420"/>
                    <a:pt x="1170078" y="1778182"/>
                    <a:pt x="1174750" y="17875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Freeform 2"/>
            <p:cNvSpPr/>
            <p:nvPr/>
          </p:nvSpPr>
          <p:spPr>
            <a:xfrm>
              <a:off x="3538440" y="3778560"/>
              <a:ext cx="1557360" cy="1127160"/>
            </a:xfrm>
            <a:custGeom>
              <a:avLst/>
              <a:gdLst>
                <a:gd name="textAreaLeft" fmla="*/ 0 w 1557360"/>
                <a:gd name="textAreaRight" fmla="*/ 1557720 w 1557360"/>
                <a:gd name="textAreaTop" fmla="*/ 0 h 1127160"/>
                <a:gd name="textAreaBottom" fmla="*/ 1127520 h 1127160"/>
              </a:gdLst>
              <a:ahLst/>
              <a:rect l="textAreaLeft" t="textAreaTop" r="textAreaRight" b="textAreaBottom"/>
              <a:pathLst>
                <a:path w="1557061" h="1127125">
                  <a:moveTo>
                    <a:pt x="4486" y="0"/>
                  </a:moveTo>
                  <a:cubicBezTo>
                    <a:pt x="89" y="21987"/>
                    <a:pt x="-2897" y="29464"/>
                    <a:pt x="4486" y="57150"/>
                  </a:cubicBezTo>
                  <a:cubicBezTo>
                    <a:pt x="5469" y="60837"/>
                    <a:pt x="10524" y="61950"/>
                    <a:pt x="14011" y="63500"/>
                  </a:cubicBezTo>
                  <a:cubicBezTo>
                    <a:pt x="20128" y="66218"/>
                    <a:pt x="33061" y="69850"/>
                    <a:pt x="33061" y="69850"/>
                  </a:cubicBezTo>
                  <a:cubicBezTo>
                    <a:pt x="35178" y="73025"/>
                    <a:pt x="37908" y="75868"/>
                    <a:pt x="39411" y="79375"/>
                  </a:cubicBezTo>
                  <a:cubicBezTo>
                    <a:pt x="40681" y="82339"/>
                    <a:pt x="43290" y="97893"/>
                    <a:pt x="45761" y="101600"/>
                  </a:cubicBezTo>
                  <a:cubicBezTo>
                    <a:pt x="48252" y="105336"/>
                    <a:pt x="52411" y="107676"/>
                    <a:pt x="55286" y="111125"/>
                  </a:cubicBezTo>
                  <a:cubicBezTo>
                    <a:pt x="68108" y="126511"/>
                    <a:pt x="53452" y="116558"/>
                    <a:pt x="74336" y="127000"/>
                  </a:cubicBezTo>
                  <a:cubicBezTo>
                    <a:pt x="76918" y="134747"/>
                    <a:pt x="77706" y="139895"/>
                    <a:pt x="83861" y="146050"/>
                  </a:cubicBezTo>
                  <a:cubicBezTo>
                    <a:pt x="86559" y="148748"/>
                    <a:pt x="90211" y="150283"/>
                    <a:pt x="93386" y="152400"/>
                  </a:cubicBezTo>
                  <a:cubicBezTo>
                    <a:pt x="94444" y="155575"/>
                    <a:pt x="94194" y="159558"/>
                    <a:pt x="96561" y="161925"/>
                  </a:cubicBezTo>
                  <a:cubicBezTo>
                    <a:pt x="98928" y="164292"/>
                    <a:pt x="104141" y="162377"/>
                    <a:pt x="106086" y="165100"/>
                  </a:cubicBezTo>
                  <a:cubicBezTo>
                    <a:pt x="111326" y="172435"/>
                    <a:pt x="113394" y="191159"/>
                    <a:pt x="115611" y="200025"/>
                  </a:cubicBezTo>
                  <a:cubicBezTo>
                    <a:pt x="116423" y="203272"/>
                    <a:pt x="116419" y="207183"/>
                    <a:pt x="118786" y="209550"/>
                  </a:cubicBezTo>
                  <a:cubicBezTo>
                    <a:pt x="138568" y="229332"/>
                    <a:pt x="132998" y="216073"/>
                    <a:pt x="150536" y="228600"/>
                  </a:cubicBezTo>
                  <a:cubicBezTo>
                    <a:pt x="154190" y="231210"/>
                    <a:pt x="156517" y="235368"/>
                    <a:pt x="160061" y="238125"/>
                  </a:cubicBezTo>
                  <a:cubicBezTo>
                    <a:pt x="176437" y="250862"/>
                    <a:pt x="174265" y="249210"/>
                    <a:pt x="188636" y="254000"/>
                  </a:cubicBezTo>
                  <a:cubicBezTo>
                    <a:pt x="198161" y="260350"/>
                    <a:pt x="199219" y="259292"/>
                    <a:pt x="204511" y="269875"/>
                  </a:cubicBezTo>
                  <a:cubicBezTo>
                    <a:pt x="206008" y="272868"/>
                    <a:pt x="205595" y="276787"/>
                    <a:pt x="207686" y="279400"/>
                  </a:cubicBezTo>
                  <a:cubicBezTo>
                    <a:pt x="210070" y="282380"/>
                    <a:pt x="214036" y="283633"/>
                    <a:pt x="217211" y="285750"/>
                  </a:cubicBezTo>
                  <a:cubicBezTo>
                    <a:pt x="251814" y="280807"/>
                    <a:pt x="252294" y="279277"/>
                    <a:pt x="299761" y="285750"/>
                  </a:cubicBezTo>
                  <a:cubicBezTo>
                    <a:pt x="303542" y="286266"/>
                    <a:pt x="305873" y="290393"/>
                    <a:pt x="309286" y="292100"/>
                  </a:cubicBezTo>
                  <a:cubicBezTo>
                    <a:pt x="312279" y="293597"/>
                    <a:pt x="315636" y="294217"/>
                    <a:pt x="318811" y="295275"/>
                  </a:cubicBezTo>
                  <a:cubicBezTo>
                    <a:pt x="330390" y="330013"/>
                    <a:pt x="311923" y="277396"/>
                    <a:pt x="328336" y="314325"/>
                  </a:cubicBezTo>
                  <a:cubicBezTo>
                    <a:pt x="346117" y="354333"/>
                    <a:pt x="324549" y="312489"/>
                    <a:pt x="337861" y="352425"/>
                  </a:cubicBezTo>
                  <a:cubicBezTo>
                    <a:pt x="339068" y="356045"/>
                    <a:pt x="342661" y="358463"/>
                    <a:pt x="344211" y="361950"/>
                  </a:cubicBezTo>
                  <a:cubicBezTo>
                    <a:pt x="346929" y="368067"/>
                    <a:pt x="350561" y="381000"/>
                    <a:pt x="350561" y="381000"/>
                  </a:cubicBezTo>
                  <a:cubicBezTo>
                    <a:pt x="350793" y="383784"/>
                    <a:pt x="353398" y="427610"/>
                    <a:pt x="356911" y="438150"/>
                  </a:cubicBezTo>
                  <a:cubicBezTo>
                    <a:pt x="358118" y="441770"/>
                    <a:pt x="361144" y="444500"/>
                    <a:pt x="363261" y="447675"/>
                  </a:cubicBezTo>
                  <a:cubicBezTo>
                    <a:pt x="368059" y="466869"/>
                    <a:pt x="365056" y="456235"/>
                    <a:pt x="372786" y="479425"/>
                  </a:cubicBezTo>
                  <a:cubicBezTo>
                    <a:pt x="373844" y="482600"/>
                    <a:pt x="373594" y="486583"/>
                    <a:pt x="375961" y="488950"/>
                  </a:cubicBezTo>
                  <a:cubicBezTo>
                    <a:pt x="388184" y="501173"/>
                    <a:pt x="381750" y="495984"/>
                    <a:pt x="395011" y="504825"/>
                  </a:cubicBezTo>
                  <a:lnTo>
                    <a:pt x="414061" y="533400"/>
                  </a:lnTo>
                  <a:cubicBezTo>
                    <a:pt x="416178" y="536575"/>
                    <a:pt x="416791" y="541718"/>
                    <a:pt x="420411" y="542925"/>
                  </a:cubicBezTo>
                  <a:cubicBezTo>
                    <a:pt x="423586" y="543983"/>
                    <a:pt x="426860" y="544782"/>
                    <a:pt x="429936" y="546100"/>
                  </a:cubicBezTo>
                  <a:cubicBezTo>
                    <a:pt x="434286" y="547964"/>
                    <a:pt x="438008" y="551458"/>
                    <a:pt x="442636" y="552450"/>
                  </a:cubicBezTo>
                  <a:cubicBezTo>
                    <a:pt x="453036" y="554679"/>
                    <a:pt x="463803" y="554567"/>
                    <a:pt x="474386" y="555625"/>
                  </a:cubicBezTo>
                  <a:cubicBezTo>
                    <a:pt x="480736" y="557742"/>
                    <a:pt x="489723" y="556406"/>
                    <a:pt x="493436" y="561975"/>
                  </a:cubicBezTo>
                  <a:cubicBezTo>
                    <a:pt x="502277" y="575236"/>
                    <a:pt x="497088" y="568802"/>
                    <a:pt x="509311" y="581025"/>
                  </a:cubicBezTo>
                  <a:cubicBezTo>
                    <a:pt x="549017" y="578543"/>
                    <a:pt x="565880" y="575223"/>
                    <a:pt x="604561" y="581025"/>
                  </a:cubicBezTo>
                  <a:cubicBezTo>
                    <a:pt x="611180" y="582018"/>
                    <a:pt x="623611" y="587375"/>
                    <a:pt x="623611" y="587375"/>
                  </a:cubicBezTo>
                  <a:cubicBezTo>
                    <a:pt x="630788" y="598140"/>
                    <a:pt x="630858" y="595932"/>
                    <a:pt x="633136" y="609600"/>
                  </a:cubicBezTo>
                  <a:cubicBezTo>
                    <a:pt x="634539" y="618016"/>
                    <a:pt x="634785" y="626605"/>
                    <a:pt x="636311" y="635000"/>
                  </a:cubicBezTo>
                  <a:cubicBezTo>
                    <a:pt x="636910" y="638293"/>
                    <a:pt x="637119" y="642158"/>
                    <a:pt x="639486" y="644525"/>
                  </a:cubicBezTo>
                  <a:cubicBezTo>
                    <a:pt x="642833" y="647872"/>
                    <a:pt x="648077" y="648527"/>
                    <a:pt x="652186" y="650875"/>
                  </a:cubicBezTo>
                  <a:cubicBezTo>
                    <a:pt x="655499" y="652768"/>
                    <a:pt x="658536" y="655108"/>
                    <a:pt x="661711" y="657225"/>
                  </a:cubicBezTo>
                  <a:cubicBezTo>
                    <a:pt x="678644" y="682625"/>
                    <a:pt x="656419" y="651933"/>
                    <a:pt x="677586" y="673100"/>
                  </a:cubicBezTo>
                  <a:cubicBezTo>
                    <a:pt x="680284" y="675798"/>
                    <a:pt x="681238" y="679927"/>
                    <a:pt x="683936" y="682625"/>
                  </a:cubicBezTo>
                  <a:cubicBezTo>
                    <a:pt x="686634" y="685323"/>
                    <a:pt x="690530" y="686532"/>
                    <a:pt x="693461" y="688975"/>
                  </a:cubicBezTo>
                  <a:cubicBezTo>
                    <a:pt x="696910" y="691850"/>
                    <a:pt x="699537" y="695625"/>
                    <a:pt x="702986" y="698500"/>
                  </a:cubicBezTo>
                  <a:cubicBezTo>
                    <a:pt x="705917" y="700943"/>
                    <a:pt x="709580" y="702407"/>
                    <a:pt x="712511" y="704850"/>
                  </a:cubicBezTo>
                  <a:cubicBezTo>
                    <a:pt x="715960" y="707725"/>
                    <a:pt x="718111" y="712194"/>
                    <a:pt x="722036" y="714375"/>
                  </a:cubicBezTo>
                  <a:cubicBezTo>
                    <a:pt x="727887" y="717626"/>
                    <a:pt x="734522" y="719412"/>
                    <a:pt x="741086" y="720725"/>
                  </a:cubicBezTo>
                  <a:cubicBezTo>
                    <a:pt x="763274" y="725163"/>
                    <a:pt x="751638" y="723013"/>
                    <a:pt x="776011" y="727075"/>
                  </a:cubicBezTo>
                  <a:cubicBezTo>
                    <a:pt x="780244" y="730250"/>
                    <a:pt x="784405" y="733524"/>
                    <a:pt x="788711" y="736600"/>
                  </a:cubicBezTo>
                  <a:cubicBezTo>
                    <a:pt x="791816" y="738818"/>
                    <a:pt x="795305" y="740507"/>
                    <a:pt x="798236" y="742950"/>
                  </a:cubicBezTo>
                  <a:cubicBezTo>
                    <a:pt x="814091" y="756163"/>
                    <a:pt x="800547" y="750070"/>
                    <a:pt x="817286" y="755650"/>
                  </a:cubicBezTo>
                  <a:cubicBezTo>
                    <a:pt x="819403" y="758825"/>
                    <a:pt x="820461" y="763058"/>
                    <a:pt x="823636" y="765175"/>
                  </a:cubicBezTo>
                  <a:cubicBezTo>
                    <a:pt x="827267" y="767596"/>
                    <a:pt x="832076" y="767403"/>
                    <a:pt x="836336" y="768350"/>
                  </a:cubicBezTo>
                  <a:cubicBezTo>
                    <a:pt x="862291" y="774118"/>
                    <a:pt x="859177" y="772023"/>
                    <a:pt x="896661" y="774700"/>
                  </a:cubicBezTo>
                  <a:cubicBezTo>
                    <a:pt x="899836" y="776817"/>
                    <a:pt x="903488" y="778352"/>
                    <a:pt x="906186" y="781050"/>
                  </a:cubicBezTo>
                  <a:cubicBezTo>
                    <a:pt x="908884" y="783748"/>
                    <a:pt x="909556" y="788191"/>
                    <a:pt x="912536" y="790575"/>
                  </a:cubicBezTo>
                  <a:cubicBezTo>
                    <a:pt x="915149" y="792666"/>
                    <a:pt x="918886" y="792692"/>
                    <a:pt x="922061" y="793750"/>
                  </a:cubicBezTo>
                  <a:cubicBezTo>
                    <a:pt x="944742" y="808871"/>
                    <a:pt x="933707" y="804599"/>
                    <a:pt x="953811" y="809625"/>
                  </a:cubicBezTo>
                  <a:cubicBezTo>
                    <a:pt x="956986" y="812800"/>
                    <a:pt x="960845" y="815414"/>
                    <a:pt x="963336" y="819150"/>
                  </a:cubicBezTo>
                  <a:cubicBezTo>
                    <a:pt x="965192" y="821935"/>
                    <a:pt x="965014" y="825682"/>
                    <a:pt x="966511" y="828675"/>
                  </a:cubicBezTo>
                  <a:cubicBezTo>
                    <a:pt x="968218" y="832088"/>
                    <a:pt x="970744" y="835025"/>
                    <a:pt x="972861" y="838200"/>
                  </a:cubicBezTo>
                  <a:cubicBezTo>
                    <a:pt x="973919" y="847725"/>
                    <a:pt x="972070" y="858050"/>
                    <a:pt x="976036" y="866775"/>
                  </a:cubicBezTo>
                  <a:cubicBezTo>
                    <a:pt x="977995" y="871084"/>
                    <a:pt x="984386" y="871261"/>
                    <a:pt x="988736" y="873125"/>
                  </a:cubicBezTo>
                  <a:cubicBezTo>
                    <a:pt x="996349" y="876388"/>
                    <a:pt x="1002905" y="877173"/>
                    <a:pt x="1010961" y="879475"/>
                  </a:cubicBezTo>
                  <a:cubicBezTo>
                    <a:pt x="1032846" y="885728"/>
                    <a:pt x="1005157" y="880095"/>
                    <a:pt x="1039536" y="885825"/>
                  </a:cubicBezTo>
                  <a:cubicBezTo>
                    <a:pt x="1049082" y="889007"/>
                    <a:pt x="1050380" y="888511"/>
                    <a:pt x="1058586" y="895350"/>
                  </a:cubicBezTo>
                  <a:cubicBezTo>
                    <a:pt x="1067673" y="902923"/>
                    <a:pt x="1065942" y="906674"/>
                    <a:pt x="1077636" y="908050"/>
                  </a:cubicBezTo>
                  <a:cubicBezTo>
                    <a:pt x="1092389" y="909786"/>
                    <a:pt x="1107269" y="910167"/>
                    <a:pt x="1122086" y="911225"/>
                  </a:cubicBezTo>
                  <a:lnTo>
                    <a:pt x="1141136" y="917575"/>
                  </a:lnTo>
                  <a:cubicBezTo>
                    <a:pt x="1151226" y="920938"/>
                    <a:pt x="1162323" y="919507"/>
                    <a:pt x="1172886" y="920750"/>
                  </a:cubicBezTo>
                  <a:cubicBezTo>
                    <a:pt x="1180318" y="921624"/>
                    <a:pt x="1187703" y="922867"/>
                    <a:pt x="1195111" y="923925"/>
                  </a:cubicBezTo>
                  <a:cubicBezTo>
                    <a:pt x="1198286" y="926042"/>
                    <a:pt x="1201149" y="928725"/>
                    <a:pt x="1204636" y="930275"/>
                  </a:cubicBezTo>
                  <a:cubicBezTo>
                    <a:pt x="1210753" y="932993"/>
                    <a:pt x="1223686" y="936625"/>
                    <a:pt x="1223686" y="936625"/>
                  </a:cubicBezTo>
                  <a:cubicBezTo>
                    <a:pt x="1254653" y="957270"/>
                    <a:pt x="1206529" y="924933"/>
                    <a:pt x="1245911" y="952500"/>
                  </a:cubicBezTo>
                  <a:cubicBezTo>
                    <a:pt x="1252163" y="956877"/>
                    <a:pt x="1264961" y="965200"/>
                    <a:pt x="1264961" y="965200"/>
                  </a:cubicBezTo>
                  <a:cubicBezTo>
                    <a:pt x="1275024" y="980294"/>
                    <a:pt x="1270104" y="971105"/>
                    <a:pt x="1277661" y="993775"/>
                  </a:cubicBezTo>
                  <a:lnTo>
                    <a:pt x="1280836" y="1003300"/>
                  </a:lnTo>
                  <a:cubicBezTo>
                    <a:pt x="1281894" y="1006475"/>
                    <a:pt x="1282155" y="1010040"/>
                    <a:pt x="1284011" y="1012825"/>
                  </a:cubicBezTo>
                  <a:cubicBezTo>
                    <a:pt x="1286128" y="1016000"/>
                    <a:pt x="1288654" y="1018937"/>
                    <a:pt x="1290361" y="1022350"/>
                  </a:cubicBezTo>
                  <a:cubicBezTo>
                    <a:pt x="1291858" y="1025343"/>
                    <a:pt x="1291445" y="1029262"/>
                    <a:pt x="1293536" y="1031875"/>
                  </a:cubicBezTo>
                  <a:cubicBezTo>
                    <a:pt x="1295920" y="1034855"/>
                    <a:pt x="1299886" y="1036108"/>
                    <a:pt x="1303061" y="1038225"/>
                  </a:cubicBezTo>
                  <a:cubicBezTo>
                    <a:pt x="1305178" y="1041400"/>
                    <a:pt x="1306713" y="1045052"/>
                    <a:pt x="1309411" y="1047750"/>
                  </a:cubicBezTo>
                  <a:cubicBezTo>
                    <a:pt x="1315566" y="1053905"/>
                    <a:pt x="1320714" y="1054693"/>
                    <a:pt x="1328461" y="1057275"/>
                  </a:cubicBezTo>
                  <a:cubicBezTo>
                    <a:pt x="1331636" y="1059392"/>
                    <a:pt x="1334573" y="1061918"/>
                    <a:pt x="1337986" y="1063625"/>
                  </a:cubicBezTo>
                  <a:cubicBezTo>
                    <a:pt x="1340979" y="1065122"/>
                    <a:pt x="1344435" y="1065482"/>
                    <a:pt x="1347511" y="1066800"/>
                  </a:cubicBezTo>
                  <a:cubicBezTo>
                    <a:pt x="1351861" y="1068664"/>
                    <a:pt x="1355978" y="1071033"/>
                    <a:pt x="1360211" y="1073150"/>
                  </a:cubicBezTo>
                  <a:cubicBezTo>
                    <a:pt x="1362328" y="1076325"/>
                    <a:pt x="1363581" y="1080291"/>
                    <a:pt x="1366561" y="1082675"/>
                  </a:cubicBezTo>
                  <a:cubicBezTo>
                    <a:pt x="1370675" y="1085966"/>
                    <a:pt x="1394941" y="1088993"/>
                    <a:pt x="1395136" y="1089025"/>
                  </a:cubicBezTo>
                  <a:cubicBezTo>
                    <a:pt x="1398311" y="1091142"/>
                    <a:pt x="1401963" y="1092677"/>
                    <a:pt x="1404661" y="1095375"/>
                  </a:cubicBezTo>
                  <a:cubicBezTo>
                    <a:pt x="1407359" y="1098073"/>
                    <a:pt x="1407468" y="1103483"/>
                    <a:pt x="1411011" y="1104900"/>
                  </a:cubicBezTo>
                  <a:cubicBezTo>
                    <a:pt x="1418933" y="1108069"/>
                    <a:pt x="1427964" y="1106868"/>
                    <a:pt x="1436411" y="1108075"/>
                  </a:cubicBezTo>
                  <a:cubicBezTo>
                    <a:pt x="1486977" y="1115299"/>
                    <a:pt x="1410663" y="1106940"/>
                    <a:pt x="1496736" y="1114425"/>
                  </a:cubicBezTo>
                  <a:cubicBezTo>
                    <a:pt x="1496948" y="1114443"/>
                    <a:pt x="1550043" y="1119494"/>
                    <a:pt x="1553886" y="1120775"/>
                  </a:cubicBezTo>
                  <a:cubicBezTo>
                    <a:pt x="1556131" y="1121523"/>
                    <a:pt x="1556003" y="1125008"/>
                    <a:pt x="1557061" y="11271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545" name="Group 24"/>
            <p:cNvGrpSpPr/>
            <p:nvPr/>
          </p:nvGrpSpPr>
          <p:grpSpPr>
            <a:xfrm>
              <a:off x="5096160" y="4905720"/>
              <a:ext cx="2727000" cy="242640"/>
              <a:chOff x="5096160" y="4905720"/>
              <a:chExt cx="2727000" cy="242640"/>
            </a:xfrm>
          </p:grpSpPr>
          <p:grpSp>
            <p:nvGrpSpPr>
              <p:cNvPr id="546" name="Group 7"/>
              <p:cNvGrpSpPr/>
              <p:nvPr/>
            </p:nvGrpSpPr>
            <p:grpSpPr>
              <a:xfrm>
                <a:off x="5096160" y="4905720"/>
                <a:ext cx="2119680" cy="155520"/>
                <a:chOff x="5096160" y="4905720"/>
                <a:chExt cx="2119680" cy="155520"/>
              </a:xfrm>
            </p:grpSpPr>
            <p:sp>
              <p:nvSpPr>
                <p:cNvPr id="547" name="Freeform 4"/>
                <p:cNvSpPr/>
                <p:nvPr/>
              </p:nvSpPr>
              <p:spPr>
                <a:xfrm>
                  <a:off x="5096160" y="4905720"/>
                  <a:ext cx="606600" cy="155520"/>
                </a:xfrm>
                <a:custGeom>
                  <a:avLst/>
                  <a:gdLst>
                    <a:gd name="textAreaLeft" fmla="*/ 0 w 606600"/>
                    <a:gd name="textAreaRight" fmla="*/ 606960 w 606600"/>
                    <a:gd name="textAreaTop" fmla="*/ 0 h 155520"/>
                    <a:gd name="textAreaBottom" fmla="*/ 155880 h 155520"/>
                  </a:gdLst>
                  <a:ahLst/>
                  <a:rect l="textAreaLeft" t="textAreaTop" r="textAreaRight" b="textAreaBottom"/>
                  <a:pathLst>
                    <a:path w="606586" h="155575">
                      <a:moveTo>
                        <a:pt x="0" y="0"/>
                      </a:moveTo>
                      <a:cubicBezTo>
                        <a:pt x="30028" y="37535"/>
                        <a:pt x="-3589" y="3668"/>
                        <a:pt x="82550" y="19050"/>
                      </a:cubicBezTo>
                      <a:cubicBezTo>
                        <a:pt x="90063" y="20392"/>
                        <a:pt x="93988" y="31206"/>
                        <a:pt x="101600" y="31750"/>
                      </a:cubicBezTo>
                      <a:lnTo>
                        <a:pt x="146050" y="34925"/>
                      </a:lnTo>
                      <a:cubicBezTo>
                        <a:pt x="150119" y="35942"/>
                        <a:pt x="163720" y="38998"/>
                        <a:pt x="168275" y="41275"/>
                      </a:cubicBezTo>
                      <a:cubicBezTo>
                        <a:pt x="171688" y="42982"/>
                        <a:pt x="174625" y="45508"/>
                        <a:pt x="177800" y="47625"/>
                      </a:cubicBezTo>
                      <a:cubicBezTo>
                        <a:pt x="179917" y="50800"/>
                        <a:pt x="181170" y="54766"/>
                        <a:pt x="184150" y="57150"/>
                      </a:cubicBezTo>
                      <a:cubicBezTo>
                        <a:pt x="186763" y="59241"/>
                        <a:pt x="190335" y="60110"/>
                        <a:pt x="193675" y="60325"/>
                      </a:cubicBezTo>
                      <a:cubicBezTo>
                        <a:pt x="223266" y="62234"/>
                        <a:pt x="252942" y="62442"/>
                        <a:pt x="282575" y="63500"/>
                      </a:cubicBezTo>
                      <a:cubicBezTo>
                        <a:pt x="285750" y="65617"/>
                        <a:pt x="288687" y="68143"/>
                        <a:pt x="292100" y="69850"/>
                      </a:cubicBezTo>
                      <a:cubicBezTo>
                        <a:pt x="302738" y="75169"/>
                        <a:pt x="321146" y="75194"/>
                        <a:pt x="330200" y="76200"/>
                      </a:cubicBezTo>
                      <a:lnTo>
                        <a:pt x="349250" y="82550"/>
                      </a:lnTo>
                      <a:cubicBezTo>
                        <a:pt x="381000" y="93133"/>
                        <a:pt x="329142" y="92075"/>
                        <a:pt x="365125" y="98425"/>
                      </a:cubicBezTo>
                      <a:cubicBezTo>
                        <a:pt x="379753" y="101006"/>
                        <a:pt x="394758" y="100542"/>
                        <a:pt x="409575" y="101600"/>
                      </a:cubicBezTo>
                      <a:cubicBezTo>
                        <a:pt x="414867" y="102658"/>
                        <a:pt x="420060" y="104506"/>
                        <a:pt x="425450" y="104775"/>
                      </a:cubicBezTo>
                      <a:cubicBezTo>
                        <a:pt x="462461" y="106626"/>
                        <a:pt x="500199" y="100877"/>
                        <a:pt x="536575" y="107950"/>
                      </a:cubicBezTo>
                      <a:cubicBezTo>
                        <a:pt x="542894" y="109179"/>
                        <a:pt x="536871" y="121242"/>
                        <a:pt x="539750" y="127000"/>
                      </a:cubicBezTo>
                      <a:cubicBezTo>
                        <a:pt x="541457" y="130413"/>
                        <a:pt x="545506" y="132755"/>
                        <a:pt x="549275" y="133350"/>
                      </a:cubicBezTo>
                      <a:cubicBezTo>
                        <a:pt x="566034" y="135996"/>
                        <a:pt x="583142" y="135467"/>
                        <a:pt x="600075" y="136525"/>
                      </a:cubicBezTo>
                      <a:cubicBezTo>
                        <a:pt x="608186" y="148692"/>
                        <a:pt x="606425" y="142234"/>
                        <a:pt x="606425" y="15557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8" name="Straight Connector 6"/>
                <p:cNvSpPr/>
                <p:nvPr/>
              </p:nvSpPr>
              <p:spPr>
                <a:xfrm flipV="1">
                  <a:off x="5702760" y="5052960"/>
                  <a:ext cx="1513080" cy="4680"/>
                </a:xfrm>
                <a:prstGeom prst="line">
                  <a:avLst/>
                </a:prstGeom>
                <a:ln w="28440">
                  <a:solidFill>
                    <a:srgbClr val="f6a108"/>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9" name="Straight Connector 10"/>
              <p:cNvSpPr/>
              <p:nvPr/>
            </p:nvSpPr>
            <p:spPr>
              <a:xfrm>
                <a:off x="7210440" y="5048640"/>
                <a:ext cx="2880" cy="44280"/>
              </a:xfrm>
              <a:prstGeom prst="line">
                <a:avLst/>
              </a:prstGeom>
              <a:ln w="28440">
                <a:solidFill>
                  <a:srgbClr val="f6a108"/>
                </a:solidFill>
                <a:miter/>
              </a:ln>
            </p:spPr>
            <p:style>
              <a:lnRef idx="0"/>
              <a:fillRef idx="0"/>
              <a:effectRef idx="0"/>
              <a:fontRef idx="minor"/>
            </p:style>
            <p:txBody>
              <a:bodyPr lIns="90000" rIns="90000" tIns="-2520" bIns="-2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Straight Connector 83"/>
              <p:cNvSpPr/>
              <p:nvPr/>
            </p:nvSpPr>
            <p:spPr>
              <a:xfrm>
                <a:off x="7243920" y="5102640"/>
                <a:ext cx="2880" cy="45720"/>
              </a:xfrm>
              <a:prstGeom prst="line">
                <a:avLst/>
              </a:prstGeom>
              <a:ln w="28440">
                <a:solidFill>
                  <a:srgbClr val="f6a108"/>
                </a:solidFill>
                <a:miter/>
              </a:ln>
            </p:spPr>
            <p:style>
              <a:lnRef idx="0"/>
              <a:fillRef idx="0"/>
              <a:effectRef idx="0"/>
              <a:fontRef idx="minor"/>
            </p:style>
            <p:txBody>
              <a:bodyPr lIns="90000" rIns="90000" tIns="-1080" bIns="-10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Straight Connector 84"/>
              <p:cNvSpPr/>
              <p:nvPr/>
            </p:nvSpPr>
            <p:spPr>
              <a:xfrm flipV="1">
                <a:off x="7209000" y="5097600"/>
                <a:ext cx="39600" cy="1440"/>
              </a:xfrm>
              <a:prstGeom prst="line">
                <a:avLst/>
              </a:prstGeom>
              <a:ln w="2844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2" name="Straight Connector 93"/>
              <p:cNvSpPr/>
              <p:nvPr/>
            </p:nvSpPr>
            <p:spPr>
              <a:xfrm>
                <a:off x="7242120" y="5146920"/>
                <a:ext cx="5810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553" name="Group 73"/>
          <p:cNvGrpSpPr/>
          <p:nvPr/>
        </p:nvGrpSpPr>
        <p:grpSpPr>
          <a:xfrm>
            <a:off x="2340000" y="1973160"/>
            <a:ext cx="5315040" cy="3168720"/>
            <a:chOff x="2340000" y="1973160"/>
            <a:chExt cx="5315040" cy="3168720"/>
          </a:xfrm>
        </p:grpSpPr>
        <p:grpSp>
          <p:nvGrpSpPr>
            <p:cNvPr id="554" name="Group 71"/>
            <p:cNvGrpSpPr/>
            <p:nvPr/>
          </p:nvGrpSpPr>
          <p:grpSpPr>
            <a:xfrm>
              <a:off x="2340000" y="1973160"/>
              <a:ext cx="1576440" cy="2549880"/>
              <a:chOff x="2340000" y="1973160"/>
              <a:chExt cx="1576440" cy="2549880"/>
            </a:xfrm>
          </p:grpSpPr>
          <p:grpSp>
            <p:nvGrpSpPr>
              <p:cNvPr id="555" name="Group 66"/>
              <p:cNvGrpSpPr/>
              <p:nvPr/>
            </p:nvGrpSpPr>
            <p:grpSpPr>
              <a:xfrm>
                <a:off x="2340000" y="1973160"/>
                <a:ext cx="71280" cy="71280"/>
                <a:chOff x="2340000" y="1973160"/>
                <a:chExt cx="71280" cy="71280"/>
              </a:xfrm>
            </p:grpSpPr>
            <p:sp>
              <p:nvSpPr>
                <p:cNvPr id="556" name="Straight Connector 28"/>
                <p:cNvSpPr/>
                <p:nvPr/>
              </p:nvSpPr>
              <p:spPr>
                <a:xfrm>
                  <a:off x="2373480" y="1973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7" name="Straight Connector 101"/>
                <p:cNvSpPr/>
                <p:nvPr/>
              </p:nvSpPr>
              <p:spPr>
                <a:xfrm>
                  <a:off x="2340000" y="2008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58" name="Group 108"/>
              <p:cNvGrpSpPr/>
              <p:nvPr/>
            </p:nvGrpSpPr>
            <p:grpSpPr>
              <a:xfrm>
                <a:off x="2365920" y="1996920"/>
                <a:ext cx="71280" cy="71280"/>
                <a:chOff x="2365920" y="1996920"/>
                <a:chExt cx="71280" cy="71280"/>
              </a:xfrm>
            </p:grpSpPr>
            <p:sp>
              <p:nvSpPr>
                <p:cNvPr id="559" name="Straight Connector 109"/>
                <p:cNvSpPr/>
                <p:nvPr/>
              </p:nvSpPr>
              <p:spPr>
                <a:xfrm>
                  <a:off x="2399400" y="1996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0" name="Straight Connector 110"/>
                <p:cNvSpPr/>
                <p:nvPr/>
              </p:nvSpPr>
              <p:spPr>
                <a:xfrm>
                  <a:off x="2365920" y="2032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1" name="Group 111"/>
              <p:cNvGrpSpPr/>
              <p:nvPr/>
            </p:nvGrpSpPr>
            <p:grpSpPr>
              <a:xfrm>
                <a:off x="2623320" y="2263320"/>
                <a:ext cx="71280" cy="71280"/>
                <a:chOff x="2623320" y="2263320"/>
                <a:chExt cx="71280" cy="71280"/>
              </a:xfrm>
            </p:grpSpPr>
            <p:sp>
              <p:nvSpPr>
                <p:cNvPr id="562" name="Straight Connector 112"/>
                <p:cNvSpPr/>
                <p:nvPr/>
              </p:nvSpPr>
              <p:spPr>
                <a:xfrm>
                  <a:off x="2656800" y="2263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3" name="Straight Connector 113"/>
                <p:cNvSpPr/>
                <p:nvPr/>
              </p:nvSpPr>
              <p:spPr>
                <a:xfrm>
                  <a:off x="2623320" y="2298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4" name="Group 114"/>
              <p:cNvGrpSpPr/>
              <p:nvPr/>
            </p:nvGrpSpPr>
            <p:grpSpPr>
              <a:xfrm>
                <a:off x="2632680" y="2284920"/>
                <a:ext cx="71280" cy="71280"/>
                <a:chOff x="2632680" y="2284920"/>
                <a:chExt cx="71280" cy="71280"/>
              </a:xfrm>
            </p:grpSpPr>
            <p:sp>
              <p:nvSpPr>
                <p:cNvPr id="565" name="Straight Connector 115"/>
                <p:cNvSpPr/>
                <p:nvPr/>
              </p:nvSpPr>
              <p:spPr>
                <a:xfrm>
                  <a:off x="2666160" y="2284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6" name="Straight Connector 116"/>
                <p:cNvSpPr/>
                <p:nvPr/>
              </p:nvSpPr>
              <p:spPr>
                <a:xfrm>
                  <a:off x="2632680" y="2320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7" name="Group 117"/>
              <p:cNvGrpSpPr/>
              <p:nvPr/>
            </p:nvGrpSpPr>
            <p:grpSpPr>
              <a:xfrm>
                <a:off x="2608920" y="2187360"/>
                <a:ext cx="71280" cy="71280"/>
                <a:chOff x="2608920" y="2187360"/>
                <a:chExt cx="71280" cy="71280"/>
              </a:xfrm>
            </p:grpSpPr>
            <p:sp>
              <p:nvSpPr>
                <p:cNvPr id="568" name="Straight Connector 118"/>
                <p:cNvSpPr/>
                <p:nvPr/>
              </p:nvSpPr>
              <p:spPr>
                <a:xfrm>
                  <a:off x="2642400" y="2187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9" name="Straight Connector 119"/>
                <p:cNvSpPr/>
                <p:nvPr/>
              </p:nvSpPr>
              <p:spPr>
                <a:xfrm>
                  <a:off x="2608920" y="2222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0" name="Group 120"/>
              <p:cNvGrpSpPr/>
              <p:nvPr/>
            </p:nvGrpSpPr>
            <p:grpSpPr>
              <a:xfrm>
                <a:off x="2647080" y="2539800"/>
                <a:ext cx="71280" cy="71280"/>
                <a:chOff x="2647080" y="2539800"/>
                <a:chExt cx="71280" cy="71280"/>
              </a:xfrm>
            </p:grpSpPr>
            <p:sp>
              <p:nvSpPr>
                <p:cNvPr id="571" name="Straight Connector 121"/>
                <p:cNvSpPr/>
                <p:nvPr/>
              </p:nvSpPr>
              <p:spPr>
                <a:xfrm>
                  <a:off x="2680560" y="2539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2" name="Straight Connector 122"/>
                <p:cNvSpPr/>
                <p:nvPr/>
              </p:nvSpPr>
              <p:spPr>
                <a:xfrm>
                  <a:off x="2647080" y="2575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3" name="Group 123"/>
              <p:cNvGrpSpPr/>
              <p:nvPr/>
            </p:nvGrpSpPr>
            <p:grpSpPr>
              <a:xfrm>
                <a:off x="2647080" y="2482560"/>
                <a:ext cx="71280" cy="71280"/>
                <a:chOff x="2647080" y="2482560"/>
                <a:chExt cx="71280" cy="71280"/>
              </a:xfrm>
            </p:grpSpPr>
            <p:sp>
              <p:nvSpPr>
                <p:cNvPr id="574" name="Straight Connector 124"/>
                <p:cNvSpPr/>
                <p:nvPr/>
              </p:nvSpPr>
              <p:spPr>
                <a:xfrm>
                  <a:off x="2680560" y="2482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5" name="Straight Connector 125"/>
                <p:cNvSpPr/>
                <p:nvPr/>
              </p:nvSpPr>
              <p:spPr>
                <a:xfrm>
                  <a:off x="2647080" y="2517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6" name="Group 126"/>
              <p:cNvGrpSpPr/>
              <p:nvPr/>
            </p:nvGrpSpPr>
            <p:grpSpPr>
              <a:xfrm>
                <a:off x="2661480" y="2580120"/>
                <a:ext cx="71280" cy="71280"/>
                <a:chOff x="2661480" y="2580120"/>
                <a:chExt cx="71280" cy="71280"/>
              </a:xfrm>
            </p:grpSpPr>
            <p:sp>
              <p:nvSpPr>
                <p:cNvPr id="577" name="Straight Connector 127"/>
                <p:cNvSpPr/>
                <p:nvPr/>
              </p:nvSpPr>
              <p:spPr>
                <a:xfrm>
                  <a:off x="2694960" y="2580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8" name="Straight Connector 128"/>
                <p:cNvSpPr/>
                <p:nvPr/>
              </p:nvSpPr>
              <p:spPr>
                <a:xfrm>
                  <a:off x="2661480" y="2615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9" name="Group 129"/>
              <p:cNvGrpSpPr/>
              <p:nvPr/>
            </p:nvGrpSpPr>
            <p:grpSpPr>
              <a:xfrm>
                <a:off x="2685240" y="2701440"/>
                <a:ext cx="71280" cy="71280"/>
                <a:chOff x="2685240" y="2701440"/>
                <a:chExt cx="71280" cy="71280"/>
              </a:xfrm>
            </p:grpSpPr>
            <p:sp>
              <p:nvSpPr>
                <p:cNvPr id="580" name="Straight Connector 130"/>
                <p:cNvSpPr/>
                <p:nvPr/>
              </p:nvSpPr>
              <p:spPr>
                <a:xfrm>
                  <a:off x="2718720" y="27014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1" name="Straight Connector 131"/>
                <p:cNvSpPr/>
                <p:nvPr/>
              </p:nvSpPr>
              <p:spPr>
                <a:xfrm>
                  <a:off x="2685240" y="27367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2" name="Group 132"/>
              <p:cNvGrpSpPr/>
              <p:nvPr/>
            </p:nvGrpSpPr>
            <p:grpSpPr>
              <a:xfrm>
                <a:off x="2682720" y="2725560"/>
                <a:ext cx="71280" cy="71280"/>
                <a:chOff x="2682720" y="2725560"/>
                <a:chExt cx="71280" cy="71280"/>
              </a:xfrm>
            </p:grpSpPr>
            <p:sp>
              <p:nvSpPr>
                <p:cNvPr id="583" name="Straight Connector 133"/>
                <p:cNvSpPr/>
                <p:nvPr/>
              </p:nvSpPr>
              <p:spPr>
                <a:xfrm>
                  <a:off x="2716200" y="2725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4" name="Straight Connector 134"/>
                <p:cNvSpPr/>
                <p:nvPr/>
              </p:nvSpPr>
              <p:spPr>
                <a:xfrm>
                  <a:off x="2682720" y="2760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5" name="Group 135"/>
              <p:cNvGrpSpPr/>
              <p:nvPr/>
            </p:nvGrpSpPr>
            <p:grpSpPr>
              <a:xfrm>
                <a:off x="2694600" y="2763360"/>
                <a:ext cx="71280" cy="71280"/>
                <a:chOff x="2694600" y="2763360"/>
                <a:chExt cx="71280" cy="71280"/>
              </a:xfrm>
            </p:grpSpPr>
            <p:sp>
              <p:nvSpPr>
                <p:cNvPr id="586" name="Straight Connector 136"/>
                <p:cNvSpPr/>
                <p:nvPr/>
              </p:nvSpPr>
              <p:spPr>
                <a:xfrm>
                  <a:off x="2728080" y="2763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7" name="Straight Connector 137"/>
                <p:cNvSpPr/>
                <p:nvPr/>
              </p:nvSpPr>
              <p:spPr>
                <a:xfrm>
                  <a:off x="2694600" y="2798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8" name="Group 138"/>
              <p:cNvGrpSpPr/>
              <p:nvPr/>
            </p:nvGrpSpPr>
            <p:grpSpPr>
              <a:xfrm>
                <a:off x="2859120" y="2937240"/>
                <a:ext cx="71280" cy="71280"/>
                <a:chOff x="2859120" y="2937240"/>
                <a:chExt cx="71280" cy="71280"/>
              </a:xfrm>
            </p:grpSpPr>
            <p:sp>
              <p:nvSpPr>
                <p:cNvPr id="589" name="Straight Connector 139"/>
                <p:cNvSpPr/>
                <p:nvPr/>
              </p:nvSpPr>
              <p:spPr>
                <a:xfrm>
                  <a:off x="2892600" y="2937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0" name="Straight Connector 140"/>
                <p:cNvSpPr/>
                <p:nvPr/>
              </p:nvSpPr>
              <p:spPr>
                <a:xfrm>
                  <a:off x="2859120" y="2972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1" name="Group 141"/>
              <p:cNvGrpSpPr/>
              <p:nvPr/>
            </p:nvGrpSpPr>
            <p:grpSpPr>
              <a:xfrm>
                <a:off x="2901960" y="3070800"/>
                <a:ext cx="71280" cy="71280"/>
                <a:chOff x="2901960" y="3070800"/>
                <a:chExt cx="71280" cy="71280"/>
              </a:xfrm>
            </p:grpSpPr>
            <p:sp>
              <p:nvSpPr>
                <p:cNvPr id="592" name="Straight Connector 142"/>
                <p:cNvSpPr/>
                <p:nvPr/>
              </p:nvSpPr>
              <p:spPr>
                <a:xfrm>
                  <a:off x="2935440" y="3070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3" name="Straight Connector 143"/>
                <p:cNvSpPr/>
                <p:nvPr/>
              </p:nvSpPr>
              <p:spPr>
                <a:xfrm>
                  <a:off x="2901960" y="3106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4" name="Group 144"/>
              <p:cNvGrpSpPr/>
              <p:nvPr/>
            </p:nvGrpSpPr>
            <p:grpSpPr>
              <a:xfrm>
                <a:off x="2916360" y="3123000"/>
                <a:ext cx="71280" cy="71280"/>
                <a:chOff x="2916360" y="3123000"/>
                <a:chExt cx="71280" cy="71280"/>
              </a:xfrm>
            </p:grpSpPr>
            <p:sp>
              <p:nvSpPr>
                <p:cNvPr id="595" name="Straight Connector 145"/>
                <p:cNvSpPr/>
                <p:nvPr/>
              </p:nvSpPr>
              <p:spPr>
                <a:xfrm>
                  <a:off x="2949840" y="3123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6" name="Straight Connector 146"/>
                <p:cNvSpPr/>
                <p:nvPr/>
              </p:nvSpPr>
              <p:spPr>
                <a:xfrm>
                  <a:off x="2916360" y="3158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7" name="Group 147"/>
              <p:cNvGrpSpPr/>
              <p:nvPr/>
            </p:nvGrpSpPr>
            <p:grpSpPr>
              <a:xfrm>
                <a:off x="2930400" y="3184920"/>
                <a:ext cx="71280" cy="71280"/>
                <a:chOff x="2930400" y="3184920"/>
                <a:chExt cx="71280" cy="71280"/>
              </a:xfrm>
            </p:grpSpPr>
            <p:sp>
              <p:nvSpPr>
                <p:cNvPr id="598" name="Straight Connector 148"/>
                <p:cNvSpPr/>
                <p:nvPr/>
              </p:nvSpPr>
              <p:spPr>
                <a:xfrm>
                  <a:off x="2963880" y="3184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9" name="Straight Connector 149"/>
                <p:cNvSpPr/>
                <p:nvPr/>
              </p:nvSpPr>
              <p:spPr>
                <a:xfrm>
                  <a:off x="2930400" y="3220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0" name="Group 150"/>
              <p:cNvGrpSpPr/>
              <p:nvPr/>
            </p:nvGrpSpPr>
            <p:grpSpPr>
              <a:xfrm>
                <a:off x="2959200" y="3447000"/>
                <a:ext cx="71280" cy="71280"/>
                <a:chOff x="2959200" y="3447000"/>
                <a:chExt cx="71280" cy="71280"/>
              </a:xfrm>
            </p:grpSpPr>
            <p:sp>
              <p:nvSpPr>
                <p:cNvPr id="601" name="Straight Connector 151"/>
                <p:cNvSpPr/>
                <p:nvPr/>
              </p:nvSpPr>
              <p:spPr>
                <a:xfrm>
                  <a:off x="2992680" y="3447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2" name="Straight Connector 152"/>
                <p:cNvSpPr/>
                <p:nvPr/>
              </p:nvSpPr>
              <p:spPr>
                <a:xfrm>
                  <a:off x="2959200" y="3482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3" name="Group 153"/>
              <p:cNvGrpSpPr/>
              <p:nvPr/>
            </p:nvGrpSpPr>
            <p:grpSpPr>
              <a:xfrm>
                <a:off x="2971080" y="3473280"/>
                <a:ext cx="71280" cy="71280"/>
                <a:chOff x="2971080" y="3473280"/>
                <a:chExt cx="71280" cy="71280"/>
              </a:xfrm>
            </p:grpSpPr>
            <p:sp>
              <p:nvSpPr>
                <p:cNvPr id="604" name="Straight Connector 154"/>
                <p:cNvSpPr/>
                <p:nvPr/>
              </p:nvSpPr>
              <p:spPr>
                <a:xfrm>
                  <a:off x="3004560" y="3473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5" name="Straight Connector 155"/>
                <p:cNvSpPr/>
                <p:nvPr/>
              </p:nvSpPr>
              <p:spPr>
                <a:xfrm>
                  <a:off x="2971080" y="3508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6" name="Group 156"/>
              <p:cNvGrpSpPr/>
              <p:nvPr/>
            </p:nvGrpSpPr>
            <p:grpSpPr>
              <a:xfrm>
                <a:off x="2985480" y="3497040"/>
                <a:ext cx="71280" cy="71280"/>
                <a:chOff x="2985480" y="3497040"/>
                <a:chExt cx="71280" cy="71280"/>
              </a:xfrm>
            </p:grpSpPr>
            <p:sp>
              <p:nvSpPr>
                <p:cNvPr id="607" name="Straight Connector 157"/>
                <p:cNvSpPr/>
                <p:nvPr/>
              </p:nvSpPr>
              <p:spPr>
                <a:xfrm>
                  <a:off x="3018960" y="3497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8" name="Straight Connector 158"/>
                <p:cNvSpPr/>
                <p:nvPr/>
              </p:nvSpPr>
              <p:spPr>
                <a:xfrm>
                  <a:off x="2985480" y="3532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9" name="Group 159"/>
              <p:cNvGrpSpPr/>
              <p:nvPr/>
            </p:nvGrpSpPr>
            <p:grpSpPr>
              <a:xfrm>
                <a:off x="3130560" y="3582720"/>
                <a:ext cx="71280" cy="71280"/>
                <a:chOff x="3130560" y="3582720"/>
                <a:chExt cx="71280" cy="71280"/>
              </a:xfrm>
            </p:grpSpPr>
            <p:sp>
              <p:nvSpPr>
                <p:cNvPr id="610" name="Straight Connector 160"/>
                <p:cNvSpPr/>
                <p:nvPr/>
              </p:nvSpPr>
              <p:spPr>
                <a:xfrm>
                  <a:off x="3164040" y="3582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1" name="Straight Connector 161"/>
                <p:cNvSpPr/>
                <p:nvPr/>
              </p:nvSpPr>
              <p:spPr>
                <a:xfrm>
                  <a:off x="3130560" y="3618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2" name="Group 162"/>
              <p:cNvGrpSpPr/>
              <p:nvPr/>
            </p:nvGrpSpPr>
            <p:grpSpPr>
              <a:xfrm>
                <a:off x="3240000" y="3689640"/>
                <a:ext cx="71280" cy="71280"/>
                <a:chOff x="3240000" y="3689640"/>
                <a:chExt cx="71280" cy="71280"/>
              </a:xfrm>
            </p:grpSpPr>
            <p:sp>
              <p:nvSpPr>
                <p:cNvPr id="613" name="Straight Connector 163"/>
                <p:cNvSpPr/>
                <p:nvPr/>
              </p:nvSpPr>
              <p:spPr>
                <a:xfrm>
                  <a:off x="3273480" y="3689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4" name="Straight Connector 164"/>
                <p:cNvSpPr/>
                <p:nvPr/>
              </p:nvSpPr>
              <p:spPr>
                <a:xfrm>
                  <a:off x="3240000" y="3724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5" name="Group 165"/>
              <p:cNvGrpSpPr/>
              <p:nvPr/>
            </p:nvGrpSpPr>
            <p:grpSpPr>
              <a:xfrm>
                <a:off x="3211560" y="3689640"/>
                <a:ext cx="71280" cy="71280"/>
                <a:chOff x="3211560" y="3689640"/>
                <a:chExt cx="71280" cy="71280"/>
              </a:xfrm>
            </p:grpSpPr>
            <p:sp>
              <p:nvSpPr>
                <p:cNvPr id="616" name="Straight Connector 166"/>
                <p:cNvSpPr/>
                <p:nvPr/>
              </p:nvSpPr>
              <p:spPr>
                <a:xfrm>
                  <a:off x="3245040" y="3689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7" name="Straight Connector 167"/>
                <p:cNvSpPr/>
                <p:nvPr/>
              </p:nvSpPr>
              <p:spPr>
                <a:xfrm>
                  <a:off x="3211560" y="3724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8" name="Group 168"/>
              <p:cNvGrpSpPr/>
              <p:nvPr/>
            </p:nvGrpSpPr>
            <p:grpSpPr>
              <a:xfrm>
                <a:off x="3252240" y="3818520"/>
                <a:ext cx="71280" cy="71280"/>
                <a:chOff x="3252240" y="3818520"/>
                <a:chExt cx="71280" cy="71280"/>
              </a:xfrm>
            </p:grpSpPr>
            <p:sp>
              <p:nvSpPr>
                <p:cNvPr id="619" name="Straight Connector 169"/>
                <p:cNvSpPr/>
                <p:nvPr/>
              </p:nvSpPr>
              <p:spPr>
                <a:xfrm>
                  <a:off x="3285720" y="3818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0" name="Straight Connector 170"/>
                <p:cNvSpPr/>
                <p:nvPr/>
              </p:nvSpPr>
              <p:spPr>
                <a:xfrm>
                  <a:off x="3252240" y="3853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1" name="Group 171"/>
              <p:cNvGrpSpPr/>
              <p:nvPr/>
            </p:nvGrpSpPr>
            <p:grpSpPr>
              <a:xfrm>
                <a:off x="3556800" y="4296960"/>
                <a:ext cx="71280" cy="71280"/>
                <a:chOff x="3556800" y="4296960"/>
                <a:chExt cx="71280" cy="71280"/>
              </a:xfrm>
            </p:grpSpPr>
            <p:sp>
              <p:nvSpPr>
                <p:cNvPr id="622" name="Straight Connector 172"/>
                <p:cNvSpPr/>
                <p:nvPr/>
              </p:nvSpPr>
              <p:spPr>
                <a:xfrm>
                  <a:off x="3590280" y="42969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3" name="Straight Connector 173"/>
                <p:cNvSpPr/>
                <p:nvPr/>
              </p:nvSpPr>
              <p:spPr>
                <a:xfrm>
                  <a:off x="3556800" y="43322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4" name="Group 174"/>
              <p:cNvGrpSpPr/>
              <p:nvPr/>
            </p:nvGrpSpPr>
            <p:grpSpPr>
              <a:xfrm>
                <a:off x="3611880" y="4349520"/>
                <a:ext cx="71280" cy="71280"/>
                <a:chOff x="3611880" y="4349520"/>
                <a:chExt cx="71280" cy="71280"/>
              </a:xfrm>
            </p:grpSpPr>
            <p:sp>
              <p:nvSpPr>
                <p:cNvPr id="625" name="Straight Connector 175"/>
                <p:cNvSpPr/>
                <p:nvPr/>
              </p:nvSpPr>
              <p:spPr>
                <a:xfrm>
                  <a:off x="3645360" y="4349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6" name="Straight Connector 176"/>
                <p:cNvSpPr/>
                <p:nvPr/>
              </p:nvSpPr>
              <p:spPr>
                <a:xfrm>
                  <a:off x="3611880" y="4384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7" name="Group 177"/>
              <p:cNvGrpSpPr/>
              <p:nvPr/>
            </p:nvGrpSpPr>
            <p:grpSpPr>
              <a:xfrm>
                <a:off x="3845160" y="4451760"/>
                <a:ext cx="71280" cy="71280"/>
                <a:chOff x="3845160" y="4451760"/>
                <a:chExt cx="71280" cy="71280"/>
              </a:xfrm>
            </p:grpSpPr>
            <p:sp>
              <p:nvSpPr>
                <p:cNvPr id="628" name="Straight Connector 178"/>
                <p:cNvSpPr/>
                <p:nvPr/>
              </p:nvSpPr>
              <p:spPr>
                <a:xfrm>
                  <a:off x="3878640" y="4451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Straight Connector 179"/>
                <p:cNvSpPr/>
                <p:nvPr/>
              </p:nvSpPr>
              <p:spPr>
                <a:xfrm>
                  <a:off x="3845160" y="4487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630" name="Group 72"/>
            <p:cNvGrpSpPr/>
            <p:nvPr/>
          </p:nvGrpSpPr>
          <p:grpSpPr>
            <a:xfrm>
              <a:off x="4357080" y="4732560"/>
              <a:ext cx="3297960" cy="409320"/>
              <a:chOff x="4357080" y="4732560"/>
              <a:chExt cx="3297960" cy="409320"/>
            </a:xfrm>
          </p:grpSpPr>
          <p:grpSp>
            <p:nvGrpSpPr>
              <p:cNvPr id="631" name="Group 180"/>
              <p:cNvGrpSpPr/>
              <p:nvPr/>
            </p:nvGrpSpPr>
            <p:grpSpPr>
              <a:xfrm>
                <a:off x="4357080" y="4732560"/>
                <a:ext cx="71280" cy="71280"/>
                <a:chOff x="4357080" y="4732560"/>
                <a:chExt cx="71280" cy="71280"/>
              </a:xfrm>
            </p:grpSpPr>
            <p:sp>
              <p:nvSpPr>
                <p:cNvPr id="632" name="Straight Connector 181"/>
                <p:cNvSpPr/>
                <p:nvPr/>
              </p:nvSpPr>
              <p:spPr>
                <a:xfrm>
                  <a:off x="4390560" y="4732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Straight Connector 182"/>
                <p:cNvSpPr/>
                <p:nvPr/>
              </p:nvSpPr>
              <p:spPr>
                <a:xfrm>
                  <a:off x="4357080" y="4767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34" name="Group 183"/>
              <p:cNvGrpSpPr/>
              <p:nvPr/>
            </p:nvGrpSpPr>
            <p:grpSpPr>
              <a:xfrm>
                <a:off x="4640400" y="4787280"/>
                <a:ext cx="71280" cy="71280"/>
                <a:chOff x="4640400" y="4787280"/>
                <a:chExt cx="71280" cy="71280"/>
              </a:xfrm>
            </p:grpSpPr>
            <p:sp>
              <p:nvSpPr>
                <p:cNvPr id="635" name="Straight Connector 184"/>
                <p:cNvSpPr/>
                <p:nvPr/>
              </p:nvSpPr>
              <p:spPr>
                <a:xfrm>
                  <a:off x="4673880" y="4787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6" name="Straight Connector 185"/>
                <p:cNvSpPr/>
                <p:nvPr/>
              </p:nvSpPr>
              <p:spPr>
                <a:xfrm>
                  <a:off x="4640400" y="4822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37" name="Group 186"/>
              <p:cNvGrpSpPr/>
              <p:nvPr/>
            </p:nvGrpSpPr>
            <p:grpSpPr>
              <a:xfrm>
                <a:off x="5002200" y="4851360"/>
                <a:ext cx="71280" cy="71280"/>
                <a:chOff x="5002200" y="4851360"/>
                <a:chExt cx="71280" cy="71280"/>
              </a:xfrm>
            </p:grpSpPr>
            <p:sp>
              <p:nvSpPr>
                <p:cNvPr id="638" name="Straight Connector 187"/>
                <p:cNvSpPr/>
                <p:nvPr/>
              </p:nvSpPr>
              <p:spPr>
                <a:xfrm>
                  <a:off x="5035680" y="4851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9" name="Straight Connector 188"/>
                <p:cNvSpPr/>
                <p:nvPr/>
              </p:nvSpPr>
              <p:spPr>
                <a:xfrm>
                  <a:off x="5002200" y="4886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0" name="Group 189"/>
              <p:cNvGrpSpPr/>
              <p:nvPr/>
            </p:nvGrpSpPr>
            <p:grpSpPr>
              <a:xfrm>
                <a:off x="5154840" y="4882320"/>
                <a:ext cx="71280" cy="71280"/>
                <a:chOff x="5154840" y="4882320"/>
                <a:chExt cx="71280" cy="71280"/>
              </a:xfrm>
            </p:grpSpPr>
            <p:sp>
              <p:nvSpPr>
                <p:cNvPr id="641" name="Straight Connector 190"/>
                <p:cNvSpPr/>
                <p:nvPr/>
              </p:nvSpPr>
              <p:spPr>
                <a:xfrm>
                  <a:off x="5188320" y="4882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Straight Connector 191"/>
                <p:cNvSpPr/>
                <p:nvPr/>
              </p:nvSpPr>
              <p:spPr>
                <a:xfrm>
                  <a:off x="5154840" y="4917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3" name="Group 192"/>
              <p:cNvGrpSpPr/>
              <p:nvPr/>
            </p:nvGrpSpPr>
            <p:grpSpPr>
              <a:xfrm>
                <a:off x="5461920" y="4934880"/>
                <a:ext cx="71280" cy="71280"/>
                <a:chOff x="5461920" y="4934880"/>
                <a:chExt cx="71280" cy="71280"/>
              </a:xfrm>
            </p:grpSpPr>
            <p:sp>
              <p:nvSpPr>
                <p:cNvPr id="644" name="Straight Connector 193"/>
                <p:cNvSpPr/>
                <p:nvPr/>
              </p:nvSpPr>
              <p:spPr>
                <a:xfrm>
                  <a:off x="5495400" y="49348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5" name="Straight Connector 194"/>
                <p:cNvSpPr/>
                <p:nvPr/>
              </p:nvSpPr>
              <p:spPr>
                <a:xfrm>
                  <a:off x="5461920" y="49701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6" name="Group 195"/>
              <p:cNvGrpSpPr/>
              <p:nvPr/>
            </p:nvGrpSpPr>
            <p:grpSpPr>
              <a:xfrm>
                <a:off x="5654880" y="4937040"/>
                <a:ext cx="71280" cy="71280"/>
                <a:chOff x="5654880" y="4937040"/>
                <a:chExt cx="71280" cy="71280"/>
              </a:xfrm>
            </p:grpSpPr>
            <p:sp>
              <p:nvSpPr>
                <p:cNvPr id="647" name="Straight Connector 196"/>
                <p:cNvSpPr/>
                <p:nvPr/>
              </p:nvSpPr>
              <p:spPr>
                <a:xfrm>
                  <a:off x="5688360" y="4937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8" name="Straight Connector 197"/>
                <p:cNvSpPr/>
                <p:nvPr/>
              </p:nvSpPr>
              <p:spPr>
                <a:xfrm>
                  <a:off x="5654880" y="4972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9" name="Group 198"/>
              <p:cNvGrpSpPr/>
              <p:nvPr/>
            </p:nvGrpSpPr>
            <p:grpSpPr>
              <a:xfrm>
                <a:off x="6042960" y="4961160"/>
                <a:ext cx="71280" cy="71280"/>
                <a:chOff x="6042960" y="4961160"/>
                <a:chExt cx="71280" cy="71280"/>
              </a:xfrm>
            </p:grpSpPr>
            <p:sp>
              <p:nvSpPr>
                <p:cNvPr id="650" name="Straight Connector 199"/>
                <p:cNvSpPr/>
                <p:nvPr/>
              </p:nvSpPr>
              <p:spPr>
                <a:xfrm>
                  <a:off x="6076440" y="4961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1" name="Straight Connector 200"/>
                <p:cNvSpPr/>
                <p:nvPr/>
              </p:nvSpPr>
              <p:spPr>
                <a:xfrm>
                  <a:off x="6042960" y="4996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2" name="Group 201"/>
              <p:cNvGrpSpPr/>
              <p:nvPr/>
            </p:nvGrpSpPr>
            <p:grpSpPr>
              <a:xfrm>
                <a:off x="6569280" y="4956120"/>
                <a:ext cx="71280" cy="71280"/>
                <a:chOff x="6569280" y="4956120"/>
                <a:chExt cx="71280" cy="71280"/>
              </a:xfrm>
            </p:grpSpPr>
            <p:sp>
              <p:nvSpPr>
                <p:cNvPr id="653" name="Straight Connector 202"/>
                <p:cNvSpPr/>
                <p:nvPr/>
              </p:nvSpPr>
              <p:spPr>
                <a:xfrm>
                  <a:off x="6602760" y="4956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Straight Connector 203"/>
                <p:cNvSpPr/>
                <p:nvPr/>
              </p:nvSpPr>
              <p:spPr>
                <a:xfrm>
                  <a:off x="6569280" y="4991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5" name="Group 204"/>
              <p:cNvGrpSpPr/>
              <p:nvPr/>
            </p:nvGrpSpPr>
            <p:grpSpPr>
              <a:xfrm>
                <a:off x="7452720" y="5070600"/>
                <a:ext cx="71280" cy="71280"/>
                <a:chOff x="7452720" y="5070600"/>
                <a:chExt cx="71280" cy="71280"/>
              </a:xfrm>
            </p:grpSpPr>
            <p:sp>
              <p:nvSpPr>
                <p:cNvPr id="656" name="Straight Connector 205"/>
                <p:cNvSpPr/>
                <p:nvPr/>
              </p:nvSpPr>
              <p:spPr>
                <a:xfrm>
                  <a:off x="748620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7" name="Straight Connector 206"/>
                <p:cNvSpPr/>
                <p:nvPr/>
              </p:nvSpPr>
              <p:spPr>
                <a:xfrm>
                  <a:off x="745272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8" name="Group 207"/>
              <p:cNvGrpSpPr/>
              <p:nvPr/>
            </p:nvGrpSpPr>
            <p:grpSpPr>
              <a:xfrm>
                <a:off x="7531560" y="5070600"/>
                <a:ext cx="71280" cy="71280"/>
                <a:chOff x="7531560" y="5070600"/>
                <a:chExt cx="71280" cy="71280"/>
              </a:xfrm>
            </p:grpSpPr>
            <p:sp>
              <p:nvSpPr>
                <p:cNvPr id="659" name="Straight Connector 208"/>
                <p:cNvSpPr/>
                <p:nvPr/>
              </p:nvSpPr>
              <p:spPr>
                <a:xfrm>
                  <a:off x="75650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0" name="Straight Connector 209"/>
                <p:cNvSpPr/>
                <p:nvPr/>
              </p:nvSpPr>
              <p:spPr>
                <a:xfrm>
                  <a:off x="75315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61" name="Group 210"/>
              <p:cNvGrpSpPr/>
              <p:nvPr/>
            </p:nvGrpSpPr>
            <p:grpSpPr>
              <a:xfrm>
                <a:off x="7569360" y="5070600"/>
                <a:ext cx="71280" cy="71280"/>
                <a:chOff x="7569360" y="5070600"/>
                <a:chExt cx="71280" cy="71280"/>
              </a:xfrm>
            </p:grpSpPr>
            <p:sp>
              <p:nvSpPr>
                <p:cNvPr id="662" name="Straight Connector 211"/>
                <p:cNvSpPr/>
                <p:nvPr/>
              </p:nvSpPr>
              <p:spPr>
                <a:xfrm>
                  <a:off x="76028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3" name="Straight Connector 212"/>
                <p:cNvSpPr/>
                <p:nvPr/>
              </p:nvSpPr>
              <p:spPr>
                <a:xfrm>
                  <a:off x="75693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64" name="Group 213"/>
              <p:cNvGrpSpPr/>
              <p:nvPr/>
            </p:nvGrpSpPr>
            <p:grpSpPr>
              <a:xfrm>
                <a:off x="7583760" y="5070600"/>
                <a:ext cx="71280" cy="71280"/>
                <a:chOff x="7583760" y="5070600"/>
                <a:chExt cx="71280" cy="71280"/>
              </a:xfrm>
            </p:grpSpPr>
            <p:sp>
              <p:nvSpPr>
                <p:cNvPr id="665" name="Straight Connector 214"/>
                <p:cNvSpPr/>
                <p:nvPr/>
              </p:nvSpPr>
              <p:spPr>
                <a:xfrm>
                  <a:off x="76172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6" name="Straight Connector 215"/>
                <p:cNvSpPr/>
                <p:nvPr/>
              </p:nvSpPr>
              <p:spPr>
                <a:xfrm>
                  <a:off x="75837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667" name="Group 15365"/>
          <p:cNvGrpSpPr/>
          <p:nvPr/>
        </p:nvGrpSpPr>
        <p:grpSpPr>
          <a:xfrm>
            <a:off x="2371680" y="2004840"/>
            <a:ext cx="5281560" cy="3100680"/>
            <a:chOff x="2371680" y="2004840"/>
            <a:chExt cx="5281560" cy="3100680"/>
          </a:xfrm>
        </p:grpSpPr>
        <p:sp>
          <p:nvSpPr>
            <p:cNvPr id="668" name="Freeform 4"/>
            <p:cNvSpPr/>
            <p:nvPr/>
          </p:nvSpPr>
          <p:spPr>
            <a:xfrm>
              <a:off x="2371680" y="2004840"/>
              <a:ext cx="628920" cy="1519200"/>
            </a:xfrm>
            <a:custGeom>
              <a:avLst/>
              <a:gdLst>
                <a:gd name="textAreaLeft" fmla="*/ 0 w 628920"/>
                <a:gd name="textAreaRight" fmla="*/ 629280 w 628920"/>
                <a:gd name="textAreaTop" fmla="*/ 0 h 1519200"/>
                <a:gd name="textAreaBottom" fmla="*/ 1519560 h 1519200"/>
              </a:gdLst>
              <a:ahLst/>
              <a:rect l="textAreaLeft" t="textAreaTop" r="textAreaRight" b="textAreaBottom"/>
              <a:pathLst>
                <a:path w="629137" h="1519237">
                  <a:moveTo>
                    <a:pt x="0" y="0"/>
                  </a:moveTo>
                  <a:cubicBezTo>
                    <a:pt x="62102" y="10350"/>
                    <a:pt x="38828" y="3419"/>
                    <a:pt x="71438" y="14287"/>
                  </a:cubicBezTo>
                  <a:lnTo>
                    <a:pt x="100013" y="33337"/>
                  </a:lnTo>
                  <a:cubicBezTo>
                    <a:pt x="126761" y="51169"/>
                    <a:pt x="102188" y="44675"/>
                    <a:pt x="128588" y="66675"/>
                  </a:cubicBezTo>
                  <a:cubicBezTo>
                    <a:pt x="132444" y="69889"/>
                    <a:pt x="138113" y="69850"/>
                    <a:pt x="142875" y="71437"/>
                  </a:cubicBezTo>
                  <a:cubicBezTo>
                    <a:pt x="158932" y="95524"/>
                    <a:pt x="143683" y="78985"/>
                    <a:pt x="166688" y="90487"/>
                  </a:cubicBezTo>
                  <a:cubicBezTo>
                    <a:pt x="171807" y="93047"/>
                    <a:pt x="175745" y="97687"/>
                    <a:pt x="180975" y="100012"/>
                  </a:cubicBezTo>
                  <a:cubicBezTo>
                    <a:pt x="190150" y="104090"/>
                    <a:pt x="209550" y="109537"/>
                    <a:pt x="209550" y="109537"/>
                  </a:cubicBezTo>
                  <a:cubicBezTo>
                    <a:pt x="207963" y="114300"/>
                    <a:pt x="202543" y="119335"/>
                    <a:pt x="204788" y="123825"/>
                  </a:cubicBezTo>
                  <a:cubicBezTo>
                    <a:pt x="207033" y="128315"/>
                    <a:pt x="214585" y="126342"/>
                    <a:pt x="219075" y="128587"/>
                  </a:cubicBezTo>
                  <a:cubicBezTo>
                    <a:pt x="250244" y="144171"/>
                    <a:pt x="216046" y="131331"/>
                    <a:pt x="247650" y="152400"/>
                  </a:cubicBezTo>
                  <a:cubicBezTo>
                    <a:pt x="251746" y="155131"/>
                    <a:pt x="278452" y="161291"/>
                    <a:pt x="280988" y="161925"/>
                  </a:cubicBezTo>
                  <a:cubicBezTo>
                    <a:pt x="304528" y="197235"/>
                    <a:pt x="302283" y="179275"/>
                    <a:pt x="295275" y="214312"/>
                  </a:cubicBezTo>
                  <a:cubicBezTo>
                    <a:pt x="306870" y="249097"/>
                    <a:pt x="302365" y="233147"/>
                    <a:pt x="309563" y="261937"/>
                  </a:cubicBezTo>
                  <a:cubicBezTo>
                    <a:pt x="307975" y="296862"/>
                    <a:pt x="307291" y="331840"/>
                    <a:pt x="304800" y="366712"/>
                  </a:cubicBezTo>
                  <a:cubicBezTo>
                    <a:pt x="304112" y="376344"/>
                    <a:pt x="300038" y="385631"/>
                    <a:pt x="300038" y="395287"/>
                  </a:cubicBezTo>
                  <a:cubicBezTo>
                    <a:pt x="300038" y="401832"/>
                    <a:pt x="303380" y="407947"/>
                    <a:pt x="304800" y="414337"/>
                  </a:cubicBezTo>
                  <a:cubicBezTo>
                    <a:pt x="309896" y="437269"/>
                    <a:pt x="311010" y="446622"/>
                    <a:pt x="314325" y="471487"/>
                  </a:cubicBezTo>
                  <a:cubicBezTo>
                    <a:pt x="316017" y="484174"/>
                    <a:pt x="317979" y="496836"/>
                    <a:pt x="319088" y="509587"/>
                  </a:cubicBezTo>
                  <a:cubicBezTo>
                    <a:pt x="321155" y="533363"/>
                    <a:pt x="319927" y="557484"/>
                    <a:pt x="323850" y="581025"/>
                  </a:cubicBezTo>
                  <a:cubicBezTo>
                    <a:pt x="324791" y="586671"/>
                    <a:pt x="330994" y="588168"/>
                    <a:pt x="333375" y="595312"/>
                  </a:cubicBezTo>
                  <a:cubicBezTo>
                    <a:pt x="335756" y="602456"/>
                    <a:pt x="314490" y="588416"/>
                    <a:pt x="338138" y="623887"/>
                  </a:cubicBezTo>
                  <a:cubicBezTo>
                    <a:pt x="348088" y="653742"/>
                    <a:pt x="346869" y="671513"/>
                    <a:pt x="352425" y="695325"/>
                  </a:cubicBezTo>
                  <a:cubicBezTo>
                    <a:pt x="357981" y="719137"/>
                    <a:pt x="367506" y="752475"/>
                    <a:pt x="371475" y="766762"/>
                  </a:cubicBezTo>
                  <a:cubicBezTo>
                    <a:pt x="375444" y="781049"/>
                    <a:pt x="373102" y="777130"/>
                    <a:pt x="376238" y="781050"/>
                  </a:cubicBezTo>
                  <a:cubicBezTo>
                    <a:pt x="379814" y="785519"/>
                    <a:pt x="385763" y="787400"/>
                    <a:pt x="390525" y="790575"/>
                  </a:cubicBezTo>
                  <a:cubicBezTo>
                    <a:pt x="393700" y="795337"/>
                    <a:pt x="397725" y="799632"/>
                    <a:pt x="400050" y="804862"/>
                  </a:cubicBezTo>
                  <a:cubicBezTo>
                    <a:pt x="404128" y="814037"/>
                    <a:pt x="406400" y="823912"/>
                    <a:pt x="409575" y="833437"/>
                  </a:cubicBezTo>
                  <a:lnTo>
                    <a:pt x="414338" y="847725"/>
                  </a:lnTo>
                  <a:cubicBezTo>
                    <a:pt x="418212" y="859346"/>
                    <a:pt x="419392" y="867067"/>
                    <a:pt x="428625" y="876300"/>
                  </a:cubicBezTo>
                  <a:cubicBezTo>
                    <a:pt x="432672" y="880347"/>
                    <a:pt x="438150" y="882650"/>
                    <a:pt x="442913" y="885825"/>
                  </a:cubicBezTo>
                  <a:cubicBezTo>
                    <a:pt x="460376" y="912018"/>
                    <a:pt x="442913" y="889793"/>
                    <a:pt x="466725" y="909637"/>
                  </a:cubicBezTo>
                  <a:cubicBezTo>
                    <a:pt x="471899" y="913949"/>
                    <a:pt x="475409" y="920189"/>
                    <a:pt x="481013" y="923925"/>
                  </a:cubicBezTo>
                  <a:cubicBezTo>
                    <a:pt x="485190" y="926710"/>
                    <a:pt x="490686" y="926710"/>
                    <a:pt x="495300" y="928687"/>
                  </a:cubicBezTo>
                  <a:cubicBezTo>
                    <a:pt x="501826" y="931484"/>
                    <a:pt x="508000" y="935037"/>
                    <a:pt x="514350" y="938212"/>
                  </a:cubicBezTo>
                  <a:cubicBezTo>
                    <a:pt x="517525" y="947737"/>
                    <a:pt x="515521" y="961218"/>
                    <a:pt x="523875" y="966787"/>
                  </a:cubicBezTo>
                  <a:lnTo>
                    <a:pt x="552450" y="985837"/>
                  </a:lnTo>
                  <a:cubicBezTo>
                    <a:pt x="554038" y="993775"/>
                    <a:pt x="555083" y="1001840"/>
                    <a:pt x="557213" y="1009650"/>
                  </a:cubicBezTo>
                  <a:cubicBezTo>
                    <a:pt x="559855" y="1019336"/>
                    <a:pt x="564303" y="1028484"/>
                    <a:pt x="566738" y="1038225"/>
                  </a:cubicBezTo>
                  <a:lnTo>
                    <a:pt x="571500" y="1057275"/>
                  </a:lnTo>
                  <a:cubicBezTo>
                    <a:pt x="573088" y="1074737"/>
                    <a:pt x="574518" y="1092215"/>
                    <a:pt x="576263" y="1109662"/>
                  </a:cubicBezTo>
                  <a:cubicBezTo>
                    <a:pt x="577693" y="1123966"/>
                    <a:pt x="576479" y="1138887"/>
                    <a:pt x="581025" y="1152525"/>
                  </a:cubicBezTo>
                  <a:cubicBezTo>
                    <a:pt x="584645" y="1163385"/>
                    <a:pt x="600075" y="1181100"/>
                    <a:pt x="600075" y="1181100"/>
                  </a:cubicBezTo>
                  <a:cubicBezTo>
                    <a:pt x="601663" y="1190625"/>
                    <a:pt x="603772" y="1200078"/>
                    <a:pt x="604838" y="1209675"/>
                  </a:cubicBezTo>
                  <a:cubicBezTo>
                    <a:pt x="606949" y="1228674"/>
                    <a:pt x="606457" y="1247969"/>
                    <a:pt x="609600" y="1266825"/>
                  </a:cubicBezTo>
                  <a:cubicBezTo>
                    <a:pt x="611251" y="1276729"/>
                    <a:pt x="619125" y="1295400"/>
                    <a:pt x="619125" y="1295400"/>
                  </a:cubicBezTo>
                  <a:cubicBezTo>
                    <a:pt x="620713" y="1349375"/>
                    <a:pt x="621050" y="1403401"/>
                    <a:pt x="623888" y="1457325"/>
                  </a:cubicBezTo>
                  <a:cubicBezTo>
                    <a:pt x="624232" y="1463861"/>
                    <a:pt x="628148" y="1469849"/>
                    <a:pt x="628650" y="1476375"/>
                  </a:cubicBezTo>
                  <a:cubicBezTo>
                    <a:pt x="629746" y="1490620"/>
                    <a:pt x="628650" y="1504950"/>
                    <a:pt x="628650" y="1519237"/>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9" name="Freeform 15359"/>
            <p:cNvSpPr/>
            <p:nvPr/>
          </p:nvSpPr>
          <p:spPr>
            <a:xfrm>
              <a:off x="3000240" y="3524040"/>
              <a:ext cx="904680" cy="995400"/>
            </a:xfrm>
            <a:custGeom>
              <a:avLst/>
              <a:gdLst>
                <a:gd name="textAreaLeft" fmla="*/ 0 w 904680"/>
                <a:gd name="textAreaRight" fmla="*/ 905040 w 904680"/>
                <a:gd name="textAreaTop" fmla="*/ 0 h 995400"/>
                <a:gd name="textAreaBottom" fmla="*/ 995760 h 995400"/>
              </a:gdLst>
              <a:ahLst/>
              <a:rect l="textAreaLeft" t="textAreaTop" r="textAreaRight" b="textAreaBottom"/>
              <a:pathLst>
                <a:path w="904875" h="995363">
                  <a:moveTo>
                    <a:pt x="0" y="0"/>
                  </a:moveTo>
                  <a:cubicBezTo>
                    <a:pt x="46886" y="18754"/>
                    <a:pt x="29104" y="11642"/>
                    <a:pt x="38100" y="19050"/>
                  </a:cubicBezTo>
                  <a:cubicBezTo>
                    <a:pt x="47096" y="26458"/>
                    <a:pt x="47887" y="40797"/>
                    <a:pt x="53975" y="44450"/>
                  </a:cubicBezTo>
                  <a:cubicBezTo>
                    <a:pt x="79308" y="59650"/>
                    <a:pt x="88371" y="50271"/>
                    <a:pt x="100013" y="52388"/>
                  </a:cubicBezTo>
                  <a:cubicBezTo>
                    <a:pt x="111655" y="54505"/>
                    <a:pt x="116016" y="55020"/>
                    <a:pt x="123825" y="57150"/>
                  </a:cubicBezTo>
                  <a:cubicBezTo>
                    <a:pt x="133511" y="59792"/>
                    <a:pt x="152400" y="66675"/>
                    <a:pt x="152400" y="66675"/>
                  </a:cubicBezTo>
                  <a:cubicBezTo>
                    <a:pt x="168457" y="90762"/>
                    <a:pt x="153208" y="74223"/>
                    <a:pt x="176213" y="85725"/>
                  </a:cubicBezTo>
                  <a:cubicBezTo>
                    <a:pt x="181332" y="88285"/>
                    <a:pt x="185270" y="92925"/>
                    <a:pt x="190500" y="95250"/>
                  </a:cubicBezTo>
                  <a:cubicBezTo>
                    <a:pt x="199675" y="99328"/>
                    <a:pt x="219075" y="104775"/>
                    <a:pt x="219075" y="104775"/>
                  </a:cubicBezTo>
                  <a:cubicBezTo>
                    <a:pt x="222250" y="109538"/>
                    <a:pt x="226040" y="113943"/>
                    <a:pt x="228600" y="119063"/>
                  </a:cubicBezTo>
                  <a:cubicBezTo>
                    <a:pt x="248319" y="158499"/>
                    <a:pt x="215590" y="106689"/>
                    <a:pt x="242888" y="147638"/>
                  </a:cubicBezTo>
                  <a:cubicBezTo>
                    <a:pt x="242994" y="148166"/>
                    <a:pt x="250490" y="187615"/>
                    <a:pt x="252413" y="190500"/>
                  </a:cubicBezTo>
                  <a:cubicBezTo>
                    <a:pt x="257689" y="198413"/>
                    <a:pt x="272838" y="202071"/>
                    <a:pt x="280988" y="204788"/>
                  </a:cubicBezTo>
                  <a:cubicBezTo>
                    <a:pt x="284163" y="214313"/>
                    <a:pt x="289845" y="223345"/>
                    <a:pt x="290513" y="233363"/>
                  </a:cubicBezTo>
                  <a:cubicBezTo>
                    <a:pt x="292539" y="263758"/>
                    <a:pt x="292630" y="307711"/>
                    <a:pt x="300038" y="328613"/>
                  </a:cubicBezTo>
                  <a:cubicBezTo>
                    <a:pt x="307446" y="349515"/>
                    <a:pt x="325057" y="350850"/>
                    <a:pt x="334963" y="358775"/>
                  </a:cubicBezTo>
                  <a:cubicBezTo>
                    <a:pt x="338883" y="361911"/>
                    <a:pt x="328613" y="374650"/>
                    <a:pt x="333375" y="376238"/>
                  </a:cubicBezTo>
                  <a:cubicBezTo>
                    <a:pt x="342062" y="402300"/>
                    <a:pt x="336055" y="403772"/>
                    <a:pt x="357188" y="414338"/>
                  </a:cubicBezTo>
                  <a:cubicBezTo>
                    <a:pt x="361678" y="416583"/>
                    <a:pt x="366713" y="417513"/>
                    <a:pt x="371475" y="419100"/>
                  </a:cubicBezTo>
                  <a:cubicBezTo>
                    <a:pt x="369888" y="423863"/>
                    <a:pt x="366159" y="428398"/>
                    <a:pt x="366713" y="433388"/>
                  </a:cubicBezTo>
                  <a:cubicBezTo>
                    <a:pt x="367822" y="443367"/>
                    <a:pt x="373063" y="452438"/>
                    <a:pt x="376238" y="461963"/>
                  </a:cubicBezTo>
                  <a:cubicBezTo>
                    <a:pt x="378048" y="467393"/>
                    <a:pt x="385406" y="468928"/>
                    <a:pt x="390525" y="471488"/>
                  </a:cubicBezTo>
                  <a:cubicBezTo>
                    <a:pt x="398132" y="475291"/>
                    <a:pt x="416750" y="478981"/>
                    <a:pt x="423863" y="481013"/>
                  </a:cubicBezTo>
                  <a:cubicBezTo>
                    <a:pt x="442743" y="486407"/>
                    <a:pt x="438204" y="487898"/>
                    <a:pt x="461963" y="490538"/>
                  </a:cubicBezTo>
                  <a:cubicBezTo>
                    <a:pt x="482535" y="492824"/>
                    <a:pt x="503238" y="493713"/>
                    <a:pt x="523875" y="495300"/>
                  </a:cubicBezTo>
                  <a:cubicBezTo>
                    <a:pt x="535781" y="501385"/>
                    <a:pt x="544512" y="522287"/>
                    <a:pt x="546100" y="530225"/>
                  </a:cubicBezTo>
                  <a:cubicBezTo>
                    <a:pt x="547688" y="538163"/>
                    <a:pt x="533929" y="536046"/>
                    <a:pt x="533400" y="542925"/>
                  </a:cubicBezTo>
                  <a:cubicBezTo>
                    <a:pt x="532871" y="549804"/>
                    <a:pt x="539221" y="561446"/>
                    <a:pt x="542925" y="571500"/>
                  </a:cubicBezTo>
                  <a:cubicBezTo>
                    <a:pt x="546629" y="581554"/>
                    <a:pt x="548481" y="593196"/>
                    <a:pt x="555625" y="603250"/>
                  </a:cubicBezTo>
                  <a:cubicBezTo>
                    <a:pt x="562769" y="613304"/>
                    <a:pt x="563146" y="616731"/>
                    <a:pt x="585788" y="631825"/>
                  </a:cubicBezTo>
                  <a:cubicBezTo>
                    <a:pt x="587375" y="644525"/>
                    <a:pt x="583671" y="655373"/>
                    <a:pt x="584200" y="663575"/>
                  </a:cubicBezTo>
                  <a:cubicBezTo>
                    <a:pt x="584729" y="671777"/>
                    <a:pt x="587640" y="671513"/>
                    <a:pt x="588963" y="681038"/>
                  </a:cubicBezTo>
                  <a:cubicBezTo>
                    <a:pt x="590286" y="690563"/>
                    <a:pt x="580720" y="686476"/>
                    <a:pt x="592138" y="720725"/>
                  </a:cubicBezTo>
                  <a:cubicBezTo>
                    <a:pt x="593725" y="749300"/>
                    <a:pt x="588433" y="784490"/>
                    <a:pt x="593725" y="800100"/>
                  </a:cubicBezTo>
                  <a:cubicBezTo>
                    <a:pt x="599017" y="815710"/>
                    <a:pt x="614892" y="811213"/>
                    <a:pt x="623888" y="814388"/>
                  </a:cubicBezTo>
                  <a:cubicBezTo>
                    <a:pt x="632884" y="817563"/>
                    <a:pt x="639763" y="817563"/>
                    <a:pt x="647700" y="819150"/>
                  </a:cubicBezTo>
                  <a:cubicBezTo>
                    <a:pt x="650875" y="828675"/>
                    <a:pt x="647700" y="844550"/>
                    <a:pt x="657225" y="847725"/>
                  </a:cubicBezTo>
                  <a:cubicBezTo>
                    <a:pt x="661988" y="849313"/>
                    <a:pt x="666643" y="851270"/>
                    <a:pt x="671513" y="852488"/>
                  </a:cubicBezTo>
                  <a:cubicBezTo>
                    <a:pt x="695769" y="858552"/>
                    <a:pt x="711527" y="859050"/>
                    <a:pt x="738188" y="862013"/>
                  </a:cubicBezTo>
                  <a:cubicBezTo>
                    <a:pt x="760868" y="896032"/>
                    <a:pt x="735953" y="867660"/>
                    <a:pt x="809625" y="871538"/>
                  </a:cubicBezTo>
                  <a:cubicBezTo>
                    <a:pt x="819651" y="872066"/>
                    <a:pt x="838200" y="881063"/>
                    <a:pt x="838200" y="881063"/>
                  </a:cubicBezTo>
                  <a:lnTo>
                    <a:pt x="852488" y="923925"/>
                  </a:lnTo>
                  <a:cubicBezTo>
                    <a:pt x="855626" y="933339"/>
                    <a:pt x="858380" y="945784"/>
                    <a:pt x="866775" y="952500"/>
                  </a:cubicBezTo>
                  <a:cubicBezTo>
                    <a:pt x="870695" y="955636"/>
                    <a:pt x="876300" y="955675"/>
                    <a:pt x="881063" y="957263"/>
                  </a:cubicBezTo>
                  <a:cubicBezTo>
                    <a:pt x="902082" y="988792"/>
                    <a:pt x="894994" y="975599"/>
                    <a:pt x="904875" y="995363"/>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0" name="Freeform 15360"/>
            <p:cNvSpPr/>
            <p:nvPr/>
          </p:nvSpPr>
          <p:spPr>
            <a:xfrm>
              <a:off x="3900240" y="4510440"/>
              <a:ext cx="2052720" cy="464400"/>
            </a:xfrm>
            <a:custGeom>
              <a:avLst/>
              <a:gdLst>
                <a:gd name="textAreaLeft" fmla="*/ 0 w 2052720"/>
                <a:gd name="textAreaRight" fmla="*/ 2053080 w 2052720"/>
                <a:gd name="textAreaTop" fmla="*/ 0 h 464400"/>
                <a:gd name="textAreaBottom" fmla="*/ 464760 h 464400"/>
              </a:gdLst>
              <a:ahLst/>
              <a:rect l="textAreaLeft" t="textAreaTop" r="textAreaRight" b="textAreaBottom"/>
              <a:pathLst>
                <a:path w="2052637" h="464343">
                  <a:moveTo>
                    <a:pt x="0" y="0"/>
                  </a:moveTo>
                  <a:cubicBezTo>
                    <a:pt x="6350" y="7937"/>
                    <a:pt x="13663" y="15192"/>
                    <a:pt x="19050" y="23812"/>
                  </a:cubicBezTo>
                  <a:cubicBezTo>
                    <a:pt x="21711" y="28069"/>
                    <a:pt x="20262" y="34550"/>
                    <a:pt x="23812" y="38100"/>
                  </a:cubicBezTo>
                  <a:cubicBezTo>
                    <a:pt x="27362" y="41650"/>
                    <a:pt x="33337" y="41275"/>
                    <a:pt x="38100" y="42862"/>
                  </a:cubicBezTo>
                  <a:cubicBezTo>
                    <a:pt x="42862" y="46037"/>
                    <a:pt x="48811" y="47918"/>
                    <a:pt x="52387" y="52387"/>
                  </a:cubicBezTo>
                  <a:cubicBezTo>
                    <a:pt x="70859" y="75477"/>
                    <a:pt x="40267" y="61048"/>
                    <a:pt x="71437" y="71437"/>
                  </a:cubicBezTo>
                  <a:cubicBezTo>
                    <a:pt x="74612" y="76200"/>
                    <a:pt x="76199" y="82550"/>
                    <a:pt x="80962" y="85725"/>
                  </a:cubicBezTo>
                  <a:cubicBezTo>
                    <a:pt x="86408" y="89356"/>
                    <a:pt x="93572" y="89316"/>
                    <a:pt x="100012" y="90487"/>
                  </a:cubicBezTo>
                  <a:cubicBezTo>
                    <a:pt x="139439" y="97656"/>
                    <a:pt x="165458" y="97257"/>
                    <a:pt x="209550" y="100012"/>
                  </a:cubicBezTo>
                  <a:cubicBezTo>
                    <a:pt x="214312" y="103187"/>
                    <a:pt x="218607" y="107212"/>
                    <a:pt x="223837" y="109537"/>
                  </a:cubicBezTo>
                  <a:cubicBezTo>
                    <a:pt x="233012" y="113615"/>
                    <a:pt x="252412" y="119062"/>
                    <a:pt x="252412" y="119062"/>
                  </a:cubicBezTo>
                  <a:cubicBezTo>
                    <a:pt x="254000" y="123825"/>
                    <a:pt x="254039" y="129430"/>
                    <a:pt x="257175" y="133350"/>
                  </a:cubicBezTo>
                  <a:cubicBezTo>
                    <a:pt x="263890" y="141744"/>
                    <a:pt x="276337" y="144500"/>
                    <a:pt x="285750" y="147637"/>
                  </a:cubicBezTo>
                  <a:cubicBezTo>
                    <a:pt x="287393" y="162423"/>
                    <a:pt x="284031" y="191983"/>
                    <a:pt x="300037" y="204787"/>
                  </a:cubicBezTo>
                  <a:cubicBezTo>
                    <a:pt x="303957" y="207923"/>
                    <a:pt x="309562" y="207962"/>
                    <a:pt x="314325" y="209550"/>
                  </a:cubicBezTo>
                  <a:cubicBezTo>
                    <a:pt x="325070" y="241787"/>
                    <a:pt x="309929" y="209061"/>
                    <a:pt x="333375" y="228600"/>
                  </a:cubicBezTo>
                  <a:cubicBezTo>
                    <a:pt x="339473" y="233681"/>
                    <a:pt x="339879" y="246093"/>
                    <a:pt x="347662" y="247650"/>
                  </a:cubicBezTo>
                  <a:cubicBezTo>
                    <a:pt x="381944" y="254506"/>
                    <a:pt x="417512" y="250825"/>
                    <a:pt x="452437" y="252412"/>
                  </a:cubicBezTo>
                  <a:cubicBezTo>
                    <a:pt x="466725" y="254000"/>
                    <a:pt x="481120" y="254812"/>
                    <a:pt x="495300" y="257175"/>
                  </a:cubicBezTo>
                  <a:cubicBezTo>
                    <a:pt x="500252" y="258000"/>
                    <a:pt x="504598" y="262491"/>
                    <a:pt x="509587" y="261937"/>
                  </a:cubicBezTo>
                  <a:cubicBezTo>
                    <a:pt x="519566" y="260828"/>
                    <a:pt x="538162" y="252412"/>
                    <a:pt x="538162" y="252412"/>
                  </a:cubicBezTo>
                  <a:cubicBezTo>
                    <a:pt x="550862" y="254000"/>
                    <a:pt x="564379" y="252422"/>
                    <a:pt x="576262" y="257175"/>
                  </a:cubicBezTo>
                  <a:cubicBezTo>
                    <a:pt x="581576" y="259301"/>
                    <a:pt x="582123" y="267065"/>
                    <a:pt x="585787" y="271462"/>
                  </a:cubicBezTo>
                  <a:cubicBezTo>
                    <a:pt x="590099" y="276636"/>
                    <a:pt x="593943" y="282963"/>
                    <a:pt x="600075" y="285750"/>
                  </a:cubicBezTo>
                  <a:cubicBezTo>
                    <a:pt x="611992" y="291167"/>
                    <a:pt x="625756" y="291136"/>
                    <a:pt x="638175" y="295275"/>
                  </a:cubicBezTo>
                  <a:lnTo>
                    <a:pt x="652462" y="300037"/>
                  </a:lnTo>
                  <a:cubicBezTo>
                    <a:pt x="659806" y="298201"/>
                    <a:pt x="689283" y="290512"/>
                    <a:pt x="695325" y="290512"/>
                  </a:cubicBezTo>
                  <a:cubicBezTo>
                    <a:pt x="735044" y="290512"/>
                    <a:pt x="774700" y="293687"/>
                    <a:pt x="814387" y="295275"/>
                  </a:cubicBezTo>
                  <a:cubicBezTo>
                    <a:pt x="857357" y="306018"/>
                    <a:pt x="840068" y="300661"/>
                    <a:pt x="866775" y="309562"/>
                  </a:cubicBezTo>
                  <a:cubicBezTo>
                    <a:pt x="868362" y="319087"/>
                    <a:pt x="867219" y="329500"/>
                    <a:pt x="871537" y="338137"/>
                  </a:cubicBezTo>
                  <a:cubicBezTo>
                    <a:pt x="874097" y="343257"/>
                    <a:pt x="881778" y="343615"/>
                    <a:pt x="885825" y="347662"/>
                  </a:cubicBezTo>
                  <a:cubicBezTo>
                    <a:pt x="889872" y="351709"/>
                    <a:pt x="890880" y="358374"/>
                    <a:pt x="895350" y="361950"/>
                  </a:cubicBezTo>
                  <a:cubicBezTo>
                    <a:pt x="898454" y="364433"/>
                    <a:pt x="927446" y="371165"/>
                    <a:pt x="928687" y="371475"/>
                  </a:cubicBezTo>
                  <a:cubicBezTo>
                    <a:pt x="950912" y="369887"/>
                    <a:pt x="973080" y="366712"/>
                    <a:pt x="995362" y="366712"/>
                  </a:cubicBezTo>
                  <a:cubicBezTo>
                    <a:pt x="1021176" y="366712"/>
                    <a:pt x="1050398" y="373356"/>
                    <a:pt x="1076325" y="376237"/>
                  </a:cubicBezTo>
                  <a:cubicBezTo>
                    <a:pt x="1093752" y="378173"/>
                    <a:pt x="1111250" y="379412"/>
                    <a:pt x="1128712" y="381000"/>
                  </a:cubicBezTo>
                  <a:cubicBezTo>
                    <a:pt x="1152525" y="379412"/>
                    <a:pt x="1176311" y="375102"/>
                    <a:pt x="1200150" y="376237"/>
                  </a:cubicBezTo>
                  <a:cubicBezTo>
                    <a:pt x="1206046" y="376518"/>
                    <a:pt x="1232920" y="388002"/>
                    <a:pt x="1243012" y="390525"/>
                  </a:cubicBezTo>
                  <a:cubicBezTo>
                    <a:pt x="1274479" y="398391"/>
                    <a:pt x="1255567" y="394475"/>
                    <a:pt x="1300162" y="400050"/>
                  </a:cubicBezTo>
                  <a:cubicBezTo>
                    <a:pt x="1344254" y="414745"/>
                    <a:pt x="1294314" y="400050"/>
                    <a:pt x="1400175" y="400050"/>
                  </a:cubicBezTo>
                  <a:cubicBezTo>
                    <a:pt x="1417709" y="400050"/>
                    <a:pt x="1435100" y="403225"/>
                    <a:pt x="1452562" y="404812"/>
                  </a:cubicBezTo>
                  <a:cubicBezTo>
                    <a:pt x="1454816" y="411574"/>
                    <a:pt x="1459464" y="429694"/>
                    <a:pt x="1466850" y="433387"/>
                  </a:cubicBezTo>
                  <a:cubicBezTo>
                    <a:pt x="1475487" y="437705"/>
                    <a:pt x="1485999" y="436055"/>
                    <a:pt x="1495425" y="438150"/>
                  </a:cubicBezTo>
                  <a:cubicBezTo>
                    <a:pt x="1500325" y="439239"/>
                    <a:pt x="1504950" y="441325"/>
                    <a:pt x="1509712" y="442912"/>
                  </a:cubicBezTo>
                  <a:cubicBezTo>
                    <a:pt x="1511300" y="447675"/>
                    <a:pt x="1510903" y="454025"/>
                    <a:pt x="1514475" y="457200"/>
                  </a:cubicBezTo>
                  <a:cubicBezTo>
                    <a:pt x="1518047" y="460375"/>
                    <a:pt x="1519238" y="461168"/>
                    <a:pt x="1531144" y="461962"/>
                  </a:cubicBezTo>
                  <a:cubicBezTo>
                    <a:pt x="1543050" y="462756"/>
                    <a:pt x="1568450" y="463549"/>
                    <a:pt x="1585913" y="461962"/>
                  </a:cubicBezTo>
                  <a:cubicBezTo>
                    <a:pt x="1622425" y="463549"/>
                    <a:pt x="1636712" y="464343"/>
                    <a:pt x="1690687" y="464343"/>
                  </a:cubicBezTo>
                  <a:cubicBezTo>
                    <a:pt x="1744662" y="464343"/>
                    <a:pt x="1836737" y="462756"/>
                    <a:pt x="1909762" y="461962"/>
                  </a:cubicBezTo>
                  <a:cubicBezTo>
                    <a:pt x="1978025" y="465534"/>
                    <a:pt x="2012950" y="457001"/>
                    <a:pt x="2052637" y="461962"/>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1" name="Freeform 15362"/>
            <p:cNvSpPr/>
            <p:nvPr/>
          </p:nvSpPr>
          <p:spPr>
            <a:xfrm>
              <a:off x="5955480" y="4974840"/>
              <a:ext cx="1697760" cy="130680"/>
            </a:xfrm>
            <a:custGeom>
              <a:avLst/>
              <a:gdLst>
                <a:gd name="textAreaLeft" fmla="*/ 0 w 1697760"/>
                <a:gd name="textAreaRight" fmla="*/ 1698120 w 1697760"/>
                <a:gd name="textAreaTop" fmla="*/ 0 h 130680"/>
                <a:gd name="textAreaBottom" fmla="*/ 131040 h 130680"/>
              </a:gdLst>
              <a:ahLst/>
              <a:rect l="textAreaLeft" t="textAreaTop" r="textAreaRight" b="textAreaBottom"/>
              <a:pathLst>
                <a:path w="1697832" h="130969">
                  <a:moveTo>
                    <a:pt x="0" y="0"/>
                  </a:moveTo>
                  <a:cubicBezTo>
                    <a:pt x="3969" y="1588"/>
                    <a:pt x="8084" y="2851"/>
                    <a:pt x="11907" y="4763"/>
                  </a:cubicBezTo>
                  <a:cubicBezTo>
                    <a:pt x="30375" y="13997"/>
                    <a:pt x="8233" y="5918"/>
                    <a:pt x="26194" y="11907"/>
                  </a:cubicBezTo>
                  <a:cubicBezTo>
                    <a:pt x="27782" y="14288"/>
                    <a:pt x="28722" y="17262"/>
                    <a:pt x="30957" y="19050"/>
                  </a:cubicBezTo>
                  <a:cubicBezTo>
                    <a:pt x="32917" y="20618"/>
                    <a:pt x="35607" y="21139"/>
                    <a:pt x="38100" y="21432"/>
                  </a:cubicBezTo>
                  <a:cubicBezTo>
                    <a:pt x="49165" y="22734"/>
                    <a:pt x="60325" y="23019"/>
                    <a:pt x="71438" y="23813"/>
                  </a:cubicBezTo>
                  <a:cubicBezTo>
                    <a:pt x="92075" y="23019"/>
                    <a:pt x="69056" y="21432"/>
                    <a:pt x="133350" y="21432"/>
                  </a:cubicBezTo>
                  <a:lnTo>
                    <a:pt x="457200" y="23813"/>
                  </a:lnTo>
                  <a:lnTo>
                    <a:pt x="676275" y="21431"/>
                  </a:lnTo>
                  <a:cubicBezTo>
                    <a:pt x="724098" y="18718"/>
                    <a:pt x="721519" y="25797"/>
                    <a:pt x="731044" y="28575"/>
                  </a:cubicBezTo>
                  <a:cubicBezTo>
                    <a:pt x="740569" y="31353"/>
                    <a:pt x="732715" y="34905"/>
                    <a:pt x="733425" y="38100"/>
                  </a:cubicBezTo>
                  <a:cubicBezTo>
                    <a:pt x="734303" y="42051"/>
                    <a:pt x="735142" y="46014"/>
                    <a:pt x="735807" y="50007"/>
                  </a:cubicBezTo>
                  <a:cubicBezTo>
                    <a:pt x="736730" y="55543"/>
                    <a:pt x="733649" y="63374"/>
                    <a:pt x="738188" y="66675"/>
                  </a:cubicBezTo>
                  <a:cubicBezTo>
                    <a:pt x="744639" y="71367"/>
                    <a:pt x="754063" y="68263"/>
                    <a:pt x="762000" y="69057"/>
                  </a:cubicBezTo>
                  <a:cubicBezTo>
                    <a:pt x="785019" y="68263"/>
                    <a:pt x="808024" y="66675"/>
                    <a:pt x="831057" y="66675"/>
                  </a:cubicBezTo>
                  <a:cubicBezTo>
                    <a:pt x="844014" y="66675"/>
                    <a:pt x="840852" y="68246"/>
                    <a:pt x="838200" y="76200"/>
                  </a:cubicBezTo>
                  <a:cubicBezTo>
                    <a:pt x="838994" y="82550"/>
                    <a:pt x="837032" y="89925"/>
                    <a:pt x="840582" y="95250"/>
                  </a:cubicBezTo>
                  <a:cubicBezTo>
                    <a:pt x="842827" y="98618"/>
                    <a:pt x="848459" y="97248"/>
                    <a:pt x="852488" y="97632"/>
                  </a:cubicBezTo>
                  <a:cubicBezTo>
                    <a:pt x="874697" y="99747"/>
                    <a:pt x="930199" y="101663"/>
                    <a:pt x="947738" y="102394"/>
                  </a:cubicBezTo>
                  <a:cubicBezTo>
                    <a:pt x="948532" y="106363"/>
                    <a:pt x="949137" y="110374"/>
                    <a:pt x="950119" y="114300"/>
                  </a:cubicBezTo>
                  <a:cubicBezTo>
                    <a:pt x="950728" y="116735"/>
                    <a:pt x="951810" y="119030"/>
                    <a:pt x="952500" y="121444"/>
                  </a:cubicBezTo>
                  <a:cubicBezTo>
                    <a:pt x="953399" y="124591"/>
                    <a:pt x="954088" y="127794"/>
                    <a:pt x="954882" y="130969"/>
                  </a:cubicBezTo>
                  <a:lnTo>
                    <a:pt x="1697832" y="121444"/>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72" name="TextBox 6"/>
          <p:cNvSpPr/>
          <p:nvPr/>
        </p:nvSpPr>
        <p:spPr>
          <a:xfrm>
            <a:off x="284040" y="637056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
        <p:nvSpPr>
          <p:cNvPr id="673" name="Line 216"/>
          <p:cNvSpPr/>
          <p:nvPr/>
        </p:nvSpPr>
        <p:spPr>
          <a:xfrm>
            <a:off x="4834080" y="2730600"/>
            <a:ext cx="434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4" name="Line 217"/>
          <p:cNvSpPr/>
          <p:nvPr/>
        </p:nvSpPr>
        <p:spPr>
          <a:xfrm>
            <a:off x="4834080" y="2965320"/>
            <a:ext cx="434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5" name="Rectangle 244"/>
          <p:cNvSpPr/>
          <p:nvPr/>
        </p:nvSpPr>
        <p:spPr>
          <a:xfrm>
            <a:off x="5290560" y="259884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676" name="Rectangle 245"/>
          <p:cNvSpPr/>
          <p:nvPr/>
        </p:nvSpPr>
        <p:spPr>
          <a:xfrm>
            <a:off x="5295960" y="2828880"/>
            <a:ext cx="11620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677" name="TextBox 392"/>
          <p:cNvSpPr/>
          <p:nvPr/>
        </p:nvSpPr>
        <p:spPr>
          <a:xfrm rot="16200000">
            <a:off x="257400" y="3465720"/>
            <a:ext cx="17168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Geneva"/>
              </a:rPr>
              <a:t>Probability of PFS</a:t>
            </a:r>
            <a:endParaRPr b="1" lang="en-US" sz="1400" spc="-1" strike="noStrike">
              <a:solidFill>
                <a:srgbClr val="ffffff"/>
              </a:solidFill>
              <a:latin typeface="Arial"/>
            </a:endParaRPr>
          </a:p>
        </p:txBody>
      </p:sp>
      <p:sp>
        <p:nvSpPr>
          <p:cNvPr id="678" name="Freeform 6"/>
          <p:cNvSpPr/>
          <p:nvPr/>
        </p:nvSpPr>
        <p:spPr>
          <a:xfrm>
            <a:off x="1868400" y="1946160"/>
            <a:ext cx="6629400" cy="3370320"/>
          </a:xfrm>
          <a:custGeom>
            <a:avLst/>
            <a:gdLst>
              <a:gd name="textAreaLeft" fmla="*/ 0 w 6629400"/>
              <a:gd name="textAreaRight" fmla="*/ 6629760 w 6629400"/>
              <a:gd name="textAreaTop" fmla="*/ 0 h 3370320"/>
              <a:gd name="textAreaBottom" fmla="*/ 3370680 h 3370320"/>
            </a:gdLst>
            <a:ahLst/>
            <a:rect l="textAreaLeft" t="textAreaTop" r="textAreaRight" b="textAreaBottom"/>
            <a:pathLst>
              <a:path w="4176" h="2123">
                <a:moveTo>
                  <a:pt x="0" y="0"/>
                </a:moveTo>
                <a:lnTo>
                  <a:pt x="0" y="2123"/>
                </a:lnTo>
                <a:lnTo>
                  <a:pt x="4176" y="2123"/>
                </a:lnTo>
              </a:path>
            </a:pathLst>
          </a:custGeom>
          <a:noFill/>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Rectangle 220"/>
          <p:cNvSpPr/>
          <p:nvPr/>
        </p:nvSpPr>
        <p:spPr>
          <a:xfrm>
            <a:off x="2234160" y="59166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2</a:t>
            </a:r>
            <a:endParaRPr b="1" lang="en-US" sz="1400" spc="-1" strike="noStrike">
              <a:solidFill>
                <a:srgbClr val="ffffff"/>
              </a:solidFill>
              <a:latin typeface="Arial"/>
            </a:endParaRPr>
          </a:p>
        </p:txBody>
      </p:sp>
      <p:sp>
        <p:nvSpPr>
          <p:cNvPr id="680" name="Rectangle 221"/>
          <p:cNvSpPr/>
          <p:nvPr/>
        </p:nvSpPr>
        <p:spPr>
          <a:xfrm>
            <a:off x="337284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72</a:t>
            </a:r>
            <a:endParaRPr b="1" lang="en-US" sz="1400" spc="-1" strike="noStrike">
              <a:solidFill>
                <a:srgbClr val="ffffff"/>
              </a:solidFill>
              <a:latin typeface="Arial"/>
            </a:endParaRPr>
          </a:p>
        </p:txBody>
      </p:sp>
      <p:sp>
        <p:nvSpPr>
          <p:cNvPr id="681" name="Rectangle 223"/>
          <p:cNvSpPr/>
          <p:nvPr/>
        </p:nvSpPr>
        <p:spPr>
          <a:xfrm>
            <a:off x="445392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2</a:t>
            </a:r>
            <a:endParaRPr b="1" lang="en-US" sz="1400" spc="-1" strike="noStrike">
              <a:solidFill>
                <a:srgbClr val="ffffff"/>
              </a:solidFill>
              <a:latin typeface="Arial"/>
            </a:endParaRPr>
          </a:p>
        </p:txBody>
      </p:sp>
      <p:sp>
        <p:nvSpPr>
          <p:cNvPr id="682" name="Rectangle 224"/>
          <p:cNvSpPr/>
          <p:nvPr/>
        </p:nvSpPr>
        <p:spPr>
          <a:xfrm>
            <a:off x="552816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1</a:t>
            </a:r>
            <a:endParaRPr b="1" lang="en-US" sz="1400" spc="-1" strike="noStrike">
              <a:solidFill>
                <a:srgbClr val="ffffff"/>
              </a:solidFill>
              <a:latin typeface="Arial"/>
            </a:endParaRPr>
          </a:p>
        </p:txBody>
      </p:sp>
      <p:sp>
        <p:nvSpPr>
          <p:cNvPr id="683" name="Rectangle 226"/>
          <p:cNvSpPr/>
          <p:nvPr/>
        </p:nvSpPr>
        <p:spPr>
          <a:xfrm>
            <a:off x="6679080" y="59166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6</a:t>
            </a:r>
            <a:endParaRPr b="1" lang="en-US" sz="1400" spc="-1" strike="noStrike">
              <a:solidFill>
                <a:srgbClr val="ffffff"/>
              </a:solidFill>
              <a:latin typeface="Arial"/>
            </a:endParaRPr>
          </a:p>
        </p:txBody>
      </p:sp>
      <p:sp>
        <p:nvSpPr>
          <p:cNvPr id="684" name="Rectangle 227"/>
          <p:cNvSpPr/>
          <p:nvPr/>
        </p:nvSpPr>
        <p:spPr>
          <a:xfrm>
            <a:off x="7773120" y="59166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85" name="Rectangle 231"/>
          <p:cNvSpPr/>
          <p:nvPr/>
        </p:nvSpPr>
        <p:spPr>
          <a:xfrm>
            <a:off x="2234160" y="612288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9</a:t>
            </a:r>
            <a:endParaRPr b="1" lang="en-US" sz="1400" spc="-1" strike="noStrike">
              <a:solidFill>
                <a:srgbClr val="ffffff"/>
              </a:solidFill>
              <a:latin typeface="Arial"/>
            </a:endParaRPr>
          </a:p>
        </p:txBody>
      </p:sp>
      <p:sp>
        <p:nvSpPr>
          <p:cNvPr id="686" name="Rectangle 232"/>
          <p:cNvSpPr/>
          <p:nvPr/>
        </p:nvSpPr>
        <p:spPr>
          <a:xfrm>
            <a:off x="3372840" y="61228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96</a:t>
            </a:r>
            <a:endParaRPr b="1" lang="en-US" sz="1400" spc="-1" strike="noStrike">
              <a:solidFill>
                <a:srgbClr val="ffffff"/>
              </a:solidFill>
              <a:latin typeface="Arial"/>
            </a:endParaRPr>
          </a:p>
        </p:txBody>
      </p:sp>
      <p:sp>
        <p:nvSpPr>
          <p:cNvPr id="687" name="Rectangle 234"/>
          <p:cNvSpPr/>
          <p:nvPr/>
        </p:nvSpPr>
        <p:spPr>
          <a:xfrm>
            <a:off x="4453920" y="61228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8</a:t>
            </a:r>
            <a:endParaRPr b="1" lang="en-US" sz="1400" spc="-1" strike="noStrike">
              <a:solidFill>
                <a:srgbClr val="ffffff"/>
              </a:solidFill>
              <a:latin typeface="Arial"/>
            </a:endParaRPr>
          </a:p>
        </p:txBody>
      </p:sp>
      <p:sp>
        <p:nvSpPr>
          <p:cNvPr id="688" name="Rectangle 235"/>
          <p:cNvSpPr/>
          <p:nvPr/>
        </p:nvSpPr>
        <p:spPr>
          <a:xfrm>
            <a:off x="559188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9</a:t>
            </a:r>
            <a:endParaRPr b="1" lang="en-US" sz="1400" spc="-1" strike="noStrike">
              <a:solidFill>
                <a:srgbClr val="ffffff"/>
              </a:solidFill>
              <a:latin typeface="Arial"/>
            </a:endParaRPr>
          </a:p>
        </p:txBody>
      </p:sp>
      <p:sp>
        <p:nvSpPr>
          <p:cNvPr id="689" name="Rectangle 237"/>
          <p:cNvSpPr/>
          <p:nvPr/>
        </p:nvSpPr>
        <p:spPr>
          <a:xfrm>
            <a:off x="667908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a:t>
            </a:r>
            <a:endParaRPr b="1" lang="en-US" sz="1400" spc="-1" strike="noStrike">
              <a:solidFill>
                <a:srgbClr val="ffffff"/>
              </a:solidFill>
              <a:latin typeface="Arial"/>
            </a:endParaRPr>
          </a:p>
        </p:txBody>
      </p:sp>
      <p:sp>
        <p:nvSpPr>
          <p:cNvPr id="690" name="Rectangle 238"/>
          <p:cNvSpPr/>
          <p:nvPr/>
        </p:nvSpPr>
        <p:spPr>
          <a:xfrm>
            <a:off x="777780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91" name="Rectangle 242"/>
          <p:cNvSpPr/>
          <p:nvPr/>
        </p:nvSpPr>
        <p:spPr>
          <a:xfrm>
            <a:off x="930240" y="591336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692" name="Rectangle 243"/>
          <p:cNvSpPr/>
          <p:nvPr/>
        </p:nvSpPr>
        <p:spPr>
          <a:xfrm>
            <a:off x="926640" y="612288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693" name="Rectangle 49"/>
          <p:cNvSpPr/>
          <p:nvPr/>
        </p:nvSpPr>
        <p:spPr>
          <a:xfrm>
            <a:off x="4795560" y="563256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os</a:t>
            </a:r>
            <a:endParaRPr b="1" lang="en-US" sz="1400" spc="-1" strike="noStrike">
              <a:solidFill>
                <a:srgbClr val="ffffff"/>
              </a:solidFill>
              <a:latin typeface="Arial"/>
            </a:endParaRPr>
          </a:p>
        </p:txBody>
      </p:sp>
      <p:sp>
        <p:nvSpPr>
          <p:cNvPr id="694" name="Rectangle 38"/>
          <p:cNvSpPr/>
          <p:nvPr/>
        </p:nvSpPr>
        <p:spPr>
          <a:xfrm>
            <a:off x="2253240" y="5391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95" name="Rectangle 42"/>
          <p:cNvSpPr/>
          <p:nvPr/>
        </p:nvSpPr>
        <p:spPr>
          <a:xfrm>
            <a:off x="3323160" y="53830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a:t>
            </a:r>
            <a:endParaRPr b="1" lang="en-US" sz="1400" spc="-1" strike="noStrike">
              <a:solidFill>
                <a:srgbClr val="ffffff"/>
              </a:solidFill>
              <a:latin typeface="Arial"/>
            </a:endParaRPr>
          </a:p>
        </p:txBody>
      </p:sp>
      <p:sp>
        <p:nvSpPr>
          <p:cNvPr id="696" name="Rectangle 46"/>
          <p:cNvSpPr/>
          <p:nvPr/>
        </p:nvSpPr>
        <p:spPr>
          <a:xfrm>
            <a:off x="437220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697" name="Rectangle 55"/>
          <p:cNvSpPr/>
          <p:nvPr/>
        </p:nvSpPr>
        <p:spPr>
          <a:xfrm>
            <a:off x="545184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5</a:t>
            </a:r>
            <a:endParaRPr b="1" lang="en-US" sz="1400" spc="-1" strike="noStrike">
              <a:solidFill>
                <a:srgbClr val="ffffff"/>
              </a:solidFill>
              <a:latin typeface="Arial"/>
            </a:endParaRPr>
          </a:p>
        </p:txBody>
      </p:sp>
      <p:sp>
        <p:nvSpPr>
          <p:cNvPr id="698" name="Rectangle 57"/>
          <p:cNvSpPr/>
          <p:nvPr/>
        </p:nvSpPr>
        <p:spPr>
          <a:xfrm>
            <a:off x="654552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0</a:t>
            </a:r>
            <a:endParaRPr b="1" lang="en-US" sz="1400" spc="-1" strike="noStrike">
              <a:solidFill>
                <a:srgbClr val="ffffff"/>
              </a:solidFill>
              <a:latin typeface="Arial"/>
            </a:endParaRPr>
          </a:p>
        </p:txBody>
      </p:sp>
      <p:sp>
        <p:nvSpPr>
          <p:cNvPr id="699" name="Rectangle 61"/>
          <p:cNvSpPr/>
          <p:nvPr/>
        </p:nvSpPr>
        <p:spPr>
          <a:xfrm>
            <a:off x="763776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a:t>
            </a:r>
            <a:endParaRPr b="1" lang="en-US" sz="1400" spc="-1" strike="noStrike">
              <a:solidFill>
                <a:srgbClr val="ffffff"/>
              </a:solidFill>
              <a:latin typeface="Arial"/>
            </a:endParaRPr>
          </a:p>
        </p:txBody>
      </p:sp>
      <p:sp>
        <p:nvSpPr>
          <p:cNvPr id="700" name="Line 36"/>
          <p:cNvSpPr/>
          <p:nvPr/>
        </p:nvSpPr>
        <p:spPr>
          <a:xfrm>
            <a:off x="1800360" y="52689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1" name="Line 41"/>
          <p:cNvSpPr/>
          <p:nvPr/>
        </p:nvSpPr>
        <p:spPr>
          <a:xfrm flipV="1">
            <a:off x="237636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2" name="Line 43"/>
          <p:cNvSpPr/>
          <p:nvPr/>
        </p:nvSpPr>
        <p:spPr>
          <a:xfrm flipV="1">
            <a:off x="346068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Line 47"/>
          <p:cNvSpPr/>
          <p:nvPr/>
        </p:nvSpPr>
        <p:spPr>
          <a:xfrm flipV="1">
            <a:off x="455436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4" name="Line 56"/>
          <p:cNvSpPr/>
          <p:nvPr/>
        </p:nvSpPr>
        <p:spPr>
          <a:xfrm flipV="1">
            <a:off x="563580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5" name="Line 58"/>
          <p:cNvSpPr/>
          <p:nvPr/>
        </p:nvSpPr>
        <p:spPr>
          <a:xfrm flipV="1">
            <a:off x="673272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6" name="Line 62"/>
          <p:cNvSpPr/>
          <p:nvPr/>
        </p:nvSpPr>
        <p:spPr>
          <a:xfrm flipV="1">
            <a:off x="782172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PFS (IRC Assessment)</a:t>
            </a:r>
            <a:endParaRPr b="1" lang="en-US" sz="3200" spc="-1" strike="noStrike">
              <a:solidFill>
                <a:srgbClr val="f8f45a"/>
              </a:solidFill>
              <a:latin typeface="Arial"/>
            </a:endParaRPr>
          </a:p>
        </p:txBody>
      </p:sp>
      <p:grpSp>
        <p:nvGrpSpPr>
          <p:cNvPr id="708" name="Group 76"/>
          <p:cNvGrpSpPr/>
          <p:nvPr/>
        </p:nvGrpSpPr>
        <p:grpSpPr>
          <a:xfrm>
            <a:off x="2343240" y="1960560"/>
            <a:ext cx="5495760" cy="3225960"/>
            <a:chOff x="2343240" y="1960560"/>
            <a:chExt cx="5495760" cy="3225960"/>
          </a:xfrm>
        </p:grpSpPr>
        <p:grpSp>
          <p:nvGrpSpPr>
            <p:cNvPr id="709" name="Group 75"/>
            <p:cNvGrpSpPr/>
            <p:nvPr/>
          </p:nvGrpSpPr>
          <p:grpSpPr>
            <a:xfrm>
              <a:off x="2343240" y="1960560"/>
              <a:ext cx="1659600" cy="2395080"/>
              <a:chOff x="2343240" y="1960560"/>
              <a:chExt cx="1659600" cy="2395080"/>
            </a:xfrm>
          </p:grpSpPr>
          <p:grpSp>
            <p:nvGrpSpPr>
              <p:cNvPr id="710" name="Group 220"/>
              <p:cNvGrpSpPr/>
              <p:nvPr/>
            </p:nvGrpSpPr>
            <p:grpSpPr>
              <a:xfrm>
                <a:off x="2343240" y="1960560"/>
                <a:ext cx="71280" cy="71280"/>
                <a:chOff x="2343240" y="1960560"/>
                <a:chExt cx="71280" cy="71280"/>
              </a:xfrm>
            </p:grpSpPr>
            <p:sp>
              <p:nvSpPr>
                <p:cNvPr id="711" name="Straight Connector 221"/>
                <p:cNvSpPr/>
                <p:nvPr/>
              </p:nvSpPr>
              <p:spPr>
                <a:xfrm>
                  <a:off x="2376360" y="196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2" name="Straight Connector 222"/>
                <p:cNvSpPr/>
                <p:nvPr/>
              </p:nvSpPr>
              <p:spPr>
                <a:xfrm>
                  <a:off x="2343240" y="199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3" name="Group 226"/>
              <p:cNvGrpSpPr/>
              <p:nvPr/>
            </p:nvGrpSpPr>
            <p:grpSpPr>
              <a:xfrm>
                <a:off x="2600280" y="2176920"/>
                <a:ext cx="71280" cy="71280"/>
                <a:chOff x="2600280" y="2176920"/>
                <a:chExt cx="71280" cy="71280"/>
              </a:xfrm>
            </p:grpSpPr>
            <p:sp>
              <p:nvSpPr>
                <p:cNvPr id="714" name="Straight Connector 227"/>
                <p:cNvSpPr/>
                <p:nvPr/>
              </p:nvSpPr>
              <p:spPr>
                <a:xfrm>
                  <a:off x="2633400" y="21769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5" name="Straight Connector 228"/>
                <p:cNvSpPr/>
                <p:nvPr/>
              </p:nvSpPr>
              <p:spPr>
                <a:xfrm>
                  <a:off x="2600280" y="22118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6" name="Group 229"/>
              <p:cNvGrpSpPr/>
              <p:nvPr/>
            </p:nvGrpSpPr>
            <p:grpSpPr>
              <a:xfrm>
                <a:off x="2635920" y="2331720"/>
                <a:ext cx="71280" cy="71280"/>
                <a:chOff x="2635920" y="2331720"/>
                <a:chExt cx="71280" cy="71280"/>
              </a:xfrm>
            </p:grpSpPr>
            <p:sp>
              <p:nvSpPr>
                <p:cNvPr id="717" name="Straight Connector 230"/>
                <p:cNvSpPr/>
                <p:nvPr/>
              </p:nvSpPr>
              <p:spPr>
                <a:xfrm>
                  <a:off x="2685600" y="2331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8" name="Straight Connector 231"/>
                <p:cNvSpPr/>
                <p:nvPr/>
              </p:nvSpPr>
              <p:spPr>
                <a:xfrm>
                  <a:off x="2635920" y="2366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9" name="Group 232"/>
              <p:cNvGrpSpPr/>
              <p:nvPr/>
            </p:nvGrpSpPr>
            <p:grpSpPr>
              <a:xfrm>
                <a:off x="2638440" y="2355480"/>
                <a:ext cx="71280" cy="71280"/>
                <a:chOff x="2638440" y="2355480"/>
                <a:chExt cx="71280" cy="71280"/>
              </a:xfrm>
            </p:grpSpPr>
            <p:sp>
              <p:nvSpPr>
                <p:cNvPr id="720" name="Straight Connector 233"/>
                <p:cNvSpPr/>
                <p:nvPr/>
              </p:nvSpPr>
              <p:spPr>
                <a:xfrm>
                  <a:off x="2671560" y="2355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1" name="Straight Connector 234"/>
                <p:cNvSpPr/>
                <p:nvPr/>
              </p:nvSpPr>
              <p:spPr>
                <a:xfrm>
                  <a:off x="2638440" y="239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2" name="Group 235"/>
              <p:cNvGrpSpPr/>
              <p:nvPr/>
            </p:nvGrpSpPr>
            <p:grpSpPr>
              <a:xfrm>
                <a:off x="2647800" y="2472480"/>
                <a:ext cx="71280" cy="71280"/>
                <a:chOff x="2647800" y="2472480"/>
                <a:chExt cx="71280" cy="71280"/>
              </a:xfrm>
            </p:grpSpPr>
            <p:sp>
              <p:nvSpPr>
                <p:cNvPr id="723" name="Straight Connector 236"/>
                <p:cNvSpPr/>
                <p:nvPr/>
              </p:nvSpPr>
              <p:spPr>
                <a:xfrm>
                  <a:off x="2680920" y="2472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4" name="Straight Connector 237"/>
                <p:cNvSpPr/>
                <p:nvPr/>
              </p:nvSpPr>
              <p:spPr>
                <a:xfrm>
                  <a:off x="2647800" y="2507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5" name="Group 238"/>
              <p:cNvGrpSpPr/>
              <p:nvPr/>
            </p:nvGrpSpPr>
            <p:grpSpPr>
              <a:xfrm>
                <a:off x="2676600" y="2698560"/>
                <a:ext cx="71280" cy="71280"/>
                <a:chOff x="2676600" y="2698560"/>
                <a:chExt cx="71280" cy="71280"/>
              </a:xfrm>
            </p:grpSpPr>
            <p:sp>
              <p:nvSpPr>
                <p:cNvPr id="726" name="Straight Connector 239"/>
                <p:cNvSpPr/>
                <p:nvPr/>
              </p:nvSpPr>
              <p:spPr>
                <a:xfrm>
                  <a:off x="2709720" y="2698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7" name="Straight Connector 240"/>
                <p:cNvSpPr/>
                <p:nvPr/>
              </p:nvSpPr>
              <p:spPr>
                <a:xfrm>
                  <a:off x="2676600" y="2733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8" name="Group 241"/>
              <p:cNvGrpSpPr/>
              <p:nvPr/>
            </p:nvGrpSpPr>
            <p:grpSpPr>
              <a:xfrm>
                <a:off x="2921760" y="2962800"/>
                <a:ext cx="71280" cy="71280"/>
                <a:chOff x="2921760" y="2962800"/>
                <a:chExt cx="71280" cy="71280"/>
              </a:xfrm>
            </p:grpSpPr>
            <p:sp>
              <p:nvSpPr>
                <p:cNvPr id="729" name="Straight Connector 242"/>
                <p:cNvSpPr/>
                <p:nvPr/>
              </p:nvSpPr>
              <p:spPr>
                <a:xfrm>
                  <a:off x="2971440" y="2962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0" name="Straight Connector 243"/>
                <p:cNvSpPr/>
                <p:nvPr/>
              </p:nvSpPr>
              <p:spPr>
                <a:xfrm>
                  <a:off x="2921760" y="2997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1" name="Group 244"/>
              <p:cNvGrpSpPr/>
              <p:nvPr/>
            </p:nvGrpSpPr>
            <p:grpSpPr>
              <a:xfrm>
                <a:off x="2893320" y="2912760"/>
                <a:ext cx="71280" cy="71280"/>
                <a:chOff x="2893320" y="2912760"/>
                <a:chExt cx="71280" cy="71280"/>
              </a:xfrm>
            </p:grpSpPr>
            <p:sp>
              <p:nvSpPr>
                <p:cNvPr id="732" name="Straight Connector 245"/>
                <p:cNvSpPr/>
                <p:nvPr/>
              </p:nvSpPr>
              <p:spPr>
                <a:xfrm>
                  <a:off x="2943000" y="291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3" name="Straight Connector 246"/>
                <p:cNvSpPr/>
                <p:nvPr/>
              </p:nvSpPr>
              <p:spPr>
                <a:xfrm>
                  <a:off x="2893320" y="294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4" name="Group 247"/>
              <p:cNvGrpSpPr/>
              <p:nvPr/>
            </p:nvGrpSpPr>
            <p:grpSpPr>
              <a:xfrm>
                <a:off x="2909880" y="2939040"/>
                <a:ext cx="71280" cy="71280"/>
                <a:chOff x="2909880" y="2939040"/>
                <a:chExt cx="71280" cy="71280"/>
              </a:xfrm>
            </p:grpSpPr>
            <p:sp>
              <p:nvSpPr>
                <p:cNvPr id="735" name="Straight Connector 248"/>
                <p:cNvSpPr/>
                <p:nvPr/>
              </p:nvSpPr>
              <p:spPr>
                <a:xfrm>
                  <a:off x="2943000" y="2939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6" name="Straight Connector 249"/>
                <p:cNvSpPr/>
                <p:nvPr/>
              </p:nvSpPr>
              <p:spPr>
                <a:xfrm>
                  <a:off x="2909880" y="2973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7" name="Group 250"/>
              <p:cNvGrpSpPr/>
              <p:nvPr/>
            </p:nvGrpSpPr>
            <p:grpSpPr>
              <a:xfrm>
                <a:off x="2952720" y="3036600"/>
                <a:ext cx="71280" cy="71280"/>
                <a:chOff x="2952720" y="3036600"/>
                <a:chExt cx="71280" cy="71280"/>
              </a:xfrm>
            </p:grpSpPr>
            <p:sp>
              <p:nvSpPr>
                <p:cNvPr id="738" name="Straight Connector 251"/>
                <p:cNvSpPr/>
                <p:nvPr/>
              </p:nvSpPr>
              <p:spPr>
                <a:xfrm>
                  <a:off x="2985840" y="3036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9" name="Straight Connector 252"/>
                <p:cNvSpPr/>
                <p:nvPr/>
              </p:nvSpPr>
              <p:spPr>
                <a:xfrm>
                  <a:off x="2952720" y="3071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0" name="Group 253"/>
              <p:cNvGrpSpPr/>
              <p:nvPr/>
            </p:nvGrpSpPr>
            <p:grpSpPr>
              <a:xfrm>
                <a:off x="2950200" y="3081960"/>
                <a:ext cx="71280" cy="71280"/>
                <a:chOff x="2950200" y="3081960"/>
                <a:chExt cx="71280" cy="71280"/>
              </a:xfrm>
            </p:grpSpPr>
            <p:sp>
              <p:nvSpPr>
                <p:cNvPr id="741" name="Straight Connector 254"/>
                <p:cNvSpPr/>
                <p:nvPr/>
              </p:nvSpPr>
              <p:spPr>
                <a:xfrm>
                  <a:off x="2999880" y="30819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2" name="Straight Connector 255"/>
                <p:cNvSpPr/>
                <p:nvPr/>
              </p:nvSpPr>
              <p:spPr>
                <a:xfrm>
                  <a:off x="2950200" y="31168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3" name="Group 256"/>
              <p:cNvGrpSpPr/>
              <p:nvPr/>
            </p:nvGrpSpPr>
            <p:grpSpPr>
              <a:xfrm>
                <a:off x="2976480" y="3151080"/>
                <a:ext cx="71280" cy="71280"/>
                <a:chOff x="2976480" y="3151080"/>
                <a:chExt cx="71280" cy="71280"/>
              </a:xfrm>
            </p:grpSpPr>
            <p:sp>
              <p:nvSpPr>
                <p:cNvPr id="744" name="Straight Connector 257"/>
                <p:cNvSpPr/>
                <p:nvPr/>
              </p:nvSpPr>
              <p:spPr>
                <a:xfrm>
                  <a:off x="3009600" y="3151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5" name="Straight Connector 258"/>
                <p:cNvSpPr/>
                <p:nvPr/>
              </p:nvSpPr>
              <p:spPr>
                <a:xfrm>
                  <a:off x="2976480" y="3186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6" name="Group 259"/>
              <p:cNvGrpSpPr/>
              <p:nvPr/>
            </p:nvGrpSpPr>
            <p:grpSpPr>
              <a:xfrm>
                <a:off x="2986200" y="3182040"/>
                <a:ext cx="71280" cy="71280"/>
                <a:chOff x="2986200" y="3182040"/>
                <a:chExt cx="71280" cy="71280"/>
              </a:xfrm>
            </p:grpSpPr>
            <p:sp>
              <p:nvSpPr>
                <p:cNvPr id="747" name="Straight Connector 260"/>
                <p:cNvSpPr/>
                <p:nvPr/>
              </p:nvSpPr>
              <p:spPr>
                <a:xfrm>
                  <a:off x="3019320" y="3182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8" name="Straight Connector 261"/>
                <p:cNvSpPr/>
                <p:nvPr/>
              </p:nvSpPr>
              <p:spPr>
                <a:xfrm>
                  <a:off x="2986200" y="3216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9" name="Group 262"/>
              <p:cNvGrpSpPr/>
              <p:nvPr/>
            </p:nvGrpSpPr>
            <p:grpSpPr>
              <a:xfrm>
                <a:off x="3071880" y="3284280"/>
                <a:ext cx="71280" cy="71280"/>
                <a:chOff x="3071880" y="3284280"/>
                <a:chExt cx="71280" cy="71280"/>
              </a:xfrm>
            </p:grpSpPr>
            <p:sp>
              <p:nvSpPr>
                <p:cNvPr id="750" name="Straight Connector 263"/>
                <p:cNvSpPr/>
                <p:nvPr/>
              </p:nvSpPr>
              <p:spPr>
                <a:xfrm>
                  <a:off x="3105000" y="3284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1" name="Straight Connector 264"/>
                <p:cNvSpPr/>
                <p:nvPr/>
              </p:nvSpPr>
              <p:spPr>
                <a:xfrm>
                  <a:off x="3071880" y="3319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2" name="Group 265"/>
              <p:cNvGrpSpPr/>
              <p:nvPr/>
            </p:nvGrpSpPr>
            <p:grpSpPr>
              <a:xfrm>
                <a:off x="3210120" y="3369960"/>
                <a:ext cx="71280" cy="71280"/>
                <a:chOff x="3210120" y="3369960"/>
                <a:chExt cx="71280" cy="71280"/>
              </a:xfrm>
            </p:grpSpPr>
            <p:sp>
              <p:nvSpPr>
                <p:cNvPr id="753" name="Straight Connector 266"/>
                <p:cNvSpPr/>
                <p:nvPr/>
              </p:nvSpPr>
              <p:spPr>
                <a:xfrm>
                  <a:off x="3243240" y="33699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4" name="Straight Connector 267"/>
                <p:cNvSpPr/>
                <p:nvPr/>
              </p:nvSpPr>
              <p:spPr>
                <a:xfrm>
                  <a:off x="3210120" y="34048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5" name="Group 268"/>
              <p:cNvGrpSpPr/>
              <p:nvPr/>
            </p:nvGrpSpPr>
            <p:grpSpPr>
              <a:xfrm>
                <a:off x="3200400" y="3317760"/>
                <a:ext cx="71280" cy="71280"/>
                <a:chOff x="3200400" y="3317760"/>
                <a:chExt cx="71280" cy="71280"/>
              </a:xfrm>
            </p:grpSpPr>
            <p:sp>
              <p:nvSpPr>
                <p:cNvPr id="756" name="Straight Connector 269"/>
                <p:cNvSpPr/>
                <p:nvPr/>
              </p:nvSpPr>
              <p:spPr>
                <a:xfrm>
                  <a:off x="3233520" y="3317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7" name="Straight Connector 270"/>
                <p:cNvSpPr/>
                <p:nvPr/>
              </p:nvSpPr>
              <p:spPr>
                <a:xfrm>
                  <a:off x="3200400" y="3352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8" name="Group 271"/>
              <p:cNvGrpSpPr/>
              <p:nvPr/>
            </p:nvGrpSpPr>
            <p:grpSpPr>
              <a:xfrm>
                <a:off x="3214800" y="3441600"/>
                <a:ext cx="71280" cy="71280"/>
                <a:chOff x="3214800" y="3441600"/>
                <a:chExt cx="71280" cy="71280"/>
              </a:xfrm>
            </p:grpSpPr>
            <p:sp>
              <p:nvSpPr>
                <p:cNvPr id="759" name="Straight Connector 272"/>
                <p:cNvSpPr/>
                <p:nvPr/>
              </p:nvSpPr>
              <p:spPr>
                <a:xfrm>
                  <a:off x="3247920" y="3441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0" name="Straight Connector 273"/>
                <p:cNvSpPr/>
                <p:nvPr/>
              </p:nvSpPr>
              <p:spPr>
                <a:xfrm>
                  <a:off x="3214800" y="3476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1" name="Group 274"/>
              <p:cNvGrpSpPr/>
              <p:nvPr/>
            </p:nvGrpSpPr>
            <p:grpSpPr>
              <a:xfrm>
                <a:off x="3243240" y="3484440"/>
                <a:ext cx="71280" cy="71280"/>
                <a:chOff x="3243240" y="3484440"/>
                <a:chExt cx="71280" cy="71280"/>
              </a:xfrm>
            </p:grpSpPr>
            <p:sp>
              <p:nvSpPr>
                <p:cNvPr id="762" name="Straight Connector 275"/>
                <p:cNvSpPr/>
                <p:nvPr/>
              </p:nvSpPr>
              <p:spPr>
                <a:xfrm>
                  <a:off x="3276360" y="3484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3" name="Straight Connector 276"/>
                <p:cNvSpPr/>
                <p:nvPr/>
              </p:nvSpPr>
              <p:spPr>
                <a:xfrm>
                  <a:off x="3243240" y="3519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4" name="Group 277"/>
              <p:cNvGrpSpPr/>
              <p:nvPr/>
            </p:nvGrpSpPr>
            <p:grpSpPr>
              <a:xfrm>
                <a:off x="3288600" y="3624840"/>
                <a:ext cx="71280" cy="71280"/>
                <a:chOff x="3288600" y="3624840"/>
                <a:chExt cx="71280" cy="71280"/>
              </a:xfrm>
            </p:grpSpPr>
            <p:sp>
              <p:nvSpPr>
                <p:cNvPr id="765" name="Straight Connector 278"/>
                <p:cNvSpPr/>
                <p:nvPr/>
              </p:nvSpPr>
              <p:spPr>
                <a:xfrm>
                  <a:off x="3324960" y="36248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6" name="Straight Connector 279"/>
                <p:cNvSpPr/>
                <p:nvPr/>
              </p:nvSpPr>
              <p:spPr>
                <a:xfrm>
                  <a:off x="3288600" y="3653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7" name="Group 280"/>
              <p:cNvGrpSpPr/>
              <p:nvPr/>
            </p:nvGrpSpPr>
            <p:grpSpPr>
              <a:xfrm>
                <a:off x="3507480" y="3786840"/>
                <a:ext cx="71280" cy="71280"/>
                <a:chOff x="3507480" y="3786840"/>
                <a:chExt cx="71280" cy="71280"/>
              </a:xfrm>
            </p:grpSpPr>
            <p:sp>
              <p:nvSpPr>
                <p:cNvPr id="768" name="Straight Connector 281"/>
                <p:cNvSpPr/>
                <p:nvPr/>
              </p:nvSpPr>
              <p:spPr>
                <a:xfrm>
                  <a:off x="3540600" y="37868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9" name="Straight Connector 282"/>
                <p:cNvSpPr/>
                <p:nvPr/>
              </p:nvSpPr>
              <p:spPr>
                <a:xfrm>
                  <a:off x="3507480" y="3815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0" name="Group 283"/>
              <p:cNvGrpSpPr/>
              <p:nvPr/>
            </p:nvGrpSpPr>
            <p:grpSpPr>
              <a:xfrm>
                <a:off x="3560040" y="3872520"/>
                <a:ext cx="71280" cy="71280"/>
                <a:chOff x="3560040" y="3872520"/>
                <a:chExt cx="71280" cy="71280"/>
              </a:xfrm>
            </p:grpSpPr>
            <p:sp>
              <p:nvSpPr>
                <p:cNvPr id="771" name="Straight Connector 284"/>
                <p:cNvSpPr/>
                <p:nvPr/>
              </p:nvSpPr>
              <p:spPr>
                <a:xfrm>
                  <a:off x="3609720" y="38725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2" name="Straight Connector 285"/>
                <p:cNvSpPr/>
                <p:nvPr/>
              </p:nvSpPr>
              <p:spPr>
                <a:xfrm>
                  <a:off x="3560040" y="390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3" name="Group 286"/>
              <p:cNvGrpSpPr/>
              <p:nvPr/>
            </p:nvGrpSpPr>
            <p:grpSpPr>
              <a:xfrm>
                <a:off x="3602880" y="3915360"/>
                <a:ext cx="71280" cy="71280"/>
                <a:chOff x="3602880" y="3915360"/>
                <a:chExt cx="71280" cy="71280"/>
              </a:xfrm>
            </p:grpSpPr>
            <p:sp>
              <p:nvSpPr>
                <p:cNvPr id="774" name="Straight Connector 287"/>
                <p:cNvSpPr/>
                <p:nvPr/>
              </p:nvSpPr>
              <p:spPr>
                <a:xfrm>
                  <a:off x="3636000" y="3915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5" name="Straight Connector 288"/>
                <p:cNvSpPr/>
                <p:nvPr/>
              </p:nvSpPr>
              <p:spPr>
                <a:xfrm>
                  <a:off x="3602880" y="3950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6" name="Group 289"/>
              <p:cNvGrpSpPr/>
              <p:nvPr/>
            </p:nvGrpSpPr>
            <p:grpSpPr>
              <a:xfrm>
                <a:off x="3669480" y="4003560"/>
                <a:ext cx="71280" cy="71280"/>
                <a:chOff x="3669480" y="4003560"/>
                <a:chExt cx="71280" cy="71280"/>
              </a:xfrm>
            </p:grpSpPr>
            <p:sp>
              <p:nvSpPr>
                <p:cNvPr id="777" name="Straight Connector 290"/>
                <p:cNvSpPr/>
                <p:nvPr/>
              </p:nvSpPr>
              <p:spPr>
                <a:xfrm>
                  <a:off x="3702600" y="4003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8" name="Straight Connector 291"/>
                <p:cNvSpPr/>
                <p:nvPr/>
              </p:nvSpPr>
              <p:spPr>
                <a:xfrm>
                  <a:off x="3669480" y="4038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9" name="Group 292"/>
              <p:cNvGrpSpPr/>
              <p:nvPr/>
            </p:nvGrpSpPr>
            <p:grpSpPr>
              <a:xfrm>
                <a:off x="3800520" y="4058280"/>
                <a:ext cx="71280" cy="71280"/>
                <a:chOff x="3800520" y="4058280"/>
                <a:chExt cx="71280" cy="71280"/>
              </a:xfrm>
            </p:grpSpPr>
            <p:sp>
              <p:nvSpPr>
                <p:cNvPr id="780" name="Straight Connector 293"/>
                <p:cNvSpPr/>
                <p:nvPr/>
              </p:nvSpPr>
              <p:spPr>
                <a:xfrm>
                  <a:off x="3833640" y="4058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1" name="Straight Connector 294"/>
                <p:cNvSpPr/>
                <p:nvPr/>
              </p:nvSpPr>
              <p:spPr>
                <a:xfrm>
                  <a:off x="3800520" y="4093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2" name="Group 295"/>
              <p:cNvGrpSpPr/>
              <p:nvPr/>
            </p:nvGrpSpPr>
            <p:grpSpPr>
              <a:xfrm>
                <a:off x="3836160" y="4065480"/>
                <a:ext cx="71280" cy="71280"/>
                <a:chOff x="3836160" y="4065480"/>
                <a:chExt cx="71280" cy="71280"/>
              </a:xfrm>
            </p:grpSpPr>
            <p:sp>
              <p:nvSpPr>
                <p:cNvPr id="783" name="Straight Connector 296"/>
                <p:cNvSpPr/>
                <p:nvPr/>
              </p:nvSpPr>
              <p:spPr>
                <a:xfrm>
                  <a:off x="3869280" y="4065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4" name="Straight Connector 297"/>
                <p:cNvSpPr/>
                <p:nvPr/>
              </p:nvSpPr>
              <p:spPr>
                <a:xfrm>
                  <a:off x="3836160" y="410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5" name="Group 298"/>
              <p:cNvGrpSpPr/>
              <p:nvPr/>
            </p:nvGrpSpPr>
            <p:grpSpPr>
              <a:xfrm>
                <a:off x="3855240" y="4210560"/>
                <a:ext cx="71280" cy="71280"/>
                <a:chOff x="3855240" y="4210560"/>
                <a:chExt cx="71280" cy="71280"/>
              </a:xfrm>
            </p:grpSpPr>
            <p:sp>
              <p:nvSpPr>
                <p:cNvPr id="786" name="Straight Connector 299"/>
                <p:cNvSpPr/>
                <p:nvPr/>
              </p:nvSpPr>
              <p:spPr>
                <a:xfrm>
                  <a:off x="3888360" y="421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7" name="Straight Connector 300"/>
                <p:cNvSpPr/>
                <p:nvPr/>
              </p:nvSpPr>
              <p:spPr>
                <a:xfrm>
                  <a:off x="3855240" y="424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8" name="Group 301"/>
              <p:cNvGrpSpPr/>
              <p:nvPr/>
            </p:nvGrpSpPr>
            <p:grpSpPr>
              <a:xfrm>
                <a:off x="3931560" y="4284360"/>
                <a:ext cx="71280" cy="71280"/>
                <a:chOff x="3931560" y="4284360"/>
                <a:chExt cx="71280" cy="71280"/>
              </a:xfrm>
            </p:grpSpPr>
            <p:sp>
              <p:nvSpPr>
                <p:cNvPr id="789" name="Straight Connector 302"/>
                <p:cNvSpPr/>
                <p:nvPr/>
              </p:nvSpPr>
              <p:spPr>
                <a:xfrm>
                  <a:off x="3964680" y="4284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0" name="Straight Connector 303"/>
                <p:cNvSpPr/>
                <p:nvPr/>
              </p:nvSpPr>
              <p:spPr>
                <a:xfrm>
                  <a:off x="3931560" y="4319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791" name="Group 74"/>
            <p:cNvGrpSpPr/>
            <p:nvPr/>
          </p:nvGrpSpPr>
          <p:grpSpPr>
            <a:xfrm>
              <a:off x="4343400" y="4510440"/>
              <a:ext cx="3495600" cy="676080"/>
              <a:chOff x="4343400" y="4510440"/>
              <a:chExt cx="3495600" cy="676080"/>
            </a:xfrm>
          </p:grpSpPr>
          <p:grpSp>
            <p:nvGrpSpPr>
              <p:cNvPr id="792" name="Group 304"/>
              <p:cNvGrpSpPr/>
              <p:nvPr/>
            </p:nvGrpSpPr>
            <p:grpSpPr>
              <a:xfrm>
                <a:off x="4343400" y="4510440"/>
                <a:ext cx="71280" cy="71280"/>
                <a:chOff x="4343400" y="4510440"/>
                <a:chExt cx="71280" cy="71280"/>
              </a:xfrm>
            </p:grpSpPr>
            <p:sp>
              <p:nvSpPr>
                <p:cNvPr id="793" name="Straight Connector 305"/>
                <p:cNvSpPr/>
                <p:nvPr/>
              </p:nvSpPr>
              <p:spPr>
                <a:xfrm>
                  <a:off x="4376520" y="4510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4" name="Straight Connector 306"/>
                <p:cNvSpPr/>
                <p:nvPr/>
              </p:nvSpPr>
              <p:spPr>
                <a:xfrm>
                  <a:off x="4343400" y="4545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95" name="Group 307"/>
              <p:cNvGrpSpPr/>
              <p:nvPr/>
            </p:nvGrpSpPr>
            <p:grpSpPr>
              <a:xfrm>
                <a:off x="4417200" y="4546080"/>
                <a:ext cx="71280" cy="71280"/>
                <a:chOff x="4417200" y="4546080"/>
                <a:chExt cx="71280" cy="71280"/>
              </a:xfrm>
            </p:grpSpPr>
            <p:sp>
              <p:nvSpPr>
                <p:cNvPr id="796" name="Straight Connector 308"/>
                <p:cNvSpPr/>
                <p:nvPr/>
              </p:nvSpPr>
              <p:spPr>
                <a:xfrm>
                  <a:off x="4450320" y="4546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7" name="Straight Connector 309"/>
                <p:cNvSpPr/>
                <p:nvPr/>
              </p:nvSpPr>
              <p:spPr>
                <a:xfrm>
                  <a:off x="4417200" y="4581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98" name="Group 310"/>
              <p:cNvGrpSpPr/>
              <p:nvPr/>
            </p:nvGrpSpPr>
            <p:grpSpPr>
              <a:xfrm>
                <a:off x="4464720" y="4600800"/>
                <a:ext cx="71280" cy="71280"/>
                <a:chOff x="4464720" y="4600800"/>
                <a:chExt cx="71280" cy="71280"/>
              </a:xfrm>
            </p:grpSpPr>
            <p:sp>
              <p:nvSpPr>
                <p:cNvPr id="799" name="Straight Connector 311"/>
                <p:cNvSpPr/>
                <p:nvPr/>
              </p:nvSpPr>
              <p:spPr>
                <a:xfrm>
                  <a:off x="4497840" y="4600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0" name="Straight Connector 312"/>
                <p:cNvSpPr/>
                <p:nvPr/>
              </p:nvSpPr>
              <p:spPr>
                <a:xfrm>
                  <a:off x="4464720" y="4635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1" name="Group 313"/>
              <p:cNvGrpSpPr/>
              <p:nvPr/>
            </p:nvGrpSpPr>
            <p:grpSpPr>
              <a:xfrm>
                <a:off x="4497840" y="4631760"/>
                <a:ext cx="71280" cy="71280"/>
                <a:chOff x="4497840" y="4631760"/>
                <a:chExt cx="71280" cy="71280"/>
              </a:xfrm>
            </p:grpSpPr>
            <p:sp>
              <p:nvSpPr>
                <p:cNvPr id="802" name="Straight Connector 314"/>
                <p:cNvSpPr/>
                <p:nvPr/>
              </p:nvSpPr>
              <p:spPr>
                <a:xfrm>
                  <a:off x="4530960" y="4631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3" name="Straight Connector 315"/>
                <p:cNvSpPr/>
                <p:nvPr/>
              </p:nvSpPr>
              <p:spPr>
                <a:xfrm>
                  <a:off x="4497840" y="4666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4" name="Group 316"/>
              <p:cNvGrpSpPr/>
              <p:nvPr/>
            </p:nvGrpSpPr>
            <p:grpSpPr>
              <a:xfrm>
                <a:off x="4731480" y="4691160"/>
                <a:ext cx="71280" cy="71280"/>
                <a:chOff x="4731480" y="4691160"/>
                <a:chExt cx="71280" cy="71280"/>
              </a:xfrm>
            </p:grpSpPr>
            <p:sp>
              <p:nvSpPr>
                <p:cNvPr id="805" name="Straight Connector 317"/>
                <p:cNvSpPr/>
                <p:nvPr/>
              </p:nvSpPr>
              <p:spPr>
                <a:xfrm>
                  <a:off x="4764600" y="4691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6" name="Straight Connector 318"/>
                <p:cNvSpPr/>
                <p:nvPr/>
              </p:nvSpPr>
              <p:spPr>
                <a:xfrm>
                  <a:off x="4731480" y="4726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7" name="Group 319"/>
              <p:cNvGrpSpPr/>
              <p:nvPr/>
            </p:nvGrpSpPr>
            <p:grpSpPr>
              <a:xfrm>
                <a:off x="5295960" y="4929480"/>
                <a:ext cx="71280" cy="71280"/>
                <a:chOff x="5295960" y="4929480"/>
                <a:chExt cx="71280" cy="71280"/>
              </a:xfrm>
            </p:grpSpPr>
            <p:sp>
              <p:nvSpPr>
                <p:cNvPr id="808" name="Straight Connector 320"/>
                <p:cNvSpPr/>
                <p:nvPr/>
              </p:nvSpPr>
              <p:spPr>
                <a:xfrm>
                  <a:off x="5329080" y="4929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9" name="Straight Connector 321"/>
                <p:cNvSpPr/>
                <p:nvPr/>
              </p:nvSpPr>
              <p:spPr>
                <a:xfrm>
                  <a:off x="5295960" y="4964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0" name="Group 322"/>
              <p:cNvGrpSpPr/>
              <p:nvPr/>
            </p:nvGrpSpPr>
            <p:grpSpPr>
              <a:xfrm>
                <a:off x="5938920" y="5029560"/>
                <a:ext cx="71280" cy="71280"/>
                <a:chOff x="5938920" y="5029560"/>
                <a:chExt cx="71280" cy="71280"/>
              </a:xfrm>
            </p:grpSpPr>
            <p:sp>
              <p:nvSpPr>
                <p:cNvPr id="811" name="Straight Connector 323"/>
                <p:cNvSpPr/>
                <p:nvPr/>
              </p:nvSpPr>
              <p:spPr>
                <a:xfrm>
                  <a:off x="5972040" y="5029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2" name="Straight Connector 324"/>
                <p:cNvSpPr/>
                <p:nvPr/>
              </p:nvSpPr>
              <p:spPr>
                <a:xfrm>
                  <a:off x="5938920" y="5064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3" name="Group 325"/>
              <p:cNvGrpSpPr/>
              <p:nvPr/>
            </p:nvGrpSpPr>
            <p:grpSpPr>
              <a:xfrm>
                <a:off x="6362640" y="5024880"/>
                <a:ext cx="71280" cy="71280"/>
                <a:chOff x="6362640" y="5024880"/>
                <a:chExt cx="71280" cy="71280"/>
              </a:xfrm>
            </p:grpSpPr>
            <p:sp>
              <p:nvSpPr>
                <p:cNvPr id="814" name="Straight Connector 326"/>
                <p:cNvSpPr/>
                <p:nvPr/>
              </p:nvSpPr>
              <p:spPr>
                <a:xfrm>
                  <a:off x="6395760" y="5024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5" name="Straight Connector 327"/>
                <p:cNvSpPr/>
                <p:nvPr/>
              </p:nvSpPr>
              <p:spPr>
                <a:xfrm>
                  <a:off x="6362640" y="5059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6" name="Group 328"/>
              <p:cNvGrpSpPr/>
              <p:nvPr/>
            </p:nvGrpSpPr>
            <p:grpSpPr>
              <a:xfrm>
                <a:off x="6567480" y="5029560"/>
                <a:ext cx="71280" cy="71280"/>
                <a:chOff x="6567480" y="5029560"/>
                <a:chExt cx="71280" cy="71280"/>
              </a:xfrm>
            </p:grpSpPr>
            <p:sp>
              <p:nvSpPr>
                <p:cNvPr id="817" name="Straight Connector 329"/>
                <p:cNvSpPr/>
                <p:nvPr/>
              </p:nvSpPr>
              <p:spPr>
                <a:xfrm>
                  <a:off x="6600600" y="5029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8" name="Straight Connector 330"/>
                <p:cNvSpPr/>
                <p:nvPr/>
              </p:nvSpPr>
              <p:spPr>
                <a:xfrm>
                  <a:off x="6567480" y="5064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9" name="Group 331"/>
              <p:cNvGrpSpPr/>
              <p:nvPr/>
            </p:nvGrpSpPr>
            <p:grpSpPr>
              <a:xfrm>
                <a:off x="6898680" y="5024880"/>
                <a:ext cx="71280" cy="71280"/>
                <a:chOff x="6898680" y="5024880"/>
                <a:chExt cx="71280" cy="71280"/>
              </a:xfrm>
            </p:grpSpPr>
            <p:sp>
              <p:nvSpPr>
                <p:cNvPr id="820" name="Straight Connector 332"/>
                <p:cNvSpPr/>
                <p:nvPr/>
              </p:nvSpPr>
              <p:spPr>
                <a:xfrm>
                  <a:off x="6931800" y="5024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1" name="Straight Connector 333"/>
                <p:cNvSpPr/>
                <p:nvPr/>
              </p:nvSpPr>
              <p:spPr>
                <a:xfrm>
                  <a:off x="6898680" y="5059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2" name="Group 334"/>
              <p:cNvGrpSpPr/>
              <p:nvPr/>
            </p:nvGrpSpPr>
            <p:grpSpPr>
              <a:xfrm>
                <a:off x="7558200" y="5115240"/>
                <a:ext cx="71280" cy="71280"/>
                <a:chOff x="7558200" y="5115240"/>
                <a:chExt cx="71280" cy="71280"/>
              </a:xfrm>
            </p:grpSpPr>
            <p:sp>
              <p:nvSpPr>
                <p:cNvPr id="823" name="Straight Connector 335"/>
                <p:cNvSpPr/>
                <p:nvPr/>
              </p:nvSpPr>
              <p:spPr>
                <a:xfrm>
                  <a:off x="7591320" y="51152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4" name="Straight Connector 336"/>
                <p:cNvSpPr/>
                <p:nvPr/>
              </p:nvSpPr>
              <p:spPr>
                <a:xfrm>
                  <a:off x="7558200" y="51501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5" name="Group 337"/>
              <p:cNvGrpSpPr/>
              <p:nvPr/>
            </p:nvGrpSpPr>
            <p:grpSpPr>
              <a:xfrm>
                <a:off x="7767720" y="5110560"/>
                <a:ext cx="71280" cy="71280"/>
                <a:chOff x="7767720" y="5110560"/>
                <a:chExt cx="71280" cy="71280"/>
              </a:xfrm>
            </p:grpSpPr>
            <p:sp>
              <p:nvSpPr>
                <p:cNvPr id="826" name="Straight Connector 338"/>
                <p:cNvSpPr/>
                <p:nvPr/>
              </p:nvSpPr>
              <p:spPr>
                <a:xfrm>
                  <a:off x="7800840" y="511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7" name="Straight Connector 339"/>
                <p:cNvSpPr/>
                <p:nvPr/>
              </p:nvSpPr>
              <p:spPr>
                <a:xfrm>
                  <a:off x="7767720" y="514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828" name="Group 79"/>
          <p:cNvGrpSpPr/>
          <p:nvPr/>
        </p:nvGrpSpPr>
        <p:grpSpPr>
          <a:xfrm>
            <a:off x="1865160" y="3635280"/>
            <a:ext cx="1459080" cy="1663560"/>
            <a:chOff x="1865160" y="3635280"/>
            <a:chExt cx="1459080" cy="1663560"/>
          </a:xfrm>
        </p:grpSpPr>
        <p:grpSp>
          <p:nvGrpSpPr>
            <p:cNvPr id="829" name="Group 26"/>
            <p:cNvGrpSpPr/>
            <p:nvPr/>
          </p:nvGrpSpPr>
          <p:grpSpPr>
            <a:xfrm>
              <a:off x="1865160" y="3635280"/>
              <a:ext cx="1459080" cy="1663560"/>
              <a:chOff x="1865160" y="3635280"/>
              <a:chExt cx="1459080" cy="1663560"/>
            </a:xfrm>
          </p:grpSpPr>
          <p:sp>
            <p:nvSpPr>
              <p:cNvPr id="830" name="Straight Connector 15367"/>
              <p:cNvSpPr/>
              <p:nvPr/>
            </p:nvSpPr>
            <p:spPr>
              <a:xfrm>
                <a:off x="1865160" y="3635280"/>
                <a:ext cx="1459080" cy="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1" name="Straight Connector 164"/>
              <p:cNvSpPr/>
              <p:nvPr/>
            </p:nvSpPr>
            <p:spPr>
              <a:xfrm flipV="1">
                <a:off x="3322800" y="3643920"/>
                <a:ext cx="0" cy="16549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2" name="Straight Connector 164"/>
            <p:cNvSpPr/>
            <p:nvPr/>
          </p:nvSpPr>
          <p:spPr>
            <a:xfrm flipV="1">
              <a:off x="3231360" y="3643920"/>
              <a:ext cx="0" cy="16549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3" name="Rectangle 52"/>
          <p:cNvSpPr/>
          <p:nvPr/>
        </p:nvSpPr>
        <p:spPr>
          <a:xfrm>
            <a:off x="4973040" y="3422520"/>
            <a:ext cx="32410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tratified HR: 0.87 (95% CI: 0.71-1.07;</a:t>
            </a:r>
            <a:br>
              <a:rPr sz="1400"/>
            </a:br>
            <a:r>
              <a:rPr b="0" lang="en-US" sz="1400" spc="-1" strike="noStrike">
                <a:solidFill>
                  <a:srgbClr val="ffffff"/>
                </a:solidFill>
                <a:latin typeface="Arial"/>
                <a:ea typeface="Geneva"/>
              </a:rPr>
              <a:t>log rank </a:t>
            </a:r>
            <a:r>
              <a:rPr b="0" i="1" lang="en-US" sz="1400" spc="-1" strike="noStrike">
                <a:solidFill>
                  <a:srgbClr val="ffffff"/>
                </a:solidFill>
                <a:latin typeface="Arial"/>
                <a:ea typeface="Geneva"/>
              </a:rPr>
              <a:t>P</a:t>
            </a:r>
            <a:r>
              <a:rPr b="0" lang="en-US" sz="1400" spc="-1" strike="noStrike">
                <a:solidFill>
                  <a:srgbClr val="ffffff"/>
                </a:solidFill>
                <a:latin typeface="Arial"/>
                <a:ea typeface="Geneva"/>
              </a:rPr>
              <a:t> = .1933)</a:t>
            </a:r>
            <a:endParaRPr b="1" lang="en-US" sz="1400" spc="-1" strike="noStrike">
              <a:solidFill>
                <a:srgbClr val="ffffff"/>
              </a:solidFill>
              <a:latin typeface="Arial"/>
            </a:endParaRPr>
          </a:p>
        </p:txBody>
      </p:sp>
      <p:sp>
        <p:nvSpPr>
          <p:cNvPr id="834" name="Rectangle 246"/>
          <p:cNvSpPr/>
          <p:nvPr/>
        </p:nvSpPr>
        <p:spPr>
          <a:xfrm>
            <a:off x="6362640" y="2127240"/>
            <a:ext cx="1662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edian PFS, Mos</a:t>
            </a:r>
            <a:br>
              <a:rPr sz="1400"/>
            </a:br>
            <a:r>
              <a:rPr b="1" lang="en-US" sz="1400" spc="-1" strike="noStrike">
                <a:solidFill>
                  <a:srgbClr val="ffffff"/>
                </a:solidFill>
                <a:latin typeface="Arial"/>
                <a:ea typeface="Geneva"/>
              </a:rPr>
              <a:t>(95% CI)</a:t>
            </a:r>
            <a:endParaRPr b="1" lang="en-US" sz="1400" spc="-1" strike="noStrike">
              <a:solidFill>
                <a:srgbClr val="ffffff"/>
              </a:solidFill>
              <a:latin typeface="Arial"/>
            </a:endParaRPr>
          </a:p>
        </p:txBody>
      </p:sp>
      <p:sp>
        <p:nvSpPr>
          <p:cNvPr id="835" name="Rectangle 248"/>
          <p:cNvSpPr/>
          <p:nvPr/>
        </p:nvSpPr>
        <p:spPr>
          <a:xfrm>
            <a:off x="6450120" y="2587680"/>
            <a:ext cx="1451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4.28 (4.01-5.43)</a:t>
            </a:r>
            <a:endParaRPr b="1" lang="en-US" sz="1400" spc="-1" strike="noStrike">
              <a:solidFill>
                <a:srgbClr val="ffffff"/>
              </a:solidFill>
              <a:latin typeface="Arial"/>
            </a:endParaRPr>
          </a:p>
        </p:txBody>
      </p:sp>
      <p:sp>
        <p:nvSpPr>
          <p:cNvPr id="836" name="Rectangle 249"/>
          <p:cNvSpPr/>
          <p:nvPr/>
        </p:nvSpPr>
        <p:spPr>
          <a:xfrm>
            <a:off x="6450120" y="2817720"/>
            <a:ext cx="1451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91 (2.80-4.21)</a:t>
            </a:r>
            <a:endParaRPr b="1" lang="en-US" sz="1400" spc="-1" strike="noStrike">
              <a:solidFill>
                <a:srgbClr val="ffffff"/>
              </a:solidFill>
              <a:latin typeface="Arial"/>
            </a:endParaRPr>
          </a:p>
        </p:txBody>
      </p:sp>
      <p:sp>
        <p:nvSpPr>
          <p:cNvPr id="837" name="Rectangle 241"/>
          <p:cNvSpPr/>
          <p:nvPr/>
        </p:nvSpPr>
        <p:spPr>
          <a:xfrm>
            <a:off x="918000" y="5716440"/>
            <a:ext cx="13024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Pts at Risk, n</a:t>
            </a:r>
            <a:endParaRPr b="1" lang="en-US" sz="1400" spc="-1" strike="noStrike">
              <a:solidFill>
                <a:srgbClr val="ffffff"/>
              </a:solidFill>
              <a:latin typeface="Arial"/>
            </a:endParaRPr>
          </a:p>
        </p:txBody>
      </p:sp>
      <p:sp>
        <p:nvSpPr>
          <p:cNvPr id="838" name="Line 7"/>
          <p:cNvSpPr/>
          <p:nvPr/>
        </p:nvSpPr>
        <p:spPr>
          <a:xfrm>
            <a:off x="1808280" y="1996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9" name="Rectangle 8"/>
          <p:cNvSpPr/>
          <p:nvPr/>
        </p:nvSpPr>
        <p:spPr>
          <a:xfrm>
            <a:off x="1424520" y="18414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840" name="Line 9"/>
          <p:cNvSpPr/>
          <p:nvPr/>
        </p:nvSpPr>
        <p:spPr>
          <a:xfrm>
            <a:off x="1808280" y="23241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1" name="Rectangle 10"/>
          <p:cNvSpPr/>
          <p:nvPr/>
        </p:nvSpPr>
        <p:spPr>
          <a:xfrm>
            <a:off x="1424520" y="2171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9</a:t>
            </a:r>
            <a:endParaRPr b="1" lang="en-US" sz="1400" spc="-1" strike="noStrike">
              <a:solidFill>
                <a:srgbClr val="ffffff"/>
              </a:solidFill>
              <a:latin typeface="Arial"/>
            </a:endParaRPr>
          </a:p>
        </p:txBody>
      </p:sp>
      <p:sp>
        <p:nvSpPr>
          <p:cNvPr id="842" name="Line 11"/>
          <p:cNvSpPr/>
          <p:nvPr/>
        </p:nvSpPr>
        <p:spPr>
          <a:xfrm>
            <a:off x="1808280" y="265428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3" name="Rectangle 12"/>
          <p:cNvSpPr/>
          <p:nvPr/>
        </p:nvSpPr>
        <p:spPr>
          <a:xfrm>
            <a:off x="1424520" y="25020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8</a:t>
            </a:r>
            <a:endParaRPr b="1" lang="en-US" sz="1400" spc="-1" strike="noStrike">
              <a:solidFill>
                <a:srgbClr val="ffffff"/>
              </a:solidFill>
              <a:latin typeface="Arial"/>
            </a:endParaRPr>
          </a:p>
        </p:txBody>
      </p:sp>
      <p:sp>
        <p:nvSpPr>
          <p:cNvPr id="844" name="Line 22"/>
          <p:cNvSpPr/>
          <p:nvPr/>
        </p:nvSpPr>
        <p:spPr>
          <a:xfrm>
            <a:off x="1808280" y="298116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5" name="Rectangle 23"/>
          <p:cNvSpPr/>
          <p:nvPr/>
        </p:nvSpPr>
        <p:spPr>
          <a:xfrm>
            <a:off x="1424520" y="2824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7</a:t>
            </a:r>
            <a:endParaRPr b="1" lang="en-US" sz="1400" spc="-1" strike="noStrike">
              <a:solidFill>
                <a:srgbClr val="ffffff"/>
              </a:solidFill>
              <a:latin typeface="Arial"/>
            </a:endParaRPr>
          </a:p>
        </p:txBody>
      </p:sp>
      <p:sp>
        <p:nvSpPr>
          <p:cNvPr id="846" name="Line 24"/>
          <p:cNvSpPr/>
          <p:nvPr/>
        </p:nvSpPr>
        <p:spPr>
          <a:xfrm>
            <a:off x="1808280" y="330660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7" name="Rectangle 25"/>
          <p:cNvSpPr/>
          <p:nvPr/>
        </p:nvSpPr>
        <p:spPr>
          <a:xfrm>
            <a:off x="1424520" y="3149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6</a:t>
            </a:r>
            <a:endParaRPr b="1" lang="en-US" sz="1400" spc="-1" strike="noStrike">
              <a:solidFill>
                <a:srgbClr val="ffffff"/>
              </a:solidFill>
              <a:latin typeface="Arial"/>
            </a:endParaRPr>
          </a:p>
        </p:txBody>
      </p:sp>
      <p:sp>
        <p:nvSpPr>
          <p:cNvPr id="848" name="Line 26"/>
          <p:cNvSpPr/>
          <p:nvPr/>
        </p:nvSpPr>
        <p:spPr>
          <a:xfrm>
            <a:off x="1808280" y="36291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9" name="Rectangle 27"/>
          <p:cNvSpPr/>
          <p:nvPr/>
        </p:nvSpPr>
        <p:spPr>
          <a:xfrm>
            <a:off x="1424520" y="34718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5</a:t>
            </a:r>
            <a:endParaRPr b="1" lang="en-US" sz="1400" spc="-1" strike="noStrike">
              <a:solidFill>
                <a:srgbClr val="ffffff"/>
              </a:solidFill>
              <a:latin typeface="Arial"/>
            </a:endParaRPr>
          </a:p>
        </p:txBody>
      </p:sp>
      <p:sp>
        <p:nvSpPr>
          <p:cNvPr id="850" name="Line 28"/>
          <p:cNvSpPr/>
          <p:nvPr/>
        </p:nvSpPr>
        <p:spPr>
          <a:xfrm>
            <a:off x="1808280" y="395460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1" name="Rectangle 29"/>
          <p:cNvSpPr/>
          <p:nvPr/>
        </p:nvSpPr>
        <p:spPr>
          <a:xfrm>
            <a:off x="1424520" y="38019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4</a:t>
            </a:r>
            <a:endParaRPr b="1" lang="en-US" sz="1400" spc="-1" strike="noStrike">
              <a:solidFill>
                <a:srgbClr val="ffffff"/>
              </a:solidFill>
              <a:latin typeface="Arial"/>
            </a:endParaRPr>
          </a:p>
        </p:txBody>
      </p:sp>
      <p:sp>
        <p:nvSpPr>
          <p:cNvPr id="852" name="Line 30"/>
          <p:cNvSpPr/>
          <p:nvPr/>
        </p:nvSpPr>
        <p:spPr>
          <a:xfrm>
            <a:off x="1808280" y="428616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3" name="Rectangle 31"/>
          <p:cNvSpPr/>
          <p:nvPr/>
        </p:nvSpPr>
        <p:spPr>
          <a:xfrm>
            <a:off x="1424520" y="4129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3</a:t>
            </a:r>
            <a:endParaRPr b="1" lang="en-US" sz="1400" spc="-1" strike="noStrike">
              <a:solidFill>
                <a:srgbClr val="ffffff"/>
              </a:solidFill>
              <a:latin typeface="Arial"/>
            </a:endParaRPr>
          </a:p>
        </p:txBody>
      </p:sp>
      <p:sp>
        <p:nvSpPr>
          <p:cNvPr id="854" name="Line 32"/>
          <p:cNvSpPr/>
          <p:nvPr/>
        </p:nvSpPr>
        <p:spPr>
          <a:xfrm>
            <a:off x="1808280" y="460692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5" name="Rectangle 33"/>
          <p:cNvSpPr/>
          <p:nvPr/>
        </p:nvSpPr>
        <p:spPr>
          <a:xfrm>
            <a:off x="1424520" y="4454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2</a:t>
            </a:r>
            <a:endParaRPr b="1" lang="en-US" sz="1400" spc="-1" strike="noStrike">
              <a:solidFill>
                <a:srgbClr val="ffffff"/>
              </a:solidFill>
              <a:latin typeface="Arial"/>
            </a:endParaRPr>
          </a:p>
        </p:txBody>
      </p:sp>
      <p:sp>
        <p:nvSpPr>
          <p:cNvPr id="856" name="Line 34"/>
          <p:cNvSpPr/>
          <p:nvPr/>
        </p:nvSpPr>
        <p:spPr>
          <a:xfrm>
            <a:off x="1808280" y="4938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7" name="Rectangle 35"/>
          <p:cNvSpPr/>
          <p:nvPr/>
        </p:nvSpPr>
        <p:spPr>
          <a:xfrm>
            <a:off x="1424520" y="478152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1</a:t>
            </a:r>
            <a:endParaRPr b="1" lang="en-US" sz="1400" spc="-1" strike="noStrike">
              <a:solidFill>
                <a:srgbClr val="ffffff"/>
              </a:solidFill>
              <a:latin typeface="Arial"/>
            </a:endParaRPr>
          </a:p>
        </p:txBody>
      </p:sp>
      <p:sp>
        <p:nvSpPr>
          <p:cNvPr id="858" name="Rectangle 37"/>
          <p:cNvSpPr/>
          <p:nvPr/>
        </p:nvSpPr>
        <p:spPr>
          <a:xfrm>
            <a:off x="1573920" y="512280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9" name="Group 15"/>
          <p:cNvGrpSpPr/>
          <p:nvPr/>
        </p:nvGrpSpPr>
        <p:grpSpPr>
          <a:xfrm>
            <a:off x="2303640" y="1982880"/>
            <a:ext cx="5018040" cy="3030480"/>
            <a:chOff x="2303640" y="1982880"/>
            <a:chExt cx="5018040" cy="3030480"/>
          </a:xfrm>
        </p:grpSpPr>
        <p:grpSp>
          <p:nvGrpSpPr>
            <p:cNvPr id="860" name="Group 14"/>
            <p:cNvGrpSpPr/>
            <p:nvPr/>
          </p:nvGrpSpPr>
          <p:grpSpPr>
            <a:xfrm>
              <a:off x="2303640" y="1982880"/>
              <a:ext cx="1502640" cy="1780560"/>
              <a:chOff x="2303640" y="1982880"/>
              <a:chExt cx="1502640" cy="1780560"/>
            </a:xfrm>
          </p:grpSpPr>
          <p:grpSp>
            <p:nvGrpSpPr>
              <p:cNvPr id="861" name="Group 64"/>
              <p:cNvGrpSpPr/>
              <p:nvPr/>
            </p:nvGrpSpPr>
            <p:grpSpPr>
              <a:xfrm>
                <a:off x="2303640" y="1982880"/>
                <a:ext cx="71280" cy="71280"/>
                <a:chOff x="2303640" y="1982880"/>
                <a:chExt cx="71280" cy="71280"/>
              </a:xfrm>
            </p:grpSpPr>
            <p:sp>
              <p:nvSpPr>
                <p:cNvPr id="862" name="Straight Connector 65"/>
                <p:cNvSpPr/>
                <p:nvPr/>
              </p:nvSpPr>
              <p:spPr>
                <a:xfrm>
                  <a:off x="2336760" y="1982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3" name="Straight Connector 66"/>
                <p:cNvSpPr/>
                <p:nvPr/>
              </p:nvSpPr>
              <p:spPr>
                <a:xfrm>
                  <a:off x="2303640" y="2017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64" name="Group 94"/>
              <p:cNvGrpSpPr/>
              <p:nvPr/>
            </p:nvGrpSpPr>
            <p:grpSpPr>
              <a:xfrm>
                <a:off x="2367720" y="1985040"/>
                <a:ext cx="71280" cy="71280"/>
                <a:chOff x="2367720" y="1985040"/>
                <a:chExt cx="71280" cy="71280"/>
              </a:xfrm>
            </p:grpSpPr>
            <p:sp>
              <p:nvSpPr>
                <p:cNvPr id="865" name="Straight Connector 95"/>
                <p:cNvSpPr/>
                <p:nvPr/>
              </p:nvSpPr>
              <p:spPr>
                <a:xfrm>
                  <a:off x="2400840" y="1985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6" name="Straight Connector 96"/>
                <p:cNvSpPr/>
                <p:nvPr/>
              </p:nvSpPr>
              <p:spPr>
                <a:xfrm>
                  <a:off x="2367720" y="2020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67" name="Group 97"/>
              <p:cNvGrpSpPr/>
              <p:nvPr/>
            </p:nvGrpSpPr>
            <p:grpSpPr>
              <a:xfrm>
                <a:off x="2417760" y="2027880"/>
                <a:ext cx="71280" cy="71280"/>
                <a:chOff x="2417760" y="2027880"/>
                <a:chExt cx="71280" cy="71280"/>
              </a:xfrm>
            </p:grpSpPr>
            <p:sp>
              <p:nvSpPr>
                <p:cNvPr id="868" name="Straight Connector 98"/>
                <p:cNvSpPr/>
                <p:nvPr/>
              </p:nvSpPr>
              <p:spPr>
                <a:xfrm>
                  <a:off x="2450880" y="2027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9" name="Straight Connector 99"/>
                <p:cNvSpPr/>
                <p:nvPr/>
              </p:nvSpPr>
              <p:spPr>
                <a:xfrm>
                  <a:off x="2417760" y="2062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0" name="Group 100"/>
              <p:cNvGrpSpPr/>
              <p:nvPr/>
            </p:nvGrpSpPr>
            <p:grpSpPr>
              <a:xfrm>
                <a:off x="2494080" y="2120760"/>
                <a:ext cx="71280" cy="71280"/>
                <a:chOff x="2494080" y="2120760"/>
                <a:chExt cx="71280" cy="71280"/>
              </a:xfrm>
            </p:grpSpPr>
            <p:sp>
              <p:nvSpPr>
                <p:cNvPr id="871" name="Straight Connector 101"/>
                <p:cNvSpPr/>
                <p:nvPr/>
              </p:nvSpPr>
              <p:spPr>
                <a:xfrm>
                  <a:off x="2527200" y="2120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2" name="Straight Connector 102"/>
                <p:cNvSpPr/>
                <p:nvPr/>
              </p:nvSpPr>
              <p:spPr>
                <a:xfrm>
                  <a:off x="2494080" y="2155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3" name="Group 103"/>
              <p:cNvGrpSpPr/>
              <p:nvPr/>
            </p:nvGrpSpPr>
            <p:grpSpPr>
              <a:xfrm>
                <a:off x="2579760" y="2218320"/>
                <a:ext cx="71280" cy="71280"/>
                <a:chOff x="2579760" y="2218320"/>
                <a:chExt cx="71280" cy="71280"/>
              </a:xfrm>
            </p:grpSpPr>
            <p:sp>
              <p:nvSpPr>
                <p:cNvPr id="874" name="Straight Connector 104"/>
                <p:cNvSpPr/>
                <p:nvPr/>
              </p:nvSpPr>
              <p:spPr>
                <a:xfrm>
                  <a:off x="2612880" y="2218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5" name="Straight Connector 105"/>
                <p:cNvSpPr/>
                <p:nvPr/>
              </p:nvSpPr>
              <p:spPr>
                <a:xfrm>
                  <a:off x="2579760" y="22471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6" name="Group 106"/>
              <p:cNvGrpSpPr/>
              <p:nvPr/>
            </p:nvGrpSpPr>
            <p:grpSpPr>
              <a:xfrm>
                <a:off x="2591640" y="2247120"/>
                <a:ext cx="71280" cy="71280"/>
                <a:chOff x="2591640" y="2247120"/>
                <a:chExt cx="71280" cy="71280"/>
              </a:xfrm>
            </p:grpSpPr>
            <p:sp>
              <p:nvSpPr>
                <p:cNvPr id="877" name="Straight Connector 107"/>
                <p:cNvSpPr/>
                <p:nvPr/>
              </p:nvSpPr>
              <p:spPr>
                <a:xfrm>
                  <a:off x="2624760" y="2247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8" name="Straight Connector 108"/>
                <p:cNvSpPr/>
                <p:nvPr/>
              </p:nvSpPr>
              <p:spPr>
                <a:xfrm>
                  <a:off x="2591640" y="2282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9" name="Group 109"/>
              <p:cNvGrpSpPr/>
              <p:nvPr/>
            </p:nvGrpSpPr>
            <p:grpSpPr>
              <a:xfrm>
                <a:off x="2734560" y="2494440"/>
                <a:ext cx="71280" cy="71280"/>
                <a:chOff x="2734560" y="2494440"/>
                <a:chExt cx="71280" cy="71280"/>
              </a:xfrm>
            </p:grpSpPr>
            <p:sp>
              <p:nvSpPr>
                <p:cNvPr id="880" name="Straight Connector 110"/>
                <p:cNvSpPr/>
                <p:nvPr/>
              </p:nvSpPr>
              <p:spPr>
                <a:xfrm>
                  <a:off x="2767680" y="2494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1" name="Straight Connector 111"/>
                <p:cNvSpPr/>
                <p:nvPr/>
              </p:nvSpPr>
              <p:spPr>
                <a:xfrm>
                  <a:off x="2734560" y="2523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2" name="Group 112"/>
              <p:cNvGrpSpPr/>
              <p:nvPr/>
            </p:nvGrpSpPr>
            <p:grpSpPr>
              <a:xfrm>
                <a:off x="2868120" y="2689920"/>
                <a:ext cx="71280" cy="71280"/>
                <a:chOff x="2868120" y="2689920"/>
                <a:chExt cx="71280" cy="71280"/>
              </a:xfrm>
            </p:grpSpPr>
            <p:sp>
              <p:nvSpPr>
                <p:cNvPr id="883" name="Straight Connector 113"/>
                <p:cNvSpPr/>
                <p:nvPr/>
              </p:nvSpPr>
              <p:spPr>
                <a:xfrm>
                  <a:off x="2901240" y="26899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4" name="Straight Connector 114"/>
                <p:cNvSpPr/>
                <p:nvPr/>
              </p:nvSpPr>
              <p:spPr>
                <a:xfrm>
                  <a:off x="2868120" y="2718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5" name="Group 115"/>
              <p:cNvGrpSpPr/>
              <p:nvPr/>
            </p:nvGrpSpPr>
            <p:grpSpPr>
              <a:xfrm>
                <a:off x="2970360" y="2904120"/>
                <a:ext cx="71280" cy="71280"/>
                <a:chOff x="2970360" y="2904120"/>
                <a:chExt cx="71280" cy="71280"/>
              </a:xfrm>
            </p:grpSpPr>
            <p:sp>
              <p:nvSpPr>
                <p:cNvPr id="886" name="Straight Connector 116"/>
                <p:cNvSpPr/>
                <p:nvPr/>
              </p:nvSpPr>
              <p:spPr>
                <a:xfrm>
                  <a:off x="3003480" y="2904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7" name="Straight Connector 117"/>
                <p:cNvSpPr/>
                <p:nvPr/>
              </p:nvSpPr>
              <p:spPr>
                <a:xfrm>
                  <a:off x="2970360" y="2939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8" name="Group 118"/>
              <p:cNvGrpSpPr/>
              <p:nvPr/>
            </p:nvGrpSpPr>
            <p:grpSpPr>
              <a:xfrm>
                <a:off x="3042000" y="2989800"/>
                <a:ext cx="71280" cy="71280"/>
                <a:chOff x="3042000" y="2989800"/>
                <a:chExt cx="71280" cy="71280"/>
              </a:xfrm>
            </p:grpSpPr>
            <p:sp>
              <p:nvSpPr>
                <p:cNvPr id="889" name="Straight Connector 119"/>
                <p:cNvSpPr/>
                <p:nvPr/>
              </p:nvSpPr>
              <p:spPr>
                <a:xfrm>
                  <a:off x="3075120" y="2989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0" name="Straight Connector 120"/>
                <p:cNvSpPr/>
                <p:nvPr/>
              </p:nvSpPr>
              <p:spPr>
                <a:xfrm>
                  <a:off x="3042000" y="3024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1" name="Group 121"/>
              <p:cNvGrpSpPr/>
              <p:nvPr/>
            </p:nvGrpSpPr>
            <p:grpSpPr>
              <a:xfrm>
                <a:off x="3011040" y="2942280"/>
                <a:ext cx="71280" cy="71280"/>
                <a:chOff x="3011040" y="2942280"/>
                <a:chExt cx="71280" cy="71280"/>
              </a:xfrm>
            </p:grpSpPr>
            <p:sp>
              <p:nvSpPr>
                <p:cNvPr id="892" name="Straight Connector 122"/>
                <p:cNvSpPr/>
                <p:nvPr/>
              </p:nvSpPr>
              <p:spPr>
                <a:xfrm>
                  <a:off x="3044160" y="294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3" name="Straight Connector 123"/>
                <p:cNvSpPr/>
                <p:nvPr/>
              </p:nvSpPr>
              <p:spPr>
                <a:xfrm>
                  <a:off x="3011040" y="297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4" name="Group 124"/>
              <p:cNvGrpSpPr/>
              <p:nvPr/>
            </p:nvGrpSpPr>
            <p:grpSpPr>
              <a:xfrm>
                <a:off x="3337200" y="3351600"/>
                <a:ext cx="71280" cy="71280"/>
                <a:chOff x="3337200" y="3351600"/>
                <a:chExt cx="71280" cy="71280"/>
              </a:xfrm>
            </p:grpSpPr>
            <p:sp>
              <p:nvSpPr>
                <p:cNvPr id="895" name="Straight Connector 125"/>
                <p:cNvSpPr/>
                <p:nvPr/>
              </p:nvSpPr>
              <p:spPr>
                <a:xfrm>
                  <a:off x="3370320" y="3351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6" name="Straight Connector 126"/>
                <p:cNvSpPr/>
                <p:nvPr/>
              </p:nvSpPr>
              <p:spPr>
                <a:xfrm>
                  <a:off x="3337200" y="338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7" name="Group 127"/>
              <p:cNvGrpSpPr/>
              <p:nvPr/>
            </p:nvGrpSpPr>
            <p:grpSpPr>
              <a:xfrm>
                <a:off x="3372840" y="3425400"/>
                <a:ext cx="71280" cy="71280"/>
                <a:chOff x="3372840" y="3425400"/>
                <a:chExt cx="71280" cy="71280"/>
              </a:xfrm>
            </p:grpSpPr>
            <p:sp>
              <p:nvSpPr>
                <p:cNvPr id="898" name="Straight Connector 128"/>
                <p:cNvSpPr/>
                <p:nvPr/>
              </p:nvSpPr>
              <p:spPr>
                <a:xfrm>
                  <a:off x="3405960" y="3425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9" name="Straight Connector 129"/>
                <p:cNvSpPr/>
                <p:nvPr/>
              </p:nvSpPr>
              <p:spPr>
                <a:xfrm>
                  <a:off x="3372840" y="3460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0" name="Group 130"/>
              <p:cNvGrpSpPr/>
              <p:nvPr/>
            </p:nvGrpSpPr>
            <p:grpSpPr>
              <a:xfrm>
                <a:off x="3461040" y="3485160"/>
                <a:ext cx="71280" cy="71280"/>
                <a:chOff x="3461040" y="3485160"/>
                <a:chExt cx="71280" cy="71280"/>
              </a:xfrm>
            </p:grpSpPr>
            <p:sp>
              <p:nvSpPr>
                <p:cNvPr id="901" name="Straight Connector 131"/>
                <p:cNvSpPr/>
                <p:nvPr/>
              </p:nvSpPr>
              <p:spPr>
                <a:xfrm>
                  <a:off x="3494160" y="3485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2" name="Straight Connector 132"/>
                <p:cNvSpPr/>
                <p:nvPr/>
              </p:nvSpPr>
              <p:spPr>
                <a:xfrm>
                  <a:off x="3461040" y="3520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3" name="Group 133"/>
              <p:cNvGrpSpPr/>
              <p:nvPr/>
            </p:nvGrpSpPr>
            <p:grpSpPr>
              <a:xfrm>
                <a:off x="3225240" y="3182760"/>
                <a:ext cx="71280" cy="71280"/>
                <a:chOff x="3225240" y="3182760"/>
                <a:chExt cx="71280" cy="71280"/>
              </a:xfrm>
            </p:grpSpPr>
            <p:sp>
              <p:nvSpPr>
                <p:cNvPr id="904" name="Straight Connector 134"/>
                <p:cNvSpPr/>
                <p:nvPr/>
              </p:nvSpPr>
              <p:spPr>
                <a:xfrm>
                  <a:off x="3258360" y="318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5" name="Straight Connector 135"/>
                <p:cNvSpPr/>
                <p:nvPr/>
              </p:nvSpPr>
              <p:spPr>
                <a:xfrm>
                  <a:off x="3225240" y="321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6" name="Group 136"/>
              <p:cNvGrpSpPr/>
              <p:nvPr/>
            </p:nvGrpSpPr>
            <p:grpSpPr>
              <a:xfrm>
                <a:off x="3654000" y="3649320"/>
                <a:ext cx="71280" cy="71280"/>
                <a:chOff x="3654000" y="3649320"/>
                <a:chExt cx="71280" cy="71280"/>
              </a:xfrm>
            </p:grpSpPr>
            <p:sp>
              <p:nvSpPr>
                <p:cNvPr id="907" name="Straight Connector 137"/>
                <p:cNvSpPr/>
                <p:nvPr/>
              </p:nvSpPr>
              <p:spPr>
                <a:xfrm>
                  <a:off x="3687120" y="3649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8" name="Straight Connector 138"/>
                <p:cNvSpPr/>
                <p:nvPr/>
              </p:nvSpPr>
              <p:spPr>
                <a:xfrm>
                  <a:off x="3654000" y="3684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9" name="Group 139"/>
              <p:cNvGrpSpPr/>
              <p:nvPr/>
            </p:nvGrpSpPr>
            <p:grpSpPr>
              <a:xfrm>
                <a:off x="3518280" y="3523320"/>
                <a:ext cx="71280" cy="71280"/>
                <a:chOff x="3518280" y="3523320"/>
                <a:chExt cx="71280" cy="71280"/>
              </a:xfrm>
            </p:grpSpPr>
            <p:sp>
              <p:nvSpPr>
                <p:cNvPr id="910" name="Straight Connector 140"/>
                <p:cNvSpPr/>
                <p:nvPr/>
              </p:nvSpPr>
              <p:spPr>
                <a:xfrm>
                  <a:off x="3551400" y="3523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1" name="Straight Connector 141"/>
                <p:cNvSpPr/>
                <p:nvPr/>
              </p:nvSpPr>
              <p:spPr>
                <a:xfrm>
                  <a:off x="3518280" y="3558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12" name="Group 142"/>
              <p:cNvGrpSpPr/>
              <p:nvPr/>
            </p:nvGrpSpPr>
            <p:grpSpPr>
              <a:xfrm>
                <a:off x="3487320" y="3523320"/>
                <a:ext cx="71280" cy="71280"/>
                <a:chOff x="3487320" y="3523320"/>
                <a:chExt cx="71280" cy="71280"/>
              </a:xfrm>
            </p:grpSpPr>
            <p:sp>
              <p:nvSpPr>
                <p:cNvPr id="913" name="Straight Connector 143"/>
                <p:cNvSpPr/>
                <p:nvPr/>
              </p:nvSpPr>
              <p:spPr>
                <a:xfrm>
                  <a:off x="3520440" y="3523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4" name="Straight Connector 144"/>
                <p:cNvSpPr/>
                <p:nvPr/>
              </p:nvSpPr>
              <p:spPr>
                <a:xfrm>
                  <a:off x="3487320" y="3558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15" name="Group 151"/>
              <p:cNvGrpSpPr/>
              <p:nvPr/>
            </p:nvGrpSpPr>
            <p:grpSpPr>
              <a:xfrm>
                <a:off x="3735000" y="3692160"/>
                <a:ext cx="71280" cy="71280"/>
                <a:chOff x="3735000" y="3692160"/>
                <a:chExt cx="71280" cy="71280"/>
              </a:xfrm>
            </p:grpSpPr>
            <p:sp>
              <p:nvSpPr>
                <p:cNvPr id="916" name="Straight Connector 152"/>
                <p:cNvSpPr/>
                <p:nvPr/>
              </p:nvSpPr>
              <p:spPr>
                <a:xfrm>
                  <a:off x="3768120" y="3692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7" name="Straight Connector 153"/>
                <p:cNvSpPr/>
                <p:nvPr/>
              </p:nvSpPr>
              <p:spPr>
                <a:xfrm>
                  <a:off x="3735000" y="3727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918" name="Group 13"/>
            <p:cNvGrpSpPr/>
            <p:nvPr/>
          </p:nvGrpSpPr>
          <p:grpSpPr>
            <a:xfrm>
              <a:off x="3823200" y="3756600"/>
              <a:ext cx="3498480" cy="1256760"/>
              <a:chOff x="3823200" y="3756600"/>
              <a:chExt cx="3498480" cy="1256760"/>
            </a:xfrm>
          </p:grpSpPr>
          <p:grpSp>
            <p:nvGrpSpPr>
              <p:cNvPr id="919" name="Group 145"/>
              <p:cNvGrpSpPr/>
              <p:nvPr/>
            </p:nvGrpSpPr>
            <p:grpSpPr>
              <a:xfrm>
                <a:off x="3901680" y="3832560"/>
                <a:ext cx="71280" cy="71280"/>
                <a:chOff x="3901680" y="3832560"/>
                <a:chExt cx="71280" cy="71280"/>
              </a:xfrm>
            </p:grpSpPr>
            <p:sp>
              <p:nvSpPr>
                <p:cNvPr id="920" name="Straight Connector 146"/>
                <p:cNvSpPr/>
                <p:nvPr/>
              </p:nvSpPr>
              <p:spPr>
                <a:xfrm>
                  <a:off x="3934800" y="3832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1" name="Straight Connector 147"/>
                <p:cNvSpPr/>
                <p:nvPr/>
              </p:nvSpPr>
              <p:spPr>
                <a:xfrm>
                  <a:off x="3901680" y="3867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2" name="Group 148"/>
              <p:cNvGrpSpPr/>
              <p:nvPr/>
            </p:nvGrpSpPr>
            <p:grpSpPr>
              <a:xfrm>
                <a:off x="3823200" y="3756600"/>
                <a:ext cx="71280" cy="71280"/>
                <a:chOff x="3823200" y="3756600"/>
                <a:chExt cx="71280" cy="71280"/>
              </a:xfrm>
            </p:grpSpPr>
            <p:sp>
              <p:nvSpPr>
                <p:cNvPr id="923" name="Straight Connector 149"/>
                <p:cNvSpPr/>
                <p:nvPr/>
              </p:nvSpPr>
              <p:spPr>
                <a:xfrm>
                  <a:off x="3856320" y="3756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4" name="Straight Connector 150"/>
                <p:cNvSpPr/>
                <p:nvPr/>
              </p:nvSpPr>
              <p:spPr>
                <a:xfrm>
                  <a:off x="3823200" y="3791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5" name="Group 154"/>
              <p:cNvGrpSpPr/>
              <p:nvPr/>
            </p:nvGrpSpPr>
            <p:grpSpPr>
              <a:xfrm>
                <a:off x="4187520" y="4082760"/>
                <a:ext cx="71280" cy="71280"/>
                <a:chOff x="4187520" y="4082760"/>
                <a:chExt cx="71280" cy="71280"/>
              </a:xfrm>
            </p:grpSpPr>
            <p:sp>
              <p:nvSpPr>
                <p:cNvPr id="926" name="Straight Connector 155"/>
                <p:cNvSpPr/>
                <p:nvPr/>
              </p:nvSpPr>
              <p:spPr>
                <a:xfrm>
                  <a:off x="4220640" y="408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7" name="Straight Connector 156"/>
                <p:cNvSpPr/>
                <p:nvPr/>
              </p:nvSpPr>
              <p:spPr>
                <a:xfrm>
                  <a:off x="4187520" y="411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8" name="Group 157"/>
              <p:cNvGrpSpPr/>
              <p:nvPr/>
            </p:nvGrpSpPr>
            <p:grpSpPr>
              <a:xfrm>
                <a:off x="4044600" y="3908880"/>
                <a:ext cx="71280" cy="71280"/>
                <a:chOff x="4044600" y="3908880"/>
                <a:chExt cx="71280" cy="71280"/>
              </a:xfrm>
            </p:grpSpPr>
            <p:sp>
              <p:nvSpPr>
                <p:cNvPr id="929" name="Straight Connector 158"/>
                <p:cNvSpPr/>
                <p:nvPr/>
              </p:nvSpPr>
              <p:spPr>
                <a:xfrm>
                  <a:off x="4077720" y="3908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0" name="Straight Connector 159"/>
                <p:cNvSpPr/>
                <p:nvPr/>
              </p:nvSpPr>
              <p:spPr>
                <a:xfrm>
                  <a:off x="4044600" y="3943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1" name="Group 160"/>
              <p:cNvGrpSpPr/>
              <p:nvPr/>
            </p:nvGrpSpPr>
            <p:grpSpPr>
              <a:xfrm>
                <a:off x="3939840" y="3842280"/>
                <a:ext cx="71280" cy="71280"/>
                <a:chOff x="3939840" y="3842280"/>
                <a:chExt cx="71280" cy="71280"/>
              </a:xfrm>
            </p:grpSpPr>
            <p:sp>
              <p:nvSpPr>
                <p:cNvPr id="932" name="Straight Connector 161"/>
                <p:cNvSpPr/>
                <p:nvPr/>
              </p:nvSpPr>
              <p:spPr>
                <a:xfrm>
                  <a:off x="3972960" y="384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3" name="Straight Connector 162"/>
                <p:cNvSpPr/>
                <p:nvPr/>
              </p:nvSpPr>
              <p:spPr>
                <a:xfrm>
                  <a:off x="3939840" y="387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4" name="Group 163"/>
              <p:cNvGrpSpPr/>
              <p:nvPr/>
            </p:nvGrpSpPr>
            <p:grpSpPr>
              <a:xfrm>
                <a:off x="4015800" y="3906360"/>
                <a:ext cx="71280" cy="71280"/>
                <a:chOff x="4015800" y="3906360"/>
                <a:chExt cx="71280" cy="71280"/>
              </a:xfrm>
            </p:grpSpPr>
            <p:sp>
              <p:nvSpPr>
                <p:cNvPr id="935" name="Straight Connector 164"/>
                <p:cNvSpPr/>
                <p:nvPr/>
              </p:nvSpPr>
              <p:spPr>
                <a:xfrm>
                  <a:off x="4048920" y="3906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6" name="Straight Connector 165"/>
                <p:cNvSpPr/>
                <p:nvPr/>
              </p:nvSpPr>
              <p:spPr>
                <a:xfrm>
                  <a:off x="4015800" y="39488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7" name="Group 166"/>
              <p:cNvGrpSpPr/>
              <p:nvPr/>
            </p:nvGrpSpPr>
            <p:grpSpPr>
              <a:xfrm>
                <a:off x="4046760" y="3925440"/>
                <a:ext cx="71280" cy="71280"/>
                <a:chOff x="4046760" y="3925440"/>
                <a:chExt cx="71280" cy="71280"/>
              </a:xfrm>
            </p:grpSpPr>
            <p:sp>
              <p:nvSpPr>
                <p:cNvPr id="938" name="Straight Connector 167"/>
                <p:cNvSpPr/>
                <p:nvPr/>
              </p:nvSpPr>
              <p:spPr>
                <a:xfrm>
                  <a:off x="4079880" y="3925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9" name="Straight Connector 168"/>
                <p:cNvSpPr/>
                <p:nvPr/>
              </p:nvSpPr>
              <p:spPr>
                <a:xfrm>
                  <a:off x="4046760" y="39679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0" name="Group 169"/>
              <p:cNvGrpSpPr/>
              <p:nvPr/>
            </p:nvGrpSpPr>
            <p:grpSpPr>
              <a:xfrm>
                <a:off x="4444560" y="4196880"/>
                <a:ext cx="71280" cy="71280"/>
                <a:chOff x="4444560" y="4196880"/>
                <a:chExt cx="71280" cy="71280"/>
              </a:xfrm>
            </p:grpSpPr>
            <p:sp>
              <p:nvSpPr>
                <p:cNvPr id="941" name="Straight Connector 170"/>
                <p:cNvSpPr/>
                <p:nvPr/>
              </p:nvSpPr>
              <p:spPr>
                <a:xfrm>
                  <a:off x="4477680" y="4196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2" name="Straight Connector 171"/>
                <p:cNvSpPr/>
                <p:nvPr/>
              </p:nvSpPr>
              <p:spPr>
                <a:xfrm>
                  <a:off x="4444560" y="4239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3" name="Group 172"/>
              <p:cNvGrpSpPr/>
              <p:nvPr/>
            </p:nvGrpSpPr>
            <p:grpSpPr>
              <a:xfrm>
                <a:off x="4342320" y="4161240"/>
                <a:ext cx="71280" cy="71280"/>
                <a:chOff x="4342320" y="4161240"/>
                <a:chExt cx="71280" cy="71280"/>
              </a:xfrm>
            </p:grpSpPr>
            <p:sp>
              <p:nvSpPr>
                <p:cNvPr id="944" name="Straight Connector 173"/>
                <p:cNvSpPr/>
                <p:nvPr/>
              </p:nvSpPr>
              <p:spPr>
                <a:xfrm>
                  <a:off x="4375440" y="41612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5" name="Straight Connector 174"/>
                <p:cNvSpPr/>
                <p:nvPr/>
              </p:nvSpPr>
              <p:spPr>
                <a:xfrm>
                  <a:off x="4342320" y="41961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6" name="Group 175"/>
              <p:cNvGrpSpPr/>
              <p:nvPr/>
            </p:nvGrpSpPr>
            <p:grpSpPr>
              <a:xfrm>
                <a:off x="4635360" y="4292280"/>
                <a:ext cx="71280" cy="71280"/>
                <a:chOff x="4635360" y="4292280"/>
                <a:chExt cx="71280" cy="71280"/>
              </a:xfrm>
            </p:grpSpPr>
            <p:sp>
              <p:nvSpPr>
                <p:cNvPr id="947" name="Straight Connector 176"/>
                <p:cNvSpPr/>
                <p:nvPr/>
              </p:nvSpPr>
              <p:spPr>
                <a:xfrm>
                  <a:off x="4668480" y="429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8" name="Straight Connector 177"/>
                <p:cNvSpPr/>
                <p:nvPr/>
              </p:nvSpPr>
              <p:spPr>
                <a:xfrm>
                  <a:off x="4635360" y="432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9" name="Group 178"/>
              <p:cNvGrpSpPr/>
              <p:nvPr/>
            </p:nvGrpSpPr>
            <p:grpSpPr>
              <a:xfrm>
                <a:off x="4501800" y="4244400"/>
                <a:ext cx="71280" cy="71280"/>
                <a:chOff x="4501800" y="4244400"/>
                <a:chExt cx="71280" cy="71280"/>
              </a:xfrm>
            </p:grpSpPr>
            <p:sp>
              <p:nvSpPr>
                <p:cNvPr id="950" name="Straight Connector 179"/>
                <p:cNvSpPr/>
                <p:nvPr/>
              </p:nvSpPr>
              <p:spPr>
                <a:xfrm>
                  <a:off x="4534920" y="4244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1" name="Straight Connector 180"/>
                <p:cNvSpPr/>
                <p:nvPr/>
              </p:nvSpPr>
              <p:spPr>
                <a:xfrm>
                  <a:off x="4501800" y="4279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2" name="Group 181"/>
              <p:cNvGrpSpPr/>
              <p:nvPr/>
            </p:nvGrpSpPr>
            <p:grpSpPr>
              <a:xfrm>
                <a:off x="4825800" y="4332600"/>
                <a:ext cx="71280" cy="71280"/>
                <a:chOff x="4825800" y="4332600"/>
                <a:chExt cx="71280" cy="71280"/>
              </a:xfrm>
            </p:grpSpPr>
            <p:sp>
              <p:nvSpPr>
                <p:cNvPr id="953" name="Straight Connector 182"/>
                <p:cNvSpPr/>
                <p:nvPr/>
              </p:nvSpPr>
              <p:spPr>
                <a:xfrm>
                  <a:off x="4858920" y="4332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4" name="Straight Connector 183"/>
                <p:cNvSpPr/>
                <p:nvPr/>
              </p:nvSpPr>
              <p:spPr>
                <a:xfrm>
                  <a:off x="4825800" y="4367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5" name="Group 184"/>
              <p:cNvGrpSpPr/>
              <p:nvPr/>
            </p:nvGrpSpPr>
            <p:grpSpPr>
              <a:xfrm>
                <a:off x="4294440" y="4158720"/>
                <a:ext cx="71280" cy="71280"/>
                <a:chOff x="4294440" y="4158720"/>
                <a:chExt cx="71280" cy="71280"/>
              </a:xfrm>
            </p:grpSpPr>
            <p:sp>
              <p:nvSpPr>
                <p:cNvPr id="956" name="Straight Connector 185"/>
                <p:cNvSpPr/>
                <p:nvPr/>
              </p:nvSpPr>
              <p:spPr>
                <a:xfrm>
                  <a:off x="4327560" y="4158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7" name="Straight Connector 186"/>
                <p:cNvSpPr/>
                <p:nvPr/>
              </p:nvSpPr>
              <p:spPr>
                <a:xfrm>
                  <a:off x="4294440" y="4201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8" name="Group 187"/>
              <p:cNvGrpSpPr/>
              <p:nvPr/>
            </p:nvGrpSpPr>
            <p:grpSpPr>
              <a:xfrm>
                <a:off x="4235040" y="4113720"/>
                <a:ext cx="71280" cy="71280"/>
                <a:chOff x="4235040" y="4113720"/>
                <a:chExt cx="71280" cy="71280"/>
              </a:xfrm>
            </p:grpSpPr>
            <p:sp>
              <p:nvSpPr>
                <p:cNvPr id="959" name="Straight Connector 188"/>
                <p:cNvSpPr/>
                <p:nvPr/>
              </p:nvSpPr>
              <p:spPr>
                <a:xfrm>
                  <a:off x="4268160" y="4113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0" name="Straight Connector 189"/>
                <p:cNvSpPr/>
                <p:nvPr/>
              </p:nvSpPr>
              <p:spPr>
                <a:xfrm>
                  <a:off x="4235040" y="4148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1" name="Group 190"/>
              <p:cNvGrpSpPr/>
              <p:nvPr/>
            </p:nvGrpSpPr>
            <p:grpSpPr>
              <a:xfrm>
                <a:off x="4725720" y="4316040"/>
                <a:ext cx="71280" cy="71280"/>
                <a:chOff x="4725720" y="4316040"/>
                <a:chExt cx="71280" cy="71280"/>
              </a:xfrm>
            </p:grpSpPr>
            <p:sp>
              <p:nvSpPr>
                <p:cNvPr id="962" name="Straight Connector 191"/>
                <p:cNvSpPr/>
                <p:nvPr/>
              </p:nvSpPr>
              <p:spPr>
                <a:xfrm>
                  <a:off x="4758840" y="4316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3" name="Straight Connector 192"/>
                <p:cNvSpPr/>
                <p:nvPr/>
              </p:nvSpPr>
              <p:spPr>
                <a:xfrm>
                  <a:off x="4725720" y="4350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4" name="Group 193"/>
              <p:cNvGrpSpPr/>
              <p:nvPr/>
            </p:nvGrpSpPr>
            <p:grpSpPr>
              <a:xfrm>
                <a:off x="4685400" y="4292280"/>
                <a:ext cx="71280" cy="71280"/>
                <a:chOff x="4685400" y="4292280"/>
                <a:chExt cx="71280" cy="71280"/>
              </a:xfrm>
            </p:grpSpPr>
            <p:sp>
              <p:nvSpPr>
                <p:cNvPr id="965" name="Straight Connector 194"/>
                <p:cNvSpPr/>
                <p:nvPr/>
              </p:nvSpPr>
              <p:spPr>
                <a:xfrm>
                  <a:off x="4718520" y="429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6" name="Straight Connector 195"/>
                <p:cNvSpPr/>
                <p:nvPr/>
              </p:nvSpPr>
              <p:spPr>
                <a:xfrm>
                  <a:off x="4685400" y="432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7" name="Group 196"/>
              <p:cNvGrpSpPr/>
              <p:nvPr/>
            </p:nvGrpSpPr>
            <p:grpSpPr>
              <a:xfrm>
                <a:off x="4861440" y="4330080"/>
                <a:ext cx="71280" cy="71280"/>
                <a:chOff x="4861440" y="4330080"/>
                <a:chExt cx="71280" cy="71280"/>
              </a:xfrm>
            </p:grpSpPr>
            <p:sp>
              <p:nvSpPr>
                <p:cNvPr id="968" name="Straight Connector 197"/>
                <p:cNvSpPr/>
                <p:nvPr/>
              </p:nvSpPr>
              <p:spPr>
                <a:xfrm>
                  <a:off x="4894560" y="4330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9" name="Straight Connector 198"/>
                <p:cNvSpPr/>
                <p:nvPr/>
              </p:nvSpPr>
              <p:spPr>
                <a:xfrm>
                  <a:off x="4861440" y="4365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0" name="Group 199"/>
              <p:cNvGrpSpPr/>
              <p:nvPr/>
            </p:nvGrpSpPr>
            <p:grpSpPr>
              <a:xfrm>
                <a:off x="4890240" y="4332600"/>
                <a:ext cx="71280" cy="71280"/>
                <a:chOff x="4890240" y="4332600"/>
                <a:chExt cx="71280" cy="71280"/>
              </a:xfrm>
            </p:grpSpPr>
            <p:sp>
              <p:nvSpPr>
                <p:cNvPr id="971" name="Straight Connector 200"/>
                <p:cNvSpPr/>
                <p:nvPr/>
              </p:nvSpPr>
              <p:spPr>
                <a:xfrm>
                  <a:off x="4923360" y="4332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2" name="Straight Connector 201"/>
                <p:cNvSpPr/>
                <p:nvPr/>
              </p:nvSpPr>
              <p:spPr>
                <a:xfrm>
                  <a:off x="4890240" y="4367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3" name="Group 202"/>
              <p:cNvGrpSpPr/>
              <p:nvPr/>
            </p:nvGrpSpPr>
            <p:grpSpPr>
              <a:xfrm>
                <a:off x="5063760" y="4501800"/>
                <a:ext cx="71280" cy="71280"/>
                <a:chOff x="5063760" y="4501800"/>
                <a:chExt cx="71280" cy="71280"/>
              </a:xfrm>
            </p:grpSpPr>
            <p:sp>
              <p:nvSpPr>
                <p:cNvPr id="974" name="Straight Connector 203"/>
                <p:cNvSpPr/>
                <p:nvPr/>
              </p:nvSpPr>
              <p:spPr>
                <a:xfrm>
                  <a:off x="5096880" y="4501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5" name="Straight Connector 204"/>
                <p:cNvSpPr/>
                <p:nvPr/>
              </p:nvSpPr>
              <p:spPr>
                <a:xfrm>
                  <a:off x="5063760" y="4536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6" name="Group 205"/>
              <p:cNvGrpSpPr/>
              <p:nvPr/>
            </p:nvGrpSpPr>
            <p:grpSpPr>
              <a:xfrm>
                <a:off x="5275800" y="4599360"/>
                <a:ext cx="71280" cy="71280"/>
                <a:chOff x="5275800" y="4599360"/>
                <a:chExt cx="71280" cy="71280"/>
              </a:xfrm>
            </p:grpSpPr>
            <p:sp>
              <p:nvSpPr>
                <p:cNvPr id="977" name="Straight Connector 206"/>
                <p:cNvSpPr/>
                <p:nvPr/>
              </p:nvSpPr>
              <p:spPr>
                <a:xfrm>
                  <a:off x="5308920" y="4599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8" name="Straight Connector 207"/>
                <p:cNvSpPr/>
                <p:nvPr/>
              </p:nvSpPr>
              <p:spPr>
                <a:xfrm>
                  <a:off x="5275800" y="4634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9" name="Group 208"/>
              <p:cNvGrpSpPr/>
              <p:nvPr/>
            </p:nvGrpSpPr>
            <p:grpSpPr>
              <a:xfrm>
                <a:off x="5337720" y="4623120"/>
                <a:ext cx="71280" cy="71280"/>
                <a:chOff x="5337720" y="4623120"/>
                <a:chExt cx="71280" cy="71280"/>
              </a:xfrm>
            </p:grpSpPr>
            <p:sp>
              <p:nvSpPr>
                <p:cNvPr id="980" name="Straight Connector 209"/>
                <p:cNvSpPr/>
                <p:nvPr/>
              </p:nvSpPr>
              <p:spPr>
                <a:xfrm>
                  <a:off x="5370840" y="4623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1" name="Straight Connector 210"/>
                <p:cNvSpPr/>
                <p:nvPr/>
              </p:nvSpPr>
              <p:spPr>
                <a:xfrm>
                  <a:off x="5337720" y="4658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2" name="Group 211"/>
              <p:cNvGrpSpPr/>
              <p:nvPr/>
            </p:nvGrpSpPr>
            <p:grpSpPr>
              <a:xfrm>
                <a:off x="5535360" y="4673160"/>
                <a:ext cx="71280" cy="71280"/>
                <a:chOff x="5535360" y="4673160"/>
                <a:chExt cx="71280" cy="71280"/>
              </a:xfrm>
            </p:grpSpPr>
            <p:sp>
              <p:nvSpPr>
                <p:cNvPr id="983" name="Straight Connector 212"/>
                <p:cNvSpPr/>
                <p:nvPr/>
              </p:nvSpPr>
              <p:spPr>
                <a:xfrm>
                  <a:off x="5568480" y="4673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4" name="Straight Connector 213"/>
                <p:cNvSpPr/>
                <p:nvPr/>
              </p:nvSpPr>
              <p:spPr>
                <a:xfrm>
                  <a:off x="5535360" y="4708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5" name="Group 214"/>
              <p:cNvGrpSpPr/>
              <p:nvPr/>
            </p:nvGrpSpPr>
            <p:grpSpPr>
              <a:xfrm>
                <a:off x="5652360" y="4706280"/>
                <a:ext cx="71280" cy="71280"/>
                <a:chOff x="5652360" y="4706280"/>
                <a:chExt cx="71280" cy="71280"/>
              </a:xfrm>
            </p:grpSpPr>
            <p:sp>
              <p:nvSpPr>
                <p:cNvPr id="986" name="Straight Connector 215"/>
                <p:cNvSpPr/>
                <p:nvPr/>
              </p:nvSpPr>
              <p:spPr>
                <a:xfrm>
                  <a:off x="5685480" y="4706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7" name="Straight Connector 216"/>
                <p:cNvSpPr/>
                <p:nvPr/>
              </p:nvSpPr>
              <p:spPr>
                <a:xfrm>
                  <a:off x="5652360" y="47487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8" name="Group 217"/>
              <p:cNvGrpSpPr/>
              <p:nvPr/>
            </p:nvGrpSpPr>
            <p:grpSpPr>
              <a:xfrm>
                <a:off x="6118920" y="4820760"/>
                <a:ext cx="71280" cy="71280"/>
                <a:chOff x="6118920" y="4820760"/>
                <a:chExt cx="71280" cy="71280"/>
              </a:xfrm>
            </p:grpSpPr>
            <p:sp>
              <p:nvSpPr>
                <p:cNvPr id="989" name="Straight Connector 218"/>
                <p:cNvSpPr/>
                <p:nvPr/>
              </p:nvSpPr>
              <p:spPr>
                <a:xfrm>
                  <a:off x="6152040" y="4820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0" name="Straight Connector 219"/>
                <p:cNvSpPr/>
                <p:nvPr/>
              </p:nvSpPr>
              <p:spPr>
                <a:xfrm>
                  <a:off x="6118920" y="4863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1" name="Group 220"/>
              <p:cNvGrpSpPr/>
              <p:nvPr/>
            </p:nvGrpSpPr>
            <p:grpSpPr>
              <a:xfrm>
                <a:off x="6404760" y="4853880"/>
                <a:ext cx="71280" cy="71280"/>
                <a:chOff x="6404760" y="4853880"/>
                <a:chExt cx="71280" cy="71280"/>
              </a:xfrm>
            </p:grpSpPr>
            <p:sp>
              <p:nvSpPr>
                <p:cNvPr id="992" name="Straight Connector 221"/>
                <p:cNvSpPr/>
                <p:nvPr/>
              </p:nvSpPr>
              <p:spPr>
                <a:xfrm>
                  <a:off x="643788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3" name="Straight Connector 222"/>
                <p:cNvSpPr/>
                <p:nvPr/>
              </p:nvSpPr>
              <p:spPr>
                <a:xfrm>
                  <a:off x="640476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4" name="Group 223"/>
              <p:cNvGrpSpPr/>
              <p:nvPr/>
            </p:nvGrpSpPr>
            <p:grpSpPr>
              <a:xfrm>
                <a:off x="6483600" y="4853880"/>
                <a:ext cx="71280" cy="71280"/>
                <a:chOff x="6483600" y="4853880"/>
                <a:chExt cx="71280" cy="71280"/>
              </a:xfrm>
            </p:grpSpPr>
            <p:sp>
              <p:nvSpPr>
                <p:cNvPr id="995" name="Straight Connector 224"/>
                <p:cNvSpPr/>
                <p:nvPr/>
              </p:nvSpPr>
              <p:spPr>
                <a:xfrm>
                  <a:off x="651672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6" name="Straight Connector 225"/>
                <p:cNvSpPr/>
                <p:nvPr/>
              </p:nvSpPr>
              <p:spPr>
                <a:xfrm>
                  <a:off x="648360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7" name="Group 226"/>
              <p:cNvGrpSpPr/>
              <p:nvPr/>
            </p:nvGrpSpPr>
            <p:grpSpPr>
              <a:xfrm>
                <a:off x="6619320" y="4856400"/>
                <a:ext cx="71280" cy="71280"/>
                <a:chOff x="6619320" y="4856400"/>
                <a:chExt cx="71280" cy="71280"/>
              </a:xfrm>
            </p:grpSpPr>
            <p:sp>
              <p:nvSpPr>
                <p:cNvPr id="998" name="Straight Connector 227"/>
                <p:cNvSpPr/>
                <p:nvPr/>
              </p:nvSpPr>
              <p:spPr>
                <a:xfrm>
                  <a:off x="665244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9" name="Straight Connector 228"/>
                <p:cNvSpPr/>
                <p:nvPr/>
              </p:nvSpPr>
              <p:spPr>
                <a:xfrm>
                  <a:off x="661932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0" name="Group 229"/>
              <p:cNvGrpSpPr/>
              <p:nvPr/>
            </p:nvGrpSpPr>
            <p:grpSpPr>
              <a:xfrm>
                <a:off x="6752520" y="4853880"/>
                <a:ext cx="71280" cy="71280"/>
                <a:chOff x="6752520" y="4853880"/>
                <a:chExt cx="71280" cy="71280"/>
              </a:xfrm>
            </p:grpSpPr>
            <p:sp>
              <p:nvSpPr>
                <p:cNvPr id="1001" name="Straight Connector 230"/>
                <p:cNvSpPr/>
                <p:nvPr/>
              </p:nvSpPr>
              <p:spPr>
                <a:xfrm>
                  <a:off x="678564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2" name="Straight Connector 231"/>
                <p:cNvSpPr/>
                <p:nvPr/>
              </p:nvSpPr>
              <p:spPr>
                <a:xfrm>
                  <a:off x="675252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3" name="Group 232"/>
              <p:cNvGrpSpPr/>
              <p:nvPr/>
            </p:nvGrpSpPr>
            <p:grpSpPr>
              <a:xfrm>
                <a:off x="6826320" y="4856400"/>
                <a:ext cx="71280" cy="71280"/>
                <a:chOff x="6826320" y="4856400"/>
                <a:chExt cx="71280" cy="71280"/>
              </a:xfrm>
            </p:grpSpPr>
            <p:sp>
              <p:nvSpPr>
                <p:cNvPr id="1004" name="Straight Connector 233"/>
                <p:cNvSpPr/>
                <p:nvPr/>
              </p:nvSpPr>
              <p:spPr>
                <a:xfrm>
                  <a:off x="685944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5" name="Straight Connector 234"/>
                <p:cNvSpPr/>
                <p:nvPr/>
              </p:nvSpPr>
              <p:spPr>
                <a:xfrm>
                  <a:off x="682632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6" name="Group 235"/>
              <p:cNvGrpSpPr/>
              <p:nvPr/>
            </p:nvGrpSpPr>
            <p:grpSpPr>
              <a:xfrm>
                <a:off x="6867000" y="4856400"/>
                <a:ext cx="71280" cy="71280"/>
                <a:chOff x="6867000" y="4856400"/>
                <a:chExt cx="71280" cy="71280"/>
              </a:xfrm>
            </p:grpSpPr>
            <p:sp>
              <p:nvSpPr>
                <p:cNvPr id="1007" name="Straight Connector 236"/>
                <p:cNvSpPr/>
                <p:nvPr/>
              </p:nvSpPr>
              <p:spPr>
                <a:xfrm>
                  <a:off x="690012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8" name="Straight Connector 237"/>
                <p:cNvSpPr/>
                <p:nvPr/>
              </p:nvSpPr>
              <p:spPr>
                <a:xfrm>
                  <a:off x="686700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9" name="Group 238"/>
              <p:cNvGrpSpPr/>
              <p:nvPr/>
            </p:nvGrpSpPr>
            <p:grpSpPr>
              <a:xfrm>
                <a:off x="6912360" y="4942080"/>
                <a:ext cx="71280" cy="71280"/>
                <a:chOff x="6912360" y="4942080"/>
                <a:chExt cx="71280" cy="71280"/>
              </a:xfrm>
            </p:grpSpPr>
            <p:sp>
              <p:nvSpPr>
                <p:cNvPr id="1010" name="Straight Connector 239"/>
                <p:cNvSpPr/>
                <p:nvPr/>
              </p:nvSpPr>
              <p:spPr>
                <a:xfrm>
                  <a:off x="694548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1" name="Straight Connector 240"/>
                <p:cNvSpPr/>
                <p:nvPr/>
              </p:nvSpPr>
              <p:spPr>
                <a:xfrm>
                  <a:off x="691236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2" name="Group 241"/>
              <p:cNvGrpSpPr/>
              <p:nvPr/>
            </p:nvGrpSpPr>
            <p:grpSpPr>
              <a:xfrm>
                <a:off x="7040880" y="4942080"/>
                <a:ext cx="71280" cy="71280"/>
                <a:chOff x="7040880" y="4942080"/>
                <a:chExt cx="71280" cy="71280"/>
              </a:xfrm>
            </p:grpSpPr>
            <p:sp>
              <p:nvSpPr>
                <p:cNvPr id="1013" name="Straight Connector 242"/>
                <p:cNvSpPr/>
                <p:nvPr/>
              </p:nvSpPr>
              <p:spPr>
                <a:xfrm>
                  <a:off x="707400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4" name="Straight Connector 243"/>
                <p:cNvSpPr/>
                <p:nvPr/>
              </p:nvSpPr>
              <p:spPr>
                <a:xfrm>
                  <a:off x="704088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5" name="Group 244"/>
              <p:cNvGrpSpPr/>
              <p:nvPr/>
            </p:nvGrpSpPr>
            <p:grpSpPr>
              <a:xfrm>
                <a:off x="7250400" y="4942080"/>
                <a:ext cx="71280" cy="71280"/>
                <a:chOff x="7250400" y="4942080"/>
                <a:chExt cx="71280" cy="71280"/>
              </a:xfrm>
            </p:grpSpPr>
            <p:sp>
              <p:nvSpPr>
                <p:cNvPr id="1016" name="Straight Connector 245"/>
                <p:cNvSpPr/>
                <p:nvPr/>
              </p:nvSpPr>
              <p:spPr>
                <a:xfrm>
                  <a:off x="728352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7" name="Straight Connector 246"/>
                <p:cNvSpPr/>
                <p:nvPr/>
              </p:nvSpPr>
              <p:spPr>
                <a:xfrm>
                  <a:off x="725040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1018" name="Group 12"/>
          <p:cNvGrpSpPr/>
          <p:nvPr/>
        </p:nvGrpSpPr>
        <p:grpSpPr>
          <a:xfrm>
            <a:off x="2387520" y="2060640"/>
            <a:ext cx="5203800" cy="2549520"/>
            <a:chOff x="2387520" y="2060640"/>
            <a:chExt cx="5203800" cy="2549520"/>
          </a:xfrm>
        </p:grpSpPr>
        <p:sp>
          <p:nvSpPr>
            <p:cNvPr id="1019" name="Freeform 8"/>
            <p:cNvSpPr/>
            <p:nvPr/>
          </p:nvSpPr>
          <p:spPr>
            <a:xfrm>
              <a:off x="2387520" y="2060640"/>
              <a:ext cx="1326960" cy="1355760"/>
            </a:xfrm>
            <a:custGeom>
              <a:avLst/>
              <a:gdLst>
                <a:gd name="textAreaLeft" fmla="*/ 0 w 1326960"/>
                <a:gd name="textAreaRight" fmla="*/ 1327320 w 1326960"/>
                <a:gd name="textAreaTop" fmla="*/ 0 h 1355760"/>
                <a:gd name="textAreaBottom" fmla="*/ 1356120 h 1355760"/>
              </a:gdLst>
              <a:ahLst/>
              <a:rect l="textAreaLeft" t="textAreaTop" r="textAreaRight" b="textAreaBottom"/>
              <a:pathLst>
                <a:path w="1327150" h="1355725">
                  <a:moveTo>
                    <a:pt x="0" y="0"/>
                  </a:moveTo>
                  <a:cubicBezTo>
                    <a:pt x="25400" y="1058"/>
                    <a:pt x="50933" y="368"/>
                    <a:pt x="76200" y="3175"/>
                  </a:cubicBezTo>
                  <a:cubicBezTo>
                    <a:pt x="79993" y="3596"/>
                    <a:pt x="82105" y="8318"/>
                    <a:pt x="85725" y="9525"/>
                  </a:cubicBezTo>
                  <a:cubicBezTo>
                    <a:pt x="91832" y="11561"/>
                    <a:pt x="98425" y="11642"/>
                    <a:pt x="104775" y="12700"/>
                  </a:cubicBezTo>
                  <a:cubicBezTo>
                    <a:pt x="111125" y="14817"/>
                    <a:pt x="120112" y="13481"/>
                    <a:pt x="123825" y="19050"/>
                  </a:cubicBezTo>
                  <a:cubicBezTo>
                    <a:pt x="125942" y="22225"/>
                    <a:pt x="127244" y="26132"/>
                    <a:pt x="130175" y="28575"/>
                  </a:cubicBezTo>
                  <a:cubicBezTo>
                    <a:pt x="133811" y="31605"/>
                    <a:pt x="138766" y="32577"/>
                    <a:pt x="142875" y="34925"/>
                  </a:cubicBezTo>
                  <a:cubicBezTo>
                    <a:pt x="146188" y="36818"/>
                    <a:pt x="149225" y="39158"/>
                    <a:pt x="152400" y="41275"/>
                  </a:cubicBezTo>
                  <a:cubicBezTo>
                    <a:pt x="154517" y="44450"/>
                    <a:pt x="155437" y="48907"/>
                    <a:pt x="158750" y="50800"/>
                  </a:cubicBezTo>
                  <a:cubicBezTo>
                    <a:pt x="163435" y="53477"/>
                    <a:pt x="169572" y="52080"/>
                    <a:pt x="174625" y="53975"/>
                  </a:cubicBezTo>
                  <a:cubicBezTo>
                    <a:pt x="178198" y="55315"/>
                    <a:pt x="180975" y="58208"/>
                    <a:pt x="184150" y="60325"/>
                  </a:cubicBezTo>
                  <a:cubicBezTo>
                    <a:pt x="202348" y="87622"/>
                    <a:pt x="178117" y="55498"/>
                    <a:pt x="200025" y="73025"/>
                  </a:cubicBezTo>
                  <a:cubicBezTo>
                    <a:pt x="203005" y="75409"/>
                    <a:pt x="203503" y="80037"/>
                    <a:pt x="206375" y="82550"/>
                  </a:cubicBezTo>
                  <a:cubicBezTo>
                    <a:pt x="212118" y="87576"/>
                    <a:pt x="225425" y="95250"/>
                    <a:pt x="225425" y="95250"/>
                  </a:cubicBezTo>
                  <a:cubicBezTo>
                    <a:pt x="233988" y="120938"/>
                    <a:pt x="224804" y="111763"/>
                    <a:pt x="247650" y="117475"/>
                  </a:cubicBezTo>
                  <a:cubicBezTo>
                    <a:pt x="250897" y="118287"/>
                    <a:pt x="254000" y="119592"/>
                    <a:pt x="257175" y="120650"/>
                  </a:cubicBezTo>
                  <a:cubicBezTo>
                    <a:pt x="268754" y="155388"/>
                    <a:pt x="250287" y="102771"/>
                    <a:pt x="266700" y="139700"/>
                  </a:cubicBezTo>
                  <a:lnTo>
                    <a:pt x="276225" y="168275"/>
                  </a:lnTo>
                  <a:cubicBezTo>
                    <a:pt x="277432" y="171895"/>
                    <a:pt x="280868" y="174387"/>
                    <a:pt x="282575" y="177800"/>
                  </a:cubicBezTo>
                  <a:cubicBezTo>
                    <a:pt x="284072" y="180793"/>
                    <a:pt x="283659" y="184712"/>
                    <a:pt x="285750" y="187325"/>
                  </a:cubicBezTo>
                  <a:cubicBezTo>
                    <a:pt x="288134" y="190305"/>
                    <a:pt x="292100" y="191558"/>
                    <a:pt x="295275" y="193675"/>
                  </a:cubicBezTo>
                  <a:lnTo>
                    <a:pt x="301625" y="219075"/>
                  </a:lnTo>
                  <a:cubicBezTo>
                    <a:pt x="303248" y="225569"/>
                    <a:pt x="320675" y="225425"/>
                    <a:pt x="320675" y="225425"/>
                  </a:cubicBezTo>
                  <a:cubicBezTo>
                    <a:pt x="326263" y="242190"/>
                    <a:pt x="321994" y="232165"/>
                    <a:pt x="336550" y="254000"/>
                  </a:cubicBezTo>
                  <a:lnTo>
                    <a:pt x="342900" y="263525"/>
                  </a:lnTo>
                  <a:cubicBezTo>
                    <a:pt x="345017" y="266700"/>
                    <a:pt x="345630" y="271843"/>
                    <a:pt x="349250" y="273050"/>
                  </a:cubicBezTo>
                  <a:lnTo>
                    <a:pt x="358775" y="276225"/>
                  </a:lnTo>
                  <a:lnTo>
                    <a:pt x="365125" y="295275"/>
                  </a:lnTo>
                  <a:cubicBezTo>
                    <a:pt x="366183" y="298450"/>
                    <a:pt x="366803" y="301807"/>
                    <a:pt x="368300" y="304800"/>
                  </a:cubicBezTo>
                  <a:cubicBezTo>
                    <a:pt x="370417" y="309033"/>
                    <a:pt x="372988" y="313068"/>
                    <a:pt x="374650" y="317500"/>
                  </a:cubicBezTo>
                  <a:cubicBezTo>
                    <a:pt x="376182" y="321586"/>
                    <a:pt x="376571" y="326020"/>
                    <a:pt x="377825" y="330200"/>
                  </a:cubicBezTo>
                  <a:cubicBezTo>
                    <a:pt x="379748" y="336611"/>
                    <a:pt x="377825" y="347133"/>
                    <a:pt x="384175" y="349250"/>
                  </a:cubicBezTo>
                  <a:cubicBezTo>
                    <a:pt x="407792" y="357122"/>
                    <a:pt x="390362" y="352187"/>
                    <a:pt x="438150" y="355600"/>
                  </a:cubicBezTo>
                  <a:cubicBezTo>
                    <a:pt x="459985" y="370156"/>
                    <a:pt x="454787" y="361060"/>
                    <a:pt x="460375" y="377825"/>
                  </a:cubicBezTo>
                  <a:cubicBezTo>
                    <a:pt x="461433" y="388408"/>
                    <a:pt x="461933" y="399063"/>
                    <a:pt x="463550" y="409575"/>
                  </a:cubicBezTo>
                  <a:cubicBezTo>
                    <a:pt x="465227" y="420472"/>
                    <a:pt x="473789" y="429696"/>
                    <a:pt x="479425" y="438150"/>
                  </a:cubicBezTo>
                  <a:lnTo>
                    <a:pt x="492125" y="457200"/>
                  </a:lnTo>
                  <a:cubicBezTo>
                    <a:pt x="494242" y="460375"/>
                    <a:pt x="498475" y="461433"/>
                    <a:pt x="501650" y="463550"/>
                  </a:cubicBezTo>
                  <a:lnTo>
                    <a:pt x="514350" y="482600"/>
                  </a:lnTo>
                  <a:cubicBezTo>
                    <a:pt x="516206" y="485385"/>
                    <a:pt x="515900" y="489199"/>
                    <a:pt x="517525" y="492125"/>
                  </a:cubicBezTo>
                  <a:cubicBezTo>
                    <a:pt x="528420" y="511735"/>
                    <a:pt x="525836" y="508249"/>
                    <a:pt x="539750" y="517525"/>
                  </a:cubicBezTo>
                  <a:cubicBezTo>
                    <a:pt x="541867" y="520700"/>
                    <a:pt x="544550" y="523563"/>
                    <a:pt x="546100" y="527050"/>
                  </a:cubicBezTo>
                  <a:cubicBezTo>
                    <a:pt x="548818" y="533167"/>
                    <a:pt x="550333" y="539750"/>
                    <a:pt x="552450" y="546100"/>
                  </a:cubicBezTo>
                  <a:lnTo>
                    <a:pt x="558800" y="565150"/>
                  </a:lnTo>
                  <a:cubicBezTo>
                    <a:pt x="560892" y="571425"/>
                    <a:pt x="562730" y="579724"/>
                    <a:pt x="568325" y="584200"/>
                  </a:cubicBezTo>
                  <a:cubicBezTo>
                    <a:pt x="571579" y="586803"/>
                    <a:pt x="592934" y="590392"/>
                    <a:pt x="593725" y="590550"/>
                  </a:cubicBezTo>
                  <a:cubicBezTo>
                    <a:pt x="601282" y="613220"/>
                    <a:pt x="596362" y="604031"/>
                    <a:pt x="606425" y="619125"/>
                  </a:cubicBezTo>
                  <a:cubicBezTo>
                    <a:pt x="607483" y="624417"/>
                    <a:pt x="607187" y="630173"/>
                    <a:pt x="609600" y="635000"/>
                  </a:cubicBezTo>
                  <a:cubicBezTo>
                    <a:pt x="614041" y="643882"/>
                    <a:pt x="620419" y="645348"/>
                    <a:pt x="628650" y="647700"/>
                  </a:cubicBezTo>
                  <a:cubicBezTo>
                    <a:pt x="632846" y="648899"/>
                    <a:pt x="637117" y="649817"/>
                    <a:pt x="641350" y="650875"/>
                  </a:cubicBezTo>
                  <a:cubicBezTo>
                    <a:pt x="644525" y="654050"/>
                    <a:pt x="647139" y="657909"/>
                    <a:pt x="650875" y="660400"/>
                  </a:cubicBezTo>
                  <a:cubicBezTo>
                    <a:pt x="653660" y="662256"/>
                    <a:pt x="658033" y="661208"/>
                    <a:pt x="660400" y="663575"/>
                  </a:cubicBezTo>
                  <a:cubicBezTo>
                    <a:pt x="662767" y="665942"/>
                    <a:pt x="661950" y="670174"/>
                    <a:pt x="663575" y="673100"/>
                  </a:cubicBezTo>
                  <a:cubicBezTo>
                    <a:pt x="674470" y="692710"/>
                    <a:pt x="671886" y="689224"/>
                    <a:pt x="685800" y="698500"/>
                  </a:cubicBezTo>
                  <a:cubicBezTo>
                    <a:pt x="691572" y="721588"/>
                    <a:pt x="683882" y="702932"/>
                    <a:pt x="698500" y="717550"/>
                  </a:cubicBezTo>
                  <a:cubicBezTo>
                    <a:pt x="701198" y="720248"/>
                    <a:pt x="701675" y="724958"/>
                    <a:pt x="704850" y="727075"/>
                  </a:cubicBezTo>
                  <a:cubicBezTo>
                    <a:pt x="708481" y="729496"/>
                    <a:pt x="713354" y="729051"/>
                    <a:pt x="717550" y="730250"/>
                  </a:cubicBezTo>
                  <a:cubicBezTo>
                    <a:pt x="720768" y="731169"/>
                    <a:pt x="723900" y="732367"/>
                    <a:pt x="727075" y="733425"/>
                  </a:cubicBezTo>
                  <a:cubicBezTo>
                    <a:pt x="745273" y="760722"/>
                    <a:pt x="721042" y="728598"/>
                    <a:pt x="742950" y="746125"/>
                  </a:cubicBezTo>
                  <a:cubicBezTo>
                    <a:pt x="745930" y="748509"/>
                    <a:pt x="746602" y="752952"/>
                    <a:pt x="749300" y="755650"/>
                  </a:cubicBezTo>
                  <a:cubicBezTo>
                    <a:pt x="751998" y="758348"/>
                    <a:pt x="755650" y="759883"/>
                    <a:pt x="758825" y="762000"/>
                  </a:cubicBezTo>
                  <a:cubicBezTo>
                    <a:pt x="761969" y="771431"/>
                    <a:pt x="763978" y="783028"/>
                    <a:pt x="771525" y="790575"/>
                  </a:cubicBezTo>
                  <a:cubicBezTo>
                    <a:pt x="774223" y="793273"/>
                    <a:pt x="777875" y="794808"/>
                    <a:pt x="781050" y="796925"/>
                  </a:cubicBezTo>
                  <a:cubicBezTo>
                    <a:pt x="783167" y="800100"/>
                    <a:pt x="784225" y="804333"/>
                    <a:pt x="787400" y="806450"/>
                  </a:cubicBezTo>
                  <a:cubicBezTo>
                    <a:pt x="791031" y="808871"/>
                    <a:pt x="795904" y="808426"/>
                    <a:pt x="800100" y="809625"/>
                  </a:cubicBezTo>
                  <a:cubicBezTo>
                    <a:pt x="803318" y="810544"/>
                    <a:pt x="806549" y="811482"/>
                    <a:pt x="809625" y="812800"/>
                  </a:cubicBezTo>
                  <a:cubicBezTo>
                    <a:pt x="813975" y="814664"/>
                    <a:pt x="818266" y="816715"/>
                    <a:pt x="822325" y="819150"/>
                  </a:cubicBezTo>
                  <a:cubicBezTo>
                    <a:pt x="834125" y="826230"/>
                    <a:pt x="842442" y="831225"/>
                    <a:pt x="850900" y="841375"/>
                  </a:cubicBezTo>
                  <a:cubicBezTo>
                    <a:pt x="853343" y="844306"/>
                    <a:pt x="855543" y="847487"/>
                    <a:pt x="857250" y="850900"/>
                  </a:cubicBezTo>
                  <a:cubicBezTo>
                    <a:pt x="860879" y="858158"/>
                    <a:pt x="861789" y="869054"/>
                    <a:pt x="863600" y="876300"/>
                  </a:cubicBezTo>
                  <a:cubicBezTo>
                    <a:pt x="865038" y="882052"/>
                    <a:pt x="868275" y="891470"/>
                    <a:pt x="873125" y="895350"/>
                  </a:cubicBezTo>
                  <a:cubicBezTo>
                    <a:pt x="875738" y="897441"/>
                    <a:pt x="879475" y="897467"/>
                    <a:pt x="882650" y="898525"/>
                  </a:cubicBezTo>
                  <a:cubicBezTo>
                    <a:pt x="885825" y="900642"/>
                    <a:pt x="888668" y="903372"/>
                    <a:pt x="892175" y="904875"/>
                  </a:cubicBezTo>
                  <a:cubicBezTo>
                    <a:pt x="896098" y="906556"/>
                    <a:pt x="917925" y="910660"/>
                    <a:pt x="920750" y="911225"/>
                  </a:cubicBezTo>
                  <a:cubicBezTo>
                    <a:pt x="929834" y="938477"/>
                    <a:pt x="915924" y="895098"/>
                    <a:pt x="927100" y="939800"/>
                  </a:cubicBezTo>
                  <a:cubicBezTo>
                    <a:pt x="928723" y="946294"/>
                    <a:pt x="931333" y="952500"/>
                    <a:pt x="933450" y="958850"/>
                  </a:cubicBezTo>
                  <a:lnTo>
                    <a:pt x="939800" y="977900"/>
                  </a:lnTo>
                  <a:cubicBezTo>
                    <a:pt x="941339" y="982516"/>
                    <a:pt x="955152" y="986192"/>
                    <a:pt x="958850" y="987425"/>
                  </a:cubicBezTo>
                  <a:cubicBezTo>
                    <a:pt x="962025" y="989542"/>
                    <a:pt x="964802" y="992435"/>
                    <a:pt x="968375" y="993775"/>
                  </a:cubicBezTo>
                  <a:cubicBezTo>
                    <a:pt x="973428" y="995670"/>
                    <a:pt x="980434" y="993134"/>
                    <a:pt x="984250" y="996950"/>
                  </a:cubicBezTo>
                  <a:cubicBezTo>
                    <a:pt x="988791" y="1001491"/>
                    <a:pt x="992122" y="1025262"/>
                    <a:pt x="993775" y="1031875"/>
                  </a:cubicBezTo>
                  <a:cubicBezTo>
                    <a:pt x="994587" y="1035122"/>
                    <a:pt x="994859" y="1038787"/>
                    <a:pt x="996950" y="1041400"/>
                  </a:cubicBezTo>
                  <a:cubicBezTo>
                    <a:pt x="999334" y="1044380"/>
                    <a:pt x="1003544" y="1045307"/>
                    <a:pt x="1006475" y="1047750"/>
                  </a:cubicBezTo>
                  <a:cubicBezTo>
                    <a:pt x="1022330" y="1060963"/>
                    <a:pt x="1008786" y="1054870"/>
                    <a:pt x="1025525" y="1060450"/>
                  </a:cubicBezTo>
                  <a:cubicBezTo>
                    <a:pt x="1027642" y="1063625"/>
                    <a:pt x="1028895" y="1067591"/>
                    <a:pt x="1031875" y="1069975"/>
                  </a:cubicBezTo>
                  <a:cubicBezTo>
                    <a:pt x="1034488" y="1072066"/>
                    <a:pt x="1038407" y="1071653"/>
                    <a:pt x="1041400" y="1073150"/>
                  </a:cubicBezTo>
                  <a:cubicBezTo>
                    <a:pt x="1063722" y="1084311"/>
                    <a:pt x="1034608" y="1076781"/>
                    <a:pt x="1069975" y="1082675"/>
                  </a:cubicBezTo>
                  <a:cubicBezTo>
                    <a:pt x="1074208" y="1084792"/>
                    <a:pt x="1078281" y="1087267"/>
                    <a:pt x="1082675" y="1089025"/>
                  </a:cubicBezTo>
                  <a:cubicBezTo>
                    <a:pt x="1088890" y="1091511"/>
                    <a:pt x="1101725" y="1095375"/>
                    <a:pt x="1101725" y="1095375"/>
                  </a:cubicBezTo>
                  <a:cubicBezTo>
                    <a:pt x="1111068" y="1114062"/>
                    <a:pt x="1106578" y="1103585"/>
                    <a:pt x="1114425" y="1127125"/>
                  </a:cubicBezTo>
                  <a:cubicBezTo>
                    <a:pt x="1115632" y="1130745"/>
                    <a:pt x="1118882" y="1133337"/>
                    <a:pt x="1120775" y="1136650"/>
                  </a:cubicBezTo>
                  <a:cubicBezTo>
                    <a:pt x="1123123" y="1140759"/>
                    <a:pt x="1125261" y="1145000"/>
                    <a:pt x="1127125" y="1149350"/>
                  </a:cubicBezTo>
                  <a:cubicBezTo>
                    <a:pt x="1130686" y="1157659"/>
                    <a:pt x="1135679" y="1180390"/>
                    <a:pt x="1136650" y="1184275"/>
                  </a:cubicBezTo>
                  <a:lnTo>
                    <a:pt x="1146175" y="1222375"/>
                  </a:lnTo>
                  <a:cubicBezTo>
                    <a:pt x="1147100" y="1226077"/>
                    <a:pt x="1149212" y="1230007"/>
                    <a:pt x="1152525" y="1231900"/>
                  </a:cubicBezTo>
                  <a:cubicBezTo>
                    <a:pt x="1157210" y="1234577"/>
                    <a:pt x="1163058" y="1234312"/>
                    <a:pt x="1168400" y="1235075"/>
                  </a:cubicBezTo>
                  <a:cubicBezTo>
                    <a:pt x="1177887" y="1236430"/>
                    <a:pt x="1187450" y="1237192"/>
                    <a:pt x="1196975" y="1238250"/>
                  </a:cubicBezTo>
                  <a:cubicBezTo>
                    <a:pt x="1230570" y="1246649"/>
                    <a:pt x="1191009" y="1235246"/>
                    <a:pt x="1219200" y="1247775"/>
                  </a:cubicBezTo>
                  <a:cubicBezTo>
                    <a:pt x="1225317" y="1250493"/>
                    <a:pt x="1238250" y="1254125"/>
                    <a:pt x="1238250" y="1254125"/>
                  </a:cubicBezTo>
                  <a:cubicBezTo>
                    <a:pt x="1240190" y="1259946"/>
                    <a:pt x="1244089" y="1277211"/>
                    <a:pt x="1250950" y="1282700"/>
                  </a:cubicBezTo>
                  <a:cubicBezTo>
                    <a:pt x="1253563" y="1284791"/>
                    <a:pt x="1257300" y="1284817"/>
                    <a:pt x="1260475" y="1285875"/>
                  </a:cubicBezTo>
                  <a:cubicBezTo>
                    <a:pt x="1262592" y="1290108"/>
                    <a:pt x="1264477" y="1294466"/>
                    <a:pt x="1266825" y="1298575"/>
                  </a:cubicBezTo>
                  <a:cubicBezTo>
                    <a:pt x="1268718" y="1301888"/>
                    <a:pt x="1271468" y="1304687"/>
                    <a:pt x="1273175" y="1308100"/>
                  </a:cubicBezTo>
                  <a:cubicBezTo>
                    <a:pt x="1279918" y="1321586"/>
                    <a:pt x="1271102" y="1315660"/>
                    <a:pt x="1285875" y="1327150"/>
                  </a:cubicBezTo>
                  <a:cubicBezTo>
                    <a:pt x="1291899" y="1331835"/>
                    <a:pt x="1298575" y="1335617"/>
                    <a:pt x="1304925" y="1339850"/>
                  </a:cubicBezTo>
                  <a:lnTo>
                    <a:pt x="1314450" y="1346200"/>
                  </a:lnTo>
                  <a:cubicBezTo>
                    <a:pt x="1317235" y="1348056"/>
                    <a:pt x="1321298" y="1347367"/>
                    <a:pt x="1323975" y="1349375"/>
                  </a:cubicBezTo>
                  <a:cubicBezTo>
                    <a:pt x="1325868" y="1350795"/>
                    <a:pt x="1326092" y="1353608"/>
                    <a:pt x="1327150" y="1355725"/>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20" name="Group 11"/>
            <p:cNvGrpSpPr/>
            <p:nvPr/>
          </p:nvGrpSpPr>
          <p:grpSpPr>
            <a:xfrm>
              <a:off x="3714480" y="3417120"/>
              <a:ext cx="3876840" cy="1193040"/>
              <a:chOff x="3714480" y="3417120"/>
              <a:chExt cx="3876840" cy="1193040"/>
            </a:xfrm>
          </p:grpSpPr>
          <p:sp>
            <p:nvSpPr>
              <p:cNvPr id="1021" name="Freeform 9"/>
              <p:cNvSpPr/>
              <p:nvPr/>
            </p:nvSpPr>
            <p:spPr>
              <a:xfrm>
                <a:off x="3714480" y="3417120"/>
                <a:ext cx="2141640" cy="1067760"/>
              </a:xfrm>
              <a:custGeom>
                <a:avLst/>
                <a:gdLst>
                  <a:gd name="textAreaLeft" fmla="*/ 0 w 2141640"/>
                  <a:gd name="textAreaRight" fmla="*/ 2142000 w 2141640"/>
                  <a:gd name="textAreaTop" fmla="*/ 0 h 1067760"/>
                  <a:gd name="textAreaBottom" fmla="*/ 1068120 h 1067760"/>
                </a:gdLst>
                <a:ahLst/>
                <a:rect l="textAreaLeft" t="textAreaTop" r="textAreaRight" b="textAreaBottom"/>
                <a:pathLst>
                  <a:path w="2140744" h="1066800">
                    <a:moveTo>
                      <a:pt x="0" y="0"/>
                    </a:moveTo>
                    <a:cubicBezTo>
                      <a:pt x="8731" y="794"/>
                      <a:pt x="17515" y="1141"/>
                      <a:pt x="26194" y="2381"/>
                    </a:cubicBezTo>
                    <a:cubicBezTo>
                      <a:pt x="28679" y="2736"/>
                      <a:pt x="30877" y="4270"/>
                      <a:pt x="33338" y="4762"/>
                    </a:cubicBezTo>
                    <a:cubicBezTo>
                      <a:pt x="38841" y="5863"/>
                      <a:pt x="44470" y="6221"/>
                      <a:pt x="50006" y="7144"/>
                    </a:cubicBezTo>
                    <a:cubicBezTo>
                      <a:pt x="53998" y="7809"/>
                      <a:pt x="57897" y="9023"/>
                      <a:pt x="61913" y="9525"/>
                    </a:cubicBezTo>
                    <a:cubicBezTo>
                      <a:pt x="70612" y="10612"/>
                      <a:pt x="79393" y="10938"/>
                      <a:pt x="88106" y="11906"/>
                    </a:cubicBezTo>
                    <a:cubicBezTo>
                      <a:pt x="93684" y="12526"/>
                      <a:pt x="99239" y="13364"/>
                      <a:pt x="104775" y="14287"/>
                    </a:cubicBezTo>
                    <a:cubicBezTo>
                      <a:pt x="108767" y="14952"/>
                      <a:pt x="112669" y="16134"/>
                      <a:pt x="116681" y="16669"/>
                    </a:cubicBezTo>
                    <a:cubicBezTo>
                      <a:pt x="124588" y="17723"/>
                      <a:pt x="132556" y="18256"/>
                      <a:pt x="140494" y="19050"/>
                    </a:cubicBezTo>
                    <a:cubicBezTo>
                      <a:pt x="142875" y="19844"/>
                      <a:pt x="145549" y="20039"/>
                      <a:pt x="147638" y="21431"/>
                    </a:cubicBezTo>
                    <a:cubicBezTo>
                      <a:pt x="153136" y="25097"/>
                      <a:pt x="156031" y="30450"/>
                      <a:pt x="159544" y="35719"/>
                    </a:cubicBezTo>
                    <a:cubicBezTo>
                      <a:pt x="160338" y="38100"/>
                      <a:pt x="161381" y="40412"/>
                      <a:pt x="161925" y="42862"/>
                    </a:cubicBezTo>
                    <a:cubicBezTo>
                      <a:pt x="162972" y="47575"/>
                      <a:pt x="161126" y="53516"/>
                      <a:pt x="164306" y="57150"/>
                    </a:cubicBezTo>
                    <a:cubicBezTo>
                      <a:pt x="167612" y="60928"/>
                      <a:pt x="178594" y="61912"/>
                      <a:pt x="178594" y="61912"/>
                    </a:cubicBezTo>
                    <a:cubicBezTo>
                      <a:pt x="180975" y="64293"/>
                      <a:pt x="184103" y="66112"/>
                      <a:pt x="185738" y="69056"/>
                    </a:cubicBezTo>
                    <a:cubicBezTo>
                      <a:pt x="188176" y="73445"/>
                      <a:pt x="188913" y="78581"/>
                      <a:pt x="190500" y="83344"/>
                    </a:cubicBezTo>
                    <a:cubicBezTo>
                      <a:pt x="192561" y="89527"/>
                      <a:pt x="194797" y="96700"/>
                      <a:pt x="197644" y="102394"/>
                    </a:cubicBezTo>
                    <a:cubicBezTo>
                      <a:pt x="198924" y="104953"/>
                      <a:pt x="200383" y="107514"/>
                      <a:pt x="202406" y="109537"/>
                    </a:cubicBezTo>
                    <a:cubicBezTo>
                      <a:pt x="204430" y="111561"/>
                      <a:pt x="207169" y="112712"/>
                      <a:pt x="209550" y="114300"/>
                    </a:cubicBezTo>
                    <a:cubicBezTo>
                      <a:pt x="215107" y="130968"/>
                      <a:pt x="209551" y="126999"/>
                      <a:pt x="221456" y="130969"/>
                    </a:cubicBezTo>
                    <a:cubicBezTo>
                      <a:pt x="232108" y="146944"/>
                      <a:pt x="219560" y="131292"/>
                      <a:pt x="233363" y="140494"/>
                    </a:cubicBezTo>
                    <a:cubicBezTo>
                      <a:pt x="236165" y="142362"/>
                      <a:pt x="237919" y="145481"/>
                      <a:pt x="240506" y="147637"/>
                    </a:cubicBezTo>
                    <a:cubicBezTo>
                      <a:pt x="242705" y="149469"/>
                      <a:pt x="245269" y="150812"/>
                      <a:pt x="247650" y="152400"/>
                    </a:cubicBezTo>
                    <a:cubicBezTo>
                      <a:pt x="260352" y="171452"/>
                      <a:pt x="243681" y="148431"/>
                      <a:pt x="259556" y="164306"/>
                    </a:cubicBezTo>
                    <a:cubicBezTo>
                      <a:pt x="261580" y="166330"/>
                      <a:pt x="262165" y="169565"/>
                      <a:pt x="264319" y="171450"/>
                    </a:cubicBezTo>
                    <a:cubicBezTo>
                      <a:pt x="268626" y="175219"/>
                      <a:pt x="273844" y="177800"/>
                      <a:pt x="278606" y="180975"/>
                    </a:cubicBezTo>
                    <a:lnTo>
                      <a:pt x="285750" y="185737"/>
                    </a:lnTo>
                    <a:cubicBezTo>
                      <a:pt x="288131" y="187325"/>
                      <a:pt x="290042" y="190262"/>
                      <a:pt x="292894" y="190500"/>
                    </a:cubicBezTo>
                    <a:lnTo>
                      <a:pt x="321469" y="192881"/>
                    </a:lnTo>
                    <a:cubicBezTo>
                      <a:pt x="324644" y="193675"/>
                      <a:pt x="327738" y="194936"/>
                      <a:pt x="330994" y="195262"/>
                    </a:cubicBezTo>
                    <a:cubicBezTo>
                      <a:pt x="343656" y="196528"/>
                      <a:pt x="356707" y="194730"/>
                      <a:pt x="369094" y="197644"/>
                    </a:cubicBezTo>
                    <a:cubicBezTo>
                      <a:pt x="371537" y="198219"/>
                      <a:pt x="370786" y="202374"/>
                      <a:pt x="371475" y="204787"/>
                    </a:cubicBezTo>
                    <a:cubicBezTo>
                      <a:pt x="375319" y="218242"/>
                      <a:pt x="371368" y="210580"/>
                      <a:pt x="378619" y="221456"/>
                    </a:cubicBezTo>
                    <a:cubicBezTo>
                      <a:pt x="379413" y="223837"/>
                      <a:pt x="379608" y="226511"/>
                      <a:pt x="381000" y="228600"/>
                    </a:cubicBezTo>
                    <a:cubicBezTo>
                      <a:pt x="382868" y="231402"/>
                      <a:pt x="385988" y="233157"/>
                      <a:pt x="388144" y="235744"/>
                    </a:cubicBezTo>
                    <a:cubicBezTo>
                      <a:pt x="389976" y="237942"/>
                      <a:pt x="391044" y="240714"/>
                      <a:pt x="392906" y="242887"/>
                    </a:cubicBezTo>
                    <a:cubicBezTo>
                      <a:pt x="395828" y="246296"/>
                      <a:pt x="399626" y="248906"/>
                      <a:pt x="402431" y="252412"/>
                    </a:cubicBezTo>
                    <a:cubicBezTo>
                      <a:pt x="418305" y="272255"/>
                      <a:pt x="404812" y="261938"/>
                      <a:pt x="419100" y="271462"/>
                    </a:cubicBezTo>
                    <a:cubicBezTo>
                      <a:pt x="419894" y="273843"/>
                      <a:pt x="419706" y="276831"/>
                      <a:pt x="421481" y="278606"/>
                    </a:cubicBezTo>
                    <a:cubicBezTo>
                      <a:pt x="423256" y="280381"/>
                      <a:pt x="426380" y="279864"/>
                      <a:pt x="428625" y="280987"/>
                    </a:cubicBezTo>
                    <a:cubicBezTo>
                      <a:pt x="431185" y="282267"/>
                      <a:pt x="433388" y="284162"/>
                      <a:pt x="435769" y="285750"/>
                    </a:cubicBezTo>
                    <a:cubicBezTo>
                      <a:pt x="446686" y="302126"/>
                      <a:pt x="439864" y="298227"/>
                      <a:pt x="452438" y="302419"/>
                    </a:cubicBezTo>
                    <a:cubicBezTo>
                      <a:pt x="460108" y="310089"/>
                      <a:pt x="458660" y="310147"/>
                      <a:pt x="469106" y="314325"/>
                    </a:cubicBezTo>
                    <a:cubicBezTo>
                      <a:pt x="473767" y="316189"/>
                      <a:pt x="483394" y="319087"/>
                      <a:pt x="483394" y="319087"/>
                    </a:cubicBezTo>
                    <a:cubicBezTo>
                      <a:pt x="497141" y="328252"/>
                      <a:pt x="483567" y="320108"/>
                      <a:pt x="504825" y="328612"/>
                    </a:cubicBezTo>
                    <a:cubicBezTo>
                      <a:pt x="508794" y="330200"/>
                      <a:pt x="512676" y="332023"/>
                      <a:pt x="516731" y="333375"/>
                    </a:cubicBezTo>
                    <a:cubicBezTo>
                      <a:pt x="522539" y="335311"/>
                      <a:pt x="532501" y="336879"/>
                      <a:pt x="538163" y="338137"/>
                    </a:cubicBezTo>
                    <a:cubicBezTo>
                      <a:pt x="547126" y="340129"/>
                      <a:pt x="546882" y="340250"/>
                      <a:pt x="554831" y="342900"/>
                    </a:cubicBezTo>
                    <a:cubicBezTo>
                      <a:pt x="556419" y="345281"/>
                      <a:pt x="557762" y="347845"/>
                      <a:pt x="559594" y="350044"/>
                    </a:cubicBezTo>
                    <a:cubicBezTo>
                      <a:pt x="561750" y="352631"/>
                      <a:pt x="564953" y="354331"/>
                      <a:pt x="566738" y="357187"/>
                    </a:cubicBezTo>
                    <a:cubicBezTo>
                      <a:pt x="579578" y="377732"/>
                      <a:pt x="561949" y="361931"/>
                      <a:pt x="581025" y="376237"/>
                    </a:cubicBezTo>
                    <a:cubicBezTo>
                      <a:pt x="592851" y="393975"/>
                      <a:pt x="577652" y="372189"/>
                      <a:pt x="592931" y="390525"/>
                    </a:cubicBezTo>
                    <a:cubicBezTo>
                      <a:pt x="594763" y="392724"/>
                      <a:pt x="595495" y="395837"/>
                      <a:pt x="597694" y="397669"/>
                    </a:cubicBezTo>
                    <a:cubicBezTo>
                      <a:pt x="600421" y="399941"/>
                      <a:pt x="604044" y="400844"/>
                      <a:pt x="607219" y="402431"/>
                    </a:cubicBezTo>
                    <a:cubicBezTo>
                      <a:pt x="611766" y="416074"/>
                      <a:pt x="606151" y="403746"/>
                      <a:pt x="619125" y="416719"/>
                    </a:cubicBezTo>
                    <a:cubicBezTo>
                      <a:pt x="621149" y="418743"/>
                      <a:pt x="621864" y="421838"/>
                      <a:pt x="623888" y="423862"/>
                    </a:cubicBezTo>
                    <a:cubicBezTo>
                      <a:pt x="625912" y="425886"/>
                      <a:pt x="628833" y="426793"/>
                      <a:pt x="631031" y="428625"/>
                    </a:cubicBezTo>
                    <a:cubicBezTo>
                      <a:pt x="633618" y="430781"/>
                      <a:pt x="635588" y="433613"/>
                      <a:pt x="638175" y="435769"/>
                    </a:cubicBezTo>
                    <a:cubicBezTo>
                      <a:pt x="644329" y="440897"/>
                      <a:pt x="645304" y="440526"/>
                      <a:pt x="652463" y="442912"/>
                    </a:cubicBezTo>
                    <a:cubicBezTo>
                      <a:pt x="666033" y="456484"/>
                      <a:pt x="652342" y="445241"/>
                      <a:pt x="669131" y="452437"/>
                    </a:cubicBezTo>
                    <a:cubicBezTo>
                      <a:pt x="671762" y="453564"/>
                      <a:pt x="673715" y="455920"/>
                      <a:pt x="676275" y="457200"/>
                    </a:cubicBezTo>
                    <a:cubicBezTo>
                      <a:pt x="678520" y="458323"/>
                      <a:pt x="681038" y="458787"/>
                      <a:pt x="683419" y="459581"/>
                    </a:cubicBezTo>
                    <a:cubicBezTo>
                      <a:pt x="685800" y="461169"/>
                      <a:pt x="688424" y="462443"/>
                      <a:pt x="690563" y="464344"/>
                    </a:cubicBezTo>
                    <a:cubicBezTo>
                      <a:pt x="695597" y="468818"/>
                      <a:pt x="704850" y="478631"/>
                      <a:pt x="704850" y="478631"/>
                    </a:cubicBezTo>
                    <a:cubicBezTo>
                      <a:pt x="705644" y="481806"/>
                      <a:pt x="705329" y="485493"/>
                      <a:pt x="707231" y="488156"/>
                    </a:cubicBezTo>
                    <a:cubicBezTo>
                      <a:pt x="709538" y="491386"/>
                      <a:pt x="713526" y="492993"/>
                      <a:pt x="716756" y="495300"/>
                    </a:cubicBezTo>
                    <a:cubicBezTo>
                      <a:pt x="728191" y="503468"/>
                      <a:pt x="719253" y="497391"/>
                      <a:pt x="731044" y="502444"/>
                    </a:cubicBezTo>
                    <a:cubicBezTo>
                      <a:pt x="744830" y="508352"/>
                      <a:pt x="737526" y="507637"/>
                      <a:pt x="754856" y="511969"/>
                    </a:cubicBezTo>
                    <a:cubicBezTo>
                      <a:pt x="758031" y="512763"/>
                      <a:pt x="761317" y="513201"/>
                      <a:pt x="764381" y="514350"/>
                    </a:cubicBezTo>
                    <a:cubicBezTo>
                      <a:pt x="767705" y="515596"/>
                      <a:pt x="770643" y="517714"/>
                      <a:pt x="773906" y="519112"/>
                    </a:cubicBezTo>
                    <a:cubicBezTo>
                      <a:pt x="776213" y="520101"/>
                      <a:pt x="778669" y="520700"/>
                      <a:pt x="781050" y="521494"/>
                    </a:cubicBezTo>
                    <a:cubicBezTo>
                      <a:pt x="784755" y="525198"/>
                      <a:pt x="790035" y="531411"/>
                      <a:pt x="795338" y="533400"/>
                    </a:cubicBezTo>
                    <a:cubicBezTo>
                      <a:pt x="799128" y="534821"/>
                      <a:pt x="803275" y="534987"/>
                      <a:pt x="807244" y="535781"/>
                    </a:cubicBezTo>
                    <a:cubicBezTo>
                      <a:pt x="808038" y="538162"/>
                      <a:pt x="807850" y="541150"/>
                      <a:pt x="809625" y="542925"/>
                    </a:cubicBezTo>
                    <a:cubicBezTo>
                      <a:pt x="813672" y="546972"/>
                      <a:pt x="819150" y="549275"/>
                      <a:pt x="823913" y="552450"/>
                    </a:cubicBezTo>
                    <a:lnTo>
                      <a:pt x="831056" y="557212"/>
                    </a:lnTo>
                    <a:cubicBezTo>
                      <a:pt x="833145" y="558604"/>
                      <a:pt x="835955" y="558471"/>
                      <a:pt x="838200" y="559594"/>
                    </a:cubicBezTo>
                    <a:cubicBezTo>
                      <a:pt x="840760" y="560874"/>
                      <a:pt x="842729" y="563194"/>
                      <a:pt x="845344" y="564356"/>
                    </a:cubicBezTo>
                    <a:cubicBezTo>
                      <a:pt x="856087" y="569131"/>
                      <a:pt x="857831" y="567923"/>
                      <a:pt x="866775" y="571500"/>
                    </a:cubicBezTo>
                    <a:cubicBezTo>
                      <a:pt x="870744" y="573087"/>
                      <a:pt x="874516" y="575301"/>
                      <a:pt x="878681" y="576262"/>
                    </a:cubicBezTo>
                    <a:cubicBezTo>
                      <a:pt x="884917" y="577701"/>
                      <a:pt x="891381" y="577850"/>
                      <a:pt x="897731" y="578644"/>
                    </a:cubicBezTo>
                    <a:cubicBezTo>
                      <a:pt x="900112" y="580231"/>
                      <a:pt x="902736" y="581505"/>
                      <a:pt x="904875" y="583406"/>
                    </a:cubicBezTo>
                    <a:cubicBezTo>
                      <a:pt x="909909" y="587881"/>
                      <a:pt x="914400" y="592931"/>
                      <a:pt x="919163" y="597694"/>
                    </a:cubicBezTo>
                    <a:lnTo>
                      <a:pt x="926306" y="604837"/>
                    </a:lnTo>
                    <a:cubicBezTo>
                      <a:pt x="930353" y="608884"/>
                      <a:pt x="935831" y="611187"/>
                      <a:pt x="940594" y="614362"/>
                    </a:cubicBezTo>
                    <a:cubicBezTo>
                      <a:pt x="944823" y="617181"/>
                      <a:pt x="948190" y="621193"/>
                      <a:pt x="952500" y="623887"/>
                    </a:cubicBezTo>
                    <a:cubicBezTo>
                      <a:pt x="954629" y="625217"/>
                      <a:pt x="957337" y="625280"/>
                      <a:pt x="959644" y="626269"/>
                    </a:cubicBezTo>
                    <a:cubicBezTo>
                      <a:pt x="962907" y="627667"/>
                      <a:pt x="965946" y="629544"/>
                      <a:pt x="969169" y="631031"/>
                    </a:cubicBezTo>
                    <a:cubicBezTo>
                      <a:pt x="976267" y="634307"/>
                      <a:pt x="983608" y="637060"/>
                      <a:pt x="990600" y="640556"/>
                    </a:cubicBezTo>
                    <a:cubicBezTo>
                      <a:pt x="993160" y="641836"/>
                      <a:pt x="995129" y="644157"/>
                      <a:pt x="997744" y="645319"/>
                    </a:cubicBezTo>
                    <a:cubicBezTo>
                      <a:pt x="1002331" y="647358"/>
                      <a:pt x="1007269" y="648494"/>
                      <a:pt x="1012031" y="650081"/>
                    </a:cubicBezTo>
                    <a:cubicBezTo>
                      <a:pt x="1032102" y="663462"/>
                      <a:pt x="1003350" y="641586"/>
                      <a:pt x="1021556" y="685800"/>
                    </a:cubicBezTo>
                    <a:cubicBezTo>
                      <a:pt x="1023735" y="691093"/>
                      <a:pt x="1031081" y="692150"/>
                      <a:pt x="1035844" y="695325"/>
                    </a:cubicBezTo>
                    <a:lnTo>
                      <a:pt x="1050131" y="704850"/>
                    </a:lnTo>
                    <a:cubicBezTo>
                      <a:pt x="1052933" y="706718"/>
                      <a:pt x="1054688" y="709838"/>
                      <a:pt x="1057275" y="711994"/>
                    </a:cubicBezTo>
                    <a:cubicBezTo>
                      <a:pt x="1063429" y="717122"/>
                      <a:pt x="1064404" y="716751"/>
                      <a:pt x="1071563" y="719137"/>
                    </a:cubicBezTo>
                    <a:cubicBezTo>
                      <a:pt x="1073944" y="722312"/>
                      <a:pt x="1075657" y="726121"/>
                      <a:pt x="1078706" y="728662"/>
                    </a:cubicBezTo>
                    <a:cubicBezTo>
                      <a:pt x="1080634" y="730269"/>
                      <a:pt x="1083500" y="730163"/>
                      <a:pt x="1085850" y="731044"/>
                    </a:cubicBezTo>
                    <a:cubicBezTo>
                      <a:pt x="1089852" y="732545"/>
                      <a:pt x="1093933" y="733894"/>
                      <a:pt x="1097756" y="735806"/>
                    </a:cubicBezTo>
                    <a:cubicBezTo>
                      <a:pt x="1100316" y="737086"/>
                      <a:pt x="1102269" y="739442"/>
                      <a:pt x="1104900" y="740569"/>
                    </a:cubicBezTo>
                    <a:cubicBezTo>
                      <a:pt x="1111349" y="743333"/>
                      <a:pt x="1115547" y="742088"/>
                      <a:pt x="1121569" y="745331"/>
                    </a:cubicBezTo>
                    <a:cubicBezTo>
                      <a:pt x="1129719" y="749720"/>
                      <a:pt x="1137444" y="754856"/>
                      <a:pt x="1145381" y="759619"/>
                    </a:cubicBezTo>
                    <a:cubicBezTo>
                      <a:pt x="1148269" y="761352"/>
                      <a:pt x="1149938" y="764606"/>
                      <a:pt x="1152525" y="766762"/>
                    </a:cubicBezTo>
                    <a:cubicBezTo>
                      <a:pt x="1155183" y="768977"/>
                      <a:pt x="1166335" y="775847"/>
                      <a:pt x="1169194" y="776287"/>
                    </a:cubicBezTo>
                    <a:cubicBezTo>
                      <a:pt x="1196831" y="780539"/>
                      <a:pt x="1252538" y="785812"/>
                      <a:pt x="1252538" y="785812"/>
                    </a:cubicBezTo>
                    <a:cubicBezTo>
                      <a:pt x="1254919" y="788193"/>
                      <a:pt x="1257490" y="790399"/>
                      <a:pt x="1259681" y="792956"/>
                    </a:cubicBezTo>
                    <a:cubicBezTo>
                      <a:pt x="1262264" y="795969"/>
                      <a:pt x="1264019" y="799675"/>
                      <a:pt x="1266825" y="802481"/>
                    </a:cubicBezTo>
                    <a:cubicBezTo>
                      <a:pt x="1271293" y="806949"/>
                      <a:pt x="1277053" y="811015"/>
                      <a:pt x="1283494" y="812006"/>
                    </a:cubicBezTo>
                    <a:cubicBezTo>
                      <a:pt x="1291378" y="813219"/>
                      <a:pt x="1299369" y="813593"/>
                      <a:pt x="1307306" y="814387"/>
                    </a:cubicBezTo>
                    <a:cubicBezTo>
                      <a:pt x="1310481" y="815181"/>
                      <a:pt x="1313622" y="816127"/>
                      <a:pt x="1316831" y="816769"/>
                    </a:cubicBezTo>
                    <a:cubicBezTo>
                      <a:pt x="1329501" y="819303"/>
                      <a:pt x="1342331" y="821048"/>
                      <a:pt x="1354931" y="823912"/>
                    </a:cubicBezTo>
                    <a:cubicBezTo>
                      <a:pt x="1359826" y="825025"/>
                      <a:pt x="1364456" y="827087"/>
                      <a:pt x="1369219" y="828675"/>
                    </a:cubicBezTo>
                    <a:cubicBezTo>
                      <a:pt x="1377513" y="831440"/>
                      <a:pt x="1384241" y="831679"/>
                      <a:pt x="1393031" y="833437"/>
                    </a:cubicBezTo>
                    <a:cubicBezTo>
                      <a:pt x="1396240" y="834079"/>
                      <a:pt x="1399381" y="835025"/>
                      <a:pt x="1402556" y="835819"/>
                    </a:cubicBezTo>
                    <a:cubicBezTo>
                      <a:pt x="1447892" y="866042"/>
                      <a:pt x="1411121" y="845222"/>
                      <a:pt x="1528763" y="847725"/>
                    </a:cubicBezTo>
                    <a:lnTo>
                      <a:pt x="1571625" y="852487"/>
                    </a:lnTo>
                    <a:cubicBezTo>
                      <a:pt x="1577982" y="853221"/>
                      <a:pt x="1584733" y="852492"/>
                      <a:pt x="1590675" y="854869"/>
                    </a:cubicBezTo>
                    <a:cubicBezTo>
                      <a:pt x="1593332" y="855932"/>
                      <a:pt x="1593606" y="859814"/>
                      <a:pt x="1595438" y="862012"/>
                    </a:cubicBezTo>
                    <a:cubicBezTo>
                      <a:pt x="1597594" y="864599"/>
                      <a:pt x="1599504" y="867788"/>
                      <a:pt x="1602581" y="869156"/>
                    </a:cubicBezTo>
                    <a:cubicBezTo>
                      <a:pt x="1606993" y="871117"/>
                      <a:pt x="1612055" y="871167"/>
                      <a:pt x="1616869" y="871537"/>
                    </a:cubicBezTo>
                    <a:cubicBezTo>
                      <a:pt x="1632717" y="872756"/>
                      <a:pt x="1648619" y="873125"/>
                      <a:pt x="1664494" y="873919"/>
                    </a:cubicBezTo>
                    <a:cubicBezTo>
                      <a:pt x="1674071" y="875515"/>
                      <a:pt x="1679229" y="874366"/>
                      <a:pt x="1685925" y="881062"/>
                    </a:cubicBezTo>
                    <a:cubicBezTo>
                      <a:pt x="1687949" y="883086"/>
                      <a:pt x="1689100" y="885825"/>
                      <a:pt x="1690688" y="888206"/>
                    </a:cubicBezTo>
                    <a:cubicBezTo>
                      <a:pt x="1692275" y="895350"/>
                      <a:pt x="1689495" y="905383"/>
                      <a:pt x="1695450" y="909637"/>
                    </a:cubicBezTo>
                    <a:cubicBezTo>
                      <a:pt x="1703228" y="915193"/>
                      <a:pt x="1714532" y="910902"/>
                      <a:pt x="1724025" y="912019"/>
                    </a:cubicBezTo>
                    <a:cubicBezTo>
                      <a:pt x="1728045" y="912492"/>
                      <a:pt x="1731939" y="913735"/>
                      <a:pt x="1735931" y="914400"/>
                    </a:cubicBezTo>
                    <a:cubicBezTo>
                      <a:pt x="1741467" y="915323"/>
                      <a:pt x="1747064" y="915858"/>
                      <a:pt x="1752600" y="916781"/>
                    </a:cubicBezTo>
                    <a:cubicBezTo>
                      <a:pt x="1756592" y="917446"/>
                      <a:pt x="1760465" y="918944"/>
                      <a:pt x="1764506" y="919162"/>
                    </a:cubicBezTo>
                    <a:cubicBezTo>
                      <a:pt x="1789881" y="920534"/>
                      <a:pt x="1815306" y="920750"/>
                      <a:pt x="1840706" y="921544"/>
                    </a:cubicBezTo>
                    <a:lnTo>
                      <a:pt x="1912144" y="926306"/>
                    </a:lnTo>
                    <a:cubicBezTo>
                      <a:pt x="1931181" y="927364"/>
                      <a:pt x="1950467" y="925675"/>
                      <a:pt x="1969294" y="928687"/>
                    </a:cubicBezTo>
                    <a:cubicBezTo>
                      <a:pt x="1971773" y="929084"/>
                      <a:pt x="1969900" y="934056"/>
                      <a:pt x="1971675" y="935831"/>
                    </a:cubicBezTo>
                    <a:cubicBezTo>
                      <a:pt x="1975722" y="939878"/>
                      <a:pt x="1981200" y="942181"/>
                      <a:pt x="1985963" y="945356"/>
                    </a:cubicBezTo>
                    <a:cubicBezTo>
                      <a:pt x="1992600" y="949781"/>
                      <a:pt x="2001838" y="946943"/>
                      <a:pt x="2009775" y="947737"/>
                    </a:cubicBezTo>
                    <a:cubicBezTo>
                      <a:pt x="2014538" y="949325"/>
                      <a:pt x="2022476" y="947737"/>
                      <a:pt x="2024063" y="952500"/>
                    </a:cubicBezTo>
                    <a:cubicBezTo>
                      <a:pt x="2025717" y="957462"/>
                      <a:pt x="2027937" y="965246"/>
                      <a:pt x="2031206" y="969169"/>
                    </a:cubicBezTo>
                    <a:cubicBezTo>
                      <a:pt x="2034756" y="973429"/>
                      <a:pt x="2040619" y="974687"/>
                      <a:pt x="2045494" y="976312"/>
                    </a:cubicBezTo>
                    <a:cubicBezTo>
                      <a:pt x="2047152" y="980457"/>
                      <a:pt x="2050674" y="991638"/>
                      <a:pt x="2055019" y="995362"/>
                    </a:cubicBezTo>
                    <a:cubicBezTo>
                      <a:pt x="2058533" y="998374"/>
                      <a:pt x="2063222" y="999729"/>
                      <a:pt x="2066925" y="1002506"/>
                    </a:cubicBezTo>
                    <a:cubicBezTo>
                      <a:pt x="2069619" y="1004527"/>
                      <a:pt x="2071329" y="1007693"/>
                      <a:pt x="2074069" y="1009650"/>
                    </a:cubicBezTo>
                    <a:cubicBezTo>
                      <a:pt x="2090754" y="1021568"/>
                      <a:pt x="2076751" y="1009023"/>
                      <a:pt x="2090738" y="1016794"/>
                    </a:cubicBezTo>
                    <a:cubicBezTo>
                      <a:pt x="2095741" y="1019574"/>
                      <a:pt x="2100977" y="1022272"/>
                      <a:pt x="2105025" y="1026319"/>
                    </a:cubicBezTo>
                    <a:cubicBezTo>
                      <a:pt x="2107406" y="1028700"/>
                      <a:pt x="2109410" y="1031531"/>
                      <a:pt x="2112169" y="1033462"/>
                    </a:cubicBezTo>
                    <a:cubicBezTo>
                      <a:pt x="2124407" y="1042028"/>
                      <a:pt x="2125360" y="1041827"/>
                      <a:pt x="2135981" y="1045369"/>
                    </a:cubicBezTo>
                    <a:cubicBezTo>
                      <a:pt x="2136775" y="1048544"/>
                      <a:pt x="2137653" y="1051699"/>
                      <a:pt x="2138363" y="1054894"/>
                    </a:cubicBezTo>
                    <a:cubicBezTo>
                      <a:pt x="2139241" y="1058845"/>
                      <a:pt x="2140744" y="1066800"/>
                      <a:pt x="2140744" y="1066800"/>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2" name="Freeform 10"/>
              <p:cNvSpPr/>
              <p:nvPr/>
            </p:nvSpPr>
            <p:spPr>
              <a:xfrm>
                <a:off x="5856120" y="4476960"/>
                <a:ext cx="1735200" cy="133200"/>
              </a:xfrm>
              <a:custGeom>
                <a:avLst/>
                <a:gdLst>
                  <a:gd name="textAreaLeft" fmla="*/ 0 w 1735200"/>
                  <a:gd name="textAreaRight" fmla="*/ 1735560 w 1735200"/>
                  <a:gd name="textAreaTop" fmla="*/ 0 h 133200"/>
                  <a:gd name="textAreaBottom" fmla="*/ 133560 h 133200"/>
                </a:gdLst>
                <a:ahLst/>
                <a:rect l="textAreaLeft" t="textAreaTop" r="textAreaRight" b="textAreaBottom"/>
                <a:pathLst>
                  <a:path w="1735931" h="133350">
                    <a:moveTo>
                      <a:pt x="0" y="0"/>
                    </a:moveTo>
                    <a:cubicBezTo>
                      <a:pt x="1488" y="11410"/>
                      <a:pt x="3366" y="41621"/>
                      <a:pt x="7144" y="54769"/>
                    </a:cubicBezTo>
                    <a:cubicBezTo>
                      <a:pt x="8940" y="61020"/>
                      <a:pt x="251050" y="46159"/>
                      <a:pt x="245269" y="52387"/>
                    </a:cubicBezTo>
                    <a:cubicBezTo>
                      <a:pt x="241157" y="56817"/>
                      <a:pt x="248444" y="78978"/>
                      <a:pt x="245269" y="83344"/>
                    </a:cubicBezTo>
                    <a:cubicBezTo>
                      <a:pt x="249118" y="76566"/>
                      <a:pt x="392539" y="78843"/>
                      <a:pt x="395287" y="80963"/>
                    </a:cubicBezTo>
                    <a:cubicBezTo>
                      <a:pt x="396081" y="81757"/>
                      <a:pt x="392021" y="123202"/>
                      <a:pt x="395287" y="126206"/>
                    </a:cubicBezTo>
                    <a:cubicBezTo>
                      <a:pt x="400977" y="131440"/>
                      <a:pt x="1457623" y="129877"/>
                      <a:pt x="1735931" y="133350"/>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023" name="Group 7"/>
          <p:cNvGrpSpPr/>
          <p:nvPr/>
        </p:nvGrpSpPr>
        <p:grpSpPr>
          <a:xfrm>
            <a:off x="2324160" y="2016000"/>
            <a:ext cx="4994280" cy="2968920"/>
            <a:chOff x="2324160" y="2016000"/>
            <a:chExt cx="4994280" cy="2968920"/>
          </a:xfrm>
        </p:grpSpPr>
        <p:sp>
          <p:nvSpPr>
            <p:cNvPr id="1024" name="Freeform 2"/>
            <p:cNvSpPr/>
            <p:nvPr/>
          </p:nvSpPr>
          <p:spPr>
            <a:xfrm>
              <a:off x="2324160" y="2016000"/>
              <a:ext cx="1514520" cy="1749600"/>
            </a:xfrm>
            <a:custGeom>
              <a:avLst/>
              <a:gdLst>
                <a:gd name="textAreaLeft" fmla="*/ 0 w 1514520"/>
                <a:gd name="textAreaRight" fmla="*/ 1514880 w 1514520"/>
                <a:gd name="textAreaTop" fmla="*/ 0 h 1749600"/>
                <a:gd name="textAreaBottom" fmla="*/ 1749960 h 1749600"/>
              </a:gdLst>
              <a:ahLst/>
              <a:rect l="textAreaLeft" t="textAreaTop" r="textAreaRight" b="textAreaBottom"/>
              <a:pathLst>
                <a:path w="1514475" h="1749425">
                  <a:moveTo>
                    <a:pt x="0" y="3175"/>
                  </a:moveTo>
                  <a:cubicBezTo>
                    <a:pt x="10583" y="2117"/>
                    <a:pt x="21114" y="0"/>
                    <a:pt x="31750" y="0"/>
                  </a:cubicBezTo>
                  <a:cubicBezTo>
                    <a:pt x="50034" y="0"/>
                    <a:pt x="57688" y="2516"/>
                    <a:pt x="73025" y="6350"/>
                  </a:cubicBezTo>
                  <a:cubicBezTo>
                    <a:pt x="75142" y="9525"/>
                    <a:pt x="76503" y="13362"/>
                    <a:pt x="79375" y="15875"/>
                  </a:cubicBezTo>
                  <a:cubicBezTo>
                    <a:pt x="85118" y="20901"/>
                    <a:pt x="98425" y="28575"/>
                    <a:pt x="98425" y="28575"/>
                  </a:cubicBezTo>
                  <a:cubicBezTo>
                    <a:pt x="100542" y="31750"/>
                    <a:pt x="101795" y="35716"/>
                    <a:pt x="104775" y="38100"/>
                  </a:cubicBezTo>
                  <a:cubicBezTo>
                    <a:pt x="107388" y="40191"/>
                    <a:pt x="111307" y="39778"/>
                    <a:pt x="114300" y="41275"/>
                  </a:cubicBezTo>
                  <a:cubicBezTo>
                    <a:pt x="117713" y="42982"/>
                    <a:pt x="120650" y="45508"/>
                    <a:pt x="123825" y="47625"/>
                  </a:cubicBezTo>
                  <a:cubicBezTo>
                    <a:pt x="125942" y="50800"/>
                    <a:pt x="127195" y="54766"/>
                    <a:pt x="130175" y="57150"/>
                  </a:cubicBezTo>
                  <a:cubicBezTo>
                    <a:pt x="132788" y="59241"/>
                    <a:pt x="138203" y="57332"/>
                    <a:pt x="139700" y="60325"/>
                  </a:cubicBezTo>
                  <a:cubicBezTo>
                    <a:pt x="143047" y="67018"/>
                    <a:pt x="141407" y="75212"/>
                    <a:pt x="142875" y="82550"/>
                  </a:cubicBezTo>
                  <a:cubicBezTo>
                    <a:pt x="143531" y="85832"/>
                    <a:pt x="143683" y="89708"/>
                    <a:pt x="146050" y="92075"/>
                  </a:cubicBezTo>
                  <a:cubicBezTo>
                    <a:pt x="151446" y="97471"/>
                    <a:pt x="158750" y="100542"/>
                    <a:pt x="165100" y="104775"/>
                  </a:cubicBezTo>
                  <a:cubicBezTo>
                    <a:pt x="177410" y="112981"/>
                    <a:pt x="171005" y="109918"/>
                    <a:pt x="184150" y="114300"/>
                  </a:cubicBezTo>
                  <a:cubicBezTo>
                    <a:pt x="191172" y="121322"/>
                    <a:pt x="194359" y="125755"/>
                    <a:pt x="203200" y="130175"/>
                  </a:cubicBezTo>
                  <a:cubicBezTo>
                    <a:pt x="206193" y="131672"/>
                    <a:pt x="209550" y="132292"/>
                    <a:pt x="212725" y="133350"/>
                  </a:cubicBezTo>
                  <a:cubicBezTo>
                    <a:pt x="215900" y="135467"/>
                    <a:pt x="219866" y="136720"/>
                    <a:pt x="222250" y="139700"/>
                  </a:cubicBezTo>
                  <a:cubicBezTo>
                    <a:pt x="239777" y="161608"/>
                    <a:pt x="207653" y="137377"/>
                    <a:pt x="234950" y="155575"/>
                  </a:cubicBezTo>
                  <a:cubicBezTo>
                    <a:pt x="251883" y="180975"/>
                    <a:pt x="229658" y="150283"/>
                    <a:pt x="250825" y="171450"/>
                  </a:cubicBezTo>
                  <a:cubicBezTo>
                    <a:pt x="265186" y="185811"/>
                    <a:pt x="248157" y="177969"/>
                    <a:pt x="266700" y="184150"/>
                  </a:cubicBezTo>
                  <a:cubicBezTo>
                    <a:pt x="268817" y="187325"/>
                    <a:pt x="270070" y="191291"/>
                    <a:pt x="273050" y="193675"/>
                  </a:cubicBezTo>
                  <a:cubicBezTo>
                    <a:pt x="286703" y="204597"/>
                    <a:pt x="280140" y="186608"/>
                    <a:pt x="288925" y="206375"/>
                  </a:cubicBezTo>
                  <a:cubicBezTo>
                    <a:pt x="291643" y="212492"/>
                    <a:pt x="293158" y="219075"/>
                    <a:pt x="295275" y="225425"/>
                  </a:cubicBezTo>
                  <a:lnTo>
                    <a:pt x="301625" y="244475"/>
                  </a:lnTo>
                  <a:cubicBezTo>
                    <a:pt x="302832" y="248095"/>
                    <a:pt x="306268" y="250587"/>
                    <a:pt x="307975" y="254000"/>
                  </a:cubicBezTo>
                  <a:cubicBezTo>
                    <a:pt x="314154" y="266357"/>
                    <a:pt x="308221" y="261983"/>
                    <a:pt x="314325" y="276225"/>
                  </a:cubicBezTo>
                  <a:cubicBezTo>
                    <a:pt x="315828" y="279732"/>
                    <a:pt x="317695" y="283366"/>
                    <a:pt x="320675" y="285750"/>
                  </a:cubicBezTo>
                  <a:cubicBezTo>
                    <a:pt x="323288" y="287841"/>
                    <a:pt x="327025" y="287867"/>
                    <a:pt x="330200" y="288925"/>
                  </a:cubicBezTo>
                  <a:cubicBezTo>
                    <a:pt x="333375" y="292100"/>
                    <a:pt x="336968" y="294906"/>
                    <a:pt x="339725" y="298450"/>
                  </a:cubicBezTo>
                  <a:cubicBezTo>
                    <a:pt x="344410" y="304474"/>
                    <a:pt x="348192" y="311150"/>
                    <a:pt x="352425" y="317500"/>
                  </a:cubicBezTo>
                  <a:lnTo>
                    <a:pt x="358775" y="327025"/>
                  </a:lnTo>
                  <a:lnTo>
                    <a:pt x="365125" y="336550"/>
                  </a:lnTo>
                  <a:cubicBezTo>
                    <a:pt x="367242" y="339725"/>
                    <a:pt x="370268" y="342455"/>
                    <a:pt x="371475" y="346075"/>
                  </a:cubicBezTo>
                  <a:cubicBezTo>
                    <a:pt x="379455" y="370016"/>
                    <a:pt x="368690" y="340506"/>
                    <a:pt x="381000" y="365125"/>
                  </a:cubicBezTo>
                  <a:cubicBezTo>
                    <a:pt x="382497" y="368118"/>
                    <a:pt x="382550" y="371724"/>
                    <a:pt x="384175" y="374650"/>
                  </a:cubicBezTo>
                  <a:cubicBezTo>
                    <a:pt x="387881" y="381321"/>
                    <a:pt x="392642" y="387350"/>
                    <a:pt x="396875" y="393700"/>
                  </a:cubicBezTo>
                  <a:cubicBezTo>
                    <a:pt x="400588" y="399269"/>
                    <a:pt x="403225" y="412750"/>
                    <a:pt x="403225" y="412750"/>
                  </a:cubicBezTo>
                  <a:cubicBezTo>
                    <a:pt x="398145" y="427990"/>
                    <a:pt x="399838" y="416560"/>
                    <a:pt x="403225" y="431800"/>
                  </a:cubicBezTo>
                  <a:cubicBezTo>
                    <a:pt x="404622" y="438084"/>
                    <a:pt x="404839" y="444605"/>
                    <a:pt x="406400" y="450850"/>
                  </a:cubicBezTo>
                  <a:cubicBezTo>
                    <a:pt x="408023" y="457344"/>
                    <a:pt x="410633" y="463550"/>
                    <a:pt x="412750" y="469900"/>
                  </a:cubicBezTo>
                  <a:lnTo>
                    <a:pt x="419100" y="488950"/>
                  </a:lnTo>
                  <a:cubicBezTo>
                    <a:pt x="420307" y="492570"/>
                    <a:pt x="425118" y="493797"/>
                    <a:pt x="428625" y="495300"/>
                  </a:cubicBezTo>
                  <a:cubicBezTo>
                    <a:pt x="432636" y="497019"/>
                    <a:pt x="437129" y="497276"/>
                    <a:pt x="441325" y="498475"/>
                  </a:cubicBezTo>
                  <a:cubicBezTo>
                    <a:pt x="444543" y="499394"/>
                    <a:pt x="447675" y="500592"/>
                    <a:pt x="450850" y="501650"/>
                  </a:cubicBezTo>
                  <a:cubicBezTo>
                    <a:pt x="461433" y="517525"/>
                    <a:pt x="454025" y="509058"/>
                    <a:pt x="476250" y="523875"/>
                  </a:cubicBezTo>
                  <a:lnTo>
                    <a:pt x="485775" y="530225"/>
                  </a:lnTo>
                  <a:cubicBezTo>
                    <a:pt x="488950" y="532342"/>
                    <a:pt x="491680" y="535368"/>
                    <a:pt x="495300" y="536575"/>
                  </a:cubicBezTo>
                  <a:lnTo>
                    <a:pt x="504825" y="539750"/>
                  </a:lnTo>
                  <a:lnTo>
                    <a:pt x="523875" y="568325"/>
                  </a:lnTo>
                  <a:cubicBezTo>
                    <a:pt x="545034" y="600063"/>
                    <a:pt x="516901" y="578493"/>
                    <a:pt x="539750" y="593725"/>
                  </a:cubicBezTo>
                  <a:cubicBezTo>
                    <a:pt x="540808" y="596900"/>
                    <a:pt x="541607" y="600174"/>
                    <a:pt x="542925" y="603250"/>
                  </a:cubicBezTo>
                  <a:cubicBezTo>
                    <a:pt x="544789" y="607600"/>
                    <a:pt x="547778" y="611460"/>
                    <a:pt x="549275" y="615950"/>
                  </a:cubicBezTo>
                  <a:cubicBezTo>
                    <a:pt x="552035" y="624229"/>
                    <a:pt x="552865" y="633071"/>
                    <a:pt x="555625" y="641350"/>
                  </a:cubicBezTo>
                  <a:cubicBezTo>
                    <a:pt x="556683" y="644525"/>
                    <a:pt x="557303" y="647882"/>
                    <a:pt x="558800" y="650875"/>
                  </a:cubicBezTo>
                  <a:cubicBezTo>
                    <a:pt x="560507" y="654288"/>
                    <a:pt x="563033" y="657225"/>
                    <a:pt x="565150" y="660400"/>
                  </a:cubicBezTo>
                  <a:cubicBezTo>
                    <a:pt x="569272" y="689251"/>
                    <a:pt x="565958" y="675525"/>
                    <a:pt x="574675" y="701675"/>
                  </a:cubicBezTo>
                  <a:cubicBezTo>
                    <a:pt x="575733" y="704850"/>
                    <a:pt x="575994" y="708415"/>
                    <a:pt x="577850" y="711200"/>
                  </a:cubicBezTo>
                  <a:lnTo>
                    <a:pt x="590550" y="730250"/>
                  </a:lnTo>
                  <a:cubicBezTo>
                    <a:pt x="594067" y="735526"/>
                    <a:pt x="604167" y="737964"/>
                    <a:pt x="609600" y="739775"/>
                  </a:cubicBezTo>
                  <a:cubicBezTo>
                    <a:pt x="612775" y="741892"/>
                    <a:pt x="616741" y="743145"/>
                    <a:pt x="619125" y="746125"/>
                  </a:cubicBezTo>
                  <a:cubicBezTo>
                    <a:pt x="621216" y="748738"/>
                    <a:pt x="620675" y="752724"/>
                    <a:pt x="622300" y="755650"/>
                  </a:cubicBezTo>
                  <a:cubicBezTo>
                    <a:pt x="626006" y="762321"/>
                    <a:pt x="630767" y="768350"/>
                    <a:pt x="635000" y="774700"/>
                  </a:cubicBezTo>
                  <a:lnTo>
                    <a:pt x="641350" y="784225"/>
                  </a:lnTo>
                  <a:cubicBezTo>
                    <a:pt x="642408" y="792692"/>
                    <a:pt x="642999" y="801230"/>
                    <a:pt x="644525" y="809625"/>
                  </a:cubicBezTo>
                  <a:cubicBezTo>
                    <a:pt x="646805" y="822166"/>
                    <a:pt x="648240" y="817054"/>
                    <a:pt x="654050" y="828675"/>
                  </a:cubicBezTo>
                  <a:cubicBezTo>
                    <a:pt x="667195" y="854965"/>
                    <a:pt x="645377" y="820428"/>
                    <a:pt x="663575" y="847725"/>
                  </a:cubicBezTo>
                  <a:cubicBezTo>
                    <a:pt x="665757" y="858637"/>
                    <a:pt x="666936" y="865838"/>
                    <a:pt x="669925" y="876300"/>
                  </a:cubicBezTo>
                  <a:cubicBezTo>
                    <a:pt x="670844" y="879518"/>
                    <a:pt x="671009" y="883212"/>
                    <a:pt x="673100" y="885825"/>
                  </a:cubicBezTo>
                  <a:cubicBezTo>
                    <a:pt x="675484" y="888805"/>
                    <a:pt x="679450" y="890058"/>
                    <a:pt x="682625" y="892175"/>
                  </a:cubicBezTo>
                  <a:cubicBezTo>
                    <a:pt x="683190" y="895000"/>
                    <a:pt x="687294" y="916827"/>
                    <a:pt x="688975" y="920750"/>
                  </a:cubicBezTo>
                  <a:cubicBezTo>
                    <a:pt x="690478" y="924257"/>
                    <a:pt x="693208" y="927100"/>
                    <a:pt x="695325" y="930275"/>
                  </a:cubicBezTo>
                  <a:cubicBezTo>
                    <a:pt x="696383" y="936625"/>
                    <a:pt x="695306" y="943736"/>
                    <a:pt x="698500" y="949325"/>
                  </a:cubicBezTo>
                  <a:cubicBezTo>
                    <a:pt x="700160" y="952231"/>
                    <a:pt x="705032" y="951003"/>
                    <a:pt x="708025" y="952500"/>
                  </a:cubicBezTo>
                  <a:cubicBezTo>
                    <a:pt x="711438" y="954207"/>
                    <a:pt x="714063" y="957300"/>
                    <a:pt x="717550" y="958850"/>
                  </a:cubicBezTo>
                  <a:cubicBezTo>
                    <a:pt x="723667" y="961568"/>
                    <a:pt x="736600" y="965200"/>
                    <a:pt x="736600" y="965200"/>
                  </a:cubicBezTo>
                  <a:cubicBezTo>
                    <a:pt x="740833" y="971550"/>
                    <a:pt x="746887" y="977010"/>
                    <a:pt x="749300" y="984250"/>
                  </a:cubicBezTo>
                  <a:cubicBezTo>
                    <a:pt x="750358" y="987425"/>
                    <a:pt x="750978" y="990782"/>
                    <a:pt x="752475" y="993775"/>
                  </a:cubicBezTo>
                  <a:cubicBezTo>
                    <a:pt x="754182" y="997188"/>
                    <a:pt x="757275" y="999813"/>
                    <a:pt x="758825" y="1003300"/>
                  </a:cubicBezTo>
                  <a:cubicBezTo>
                    <a:pt x="761543" y="1009417"/>
                    <a:pt x="763058" y="1016000"/>
                    <a:pt x="765175" y="1022350"/>
                  </a:cubicBezTo>
                  <a:cubicBezTo>
                    <a:pt x="767267" y="1028625"/>
                    <a:pt x="769105" y="1036924"/>
                    <a:pt x="774700" y="1041400"/>
                  </a:cubicBezTo>
                  <a:cubicBezTo>
                    <a:pt x="777313" y="1043491"/>
                    <a:pt x="781050" y="1043517"/>
                    <a:pt x="784225" y="1044575"/>
                  </a:cubicBezTo>
                  <a:cubicBezTo>
                    <a:pt x="787400" y="1046692"/>
                    <a:pt x="790819" y="1048482"/>
                    <a:pt x="793750" y="1050925"/>
                  </a:cubicBezTo>
                  <a:cubicBezTo>
                    <a:pt x="797199" y="1053800"/>
                    <a:pt x="799350" y="1058269"/>
                    <a:pt x="803275" y="1060450"/>
                  </a:cubicBezTo>
                  <a:cubicBezTo>
                    <a:pt x="809126" y="1063701"/>
                    <a:pt x="822325" y="1066800"/>
                    <a:pt x="822325" y="1066800"/>
                  </a:cubicBezTo>
                  <a:cubicBezTo>
                    <a:pt x="825500" y="1068917"/>
                    <a:pt x="828363" y="1071600"/>
                    <a:pt x="831850" y="1073150"/>
                  </a:cubicBezTo>
                  <a:cubicBezTo>
                    <a:pt x="837967" y="1075868"/>
                    <a:pt x="850900" y="1079500"/>
                    <a:pt x="850900" y="1079500"/>
                  </a:cubicBezTo>
                  <a:cubicBezTo>
                    <a:pt x="869098" y="1106797"/>
                    <a:pt x="847280" y="1072260"/>
                    <a:pt x="860425" y="1098550"/>
                  </a:cubicBezTo>
                  <a:cubicBezTo>
                    <a:pt x="863993" y="1105686"/>
                    <a:pt x="870281" y="1112584"/>
                    <a:pt x="876300" y="1117600"/>
                  </a:cubicBezTo>
                  <a:cubicBezTo>
                    <a:pt x="879231" y="1120043"/>
                    <a:pt x="882650" y="1121833"/>
                    <a:pt x="885825" y="1123950"/>
                  </a:cubicBezTo>
                  <a:cubicBezTo>
                    <a:pt x="887942" y="1127125"/>
                    <a:pt x="889732" y="1130544"/>
                    <a:pt x="892175" y="1133475"/>
                  </a:cubicBezTo>
                  <a:cubicBezTo>
                    <a:pt x="895050" y="1136924"/>
                    <a:pt x="899209" y="1139264"/>
                    <a:pt x="901700" y="1143000"/>
                  </a:cubicBezTo>
                  <a:cubicBezTo>
                    <a:pt x="903556" y="1145785"/>
                    <a:pt x="903378" y="1149532"/>
                    <a:pt x="904875" y="1152525"/>
                  </a:cubicBezTo>
                  <a:cubicBezTo>
                    <a:pt x="909295" y="1161366"/>
                    <a:pt x="913728" y="1164553"/>
                    <a:pt x="920750" y="1171575"/>
                  </a:cubicBezTo>
                  <a:lnTo>
                    <a:pt x="927100" y="1190625"/>
                  </a:lnTo>
                  <a:cubicBezTo>
                    <a:pt x="928158" y="1193800"/>
                    <a:pt x="927490" y="1198294"/>
                    <a:pt x="930275" y="1200150"/>
                  </a:cubicBezTo>
                  <a:cubicBezTo>
                    <a:pt x="933450" y="1202267"/>
                    <a:pt x="936869" y="1204057"/>
                    <a:pt x="939800" y="1206500"/>
                  </a:cubicBezTo>
                  <a:cubicBezTo>
                    <a:pt x="943249" y="1209375"/>
                    <a:pt x="945426" y="1213797"/>
                    <a:pt x="949325" y="1216025"/>
                  </a:cubicBezTo>
                  <a:cubicBezTo>
                    <a:pt x="953114" y="1218190"/>
                    <a:pt x="957792" y="1218142"/>
                    <a:pt x="962025" y="1219200"/>
                  </a:cubicBezTo>
                  <a:cubicBezTo>
                    <a:pt x="972088" y="1234294"/>
                    <a:pt x="967168" y="1225105"/>
                    <a:pt x="974725" y="1247775"/>
                  </a:cubicBezTo>
                  <a:cubicBezTo>
                    <a:pt x="986142" y="1282026"/>
                    <a:pt x="977052" y="1234436"/>
                    <a:pt x="984250" y="1266825"/>
                  </a:cubicBezTo>
                  <a:cubicBezTo>
                    <a:pt x="985647" y="1273109"/>
                    <a:pt x="984810" y="1279992"/>
                    <a:pt x="987425" y="1285875"/>
                  </a:cubicBezTo>
                  <a:cubicBezTo>
                    <a:pt x="992330" y="1296911"/>
                    <a:pt x="1000083" y="1295841"/>
                    <a:pt x="1009650" y="1298575"/>
                  </a:cubicBezTo>
                  <a:cubicBezTo>
                    <a:pt x="1012868" y="1299494"/>
                    <a:pt x="1016000" y="1300692"/>
                    <a:pt x="1019175" y="1301750"/>
                  </a:cubicBezTo>
                  <a:cubicBezTo>
                    <a:pt x="1022711" y="1312357"/>
                    <a:pt x="1022867" y="1312015"/>
                    <a:pt x="1025525" y="1323975"/>
                  </a:cubicBezTo>
                  <a:cubicBezTo>
                    <a:pt x="1025643" y="1324508"/>
                    <a:pt x="1029296" y="1346280"/>
                    <a:pt x="1031875" y="1349375"/>
                  </a:cubicBezTo>
                  <a:cubicBezTo>
                    <a:pt x="1035263" y="1353440"/>
                    <a:pt x="1041059" y="1354945"/>
                    <a:pt x="1044575" y="1358900"/>
                  </a:cubicBezTo>
                  <a:cubicBezTo>
                    <a:pt x="1066027" y="1383033"/>
                    <a:pt x="1047011" y="1374529"/>
                    <a:pt x="1066800" y="1381125"/>
                  </a:cubicBezTo>
                  <a:cubicBezTo>
                    <a:pt x="1068917" y="1387475"/>
                    <a:pt x="1069437" y="1394606"/>
                    <a:pt x="1073150" y="1400175"/>
                  </a:cubicBezTo>
                  <a:cubicBezTo>
                    <a:pt x="1075267" y="1403350"/>
                    <a:pt x="1077950" y="1406213"/>
                    <a:pt x="1079500" y="1409700"/>
                  </a:cubicBezTo>
                  <a:cubicBezTo>
                    <a:pt x="1082751" y="1417014"/>
                    <a:pt x="1084592" y="1431935"/>
                    <a:pt x="1092200" y="1438275"/>
                  </a:cubicBezTo>
                  <a:cubicBezTo>
                    <a:pt x="1095836" y="1441305"/>
                    <a:pt x="1100667" y="1442508"/>
                    <a:pt x="1104900" y="1444625"/>
                  </a:cubicBezTo>
                  <a:cubicBezTo>
                    <a:pt x="1107017" y="1447800"/>
                    <a:pt x="1108270" y="1451766"/>
                    <a:pt x="1111250" y="1454150"/>
                  </a:cubicBezTo>
                  <a:cubicBezTo>
                    <a:pt x="1113863" y="1456241"/>
                    <a:pt x="1117557" y="1456406"/>
                    <a:pt x="1120775" y="1457325"/>
                  </a:cubicBezTo>
                  <a:cubicBezTo>
                    <a:pt x="1135745" y="1461602"/>
                    <a:pt x="1137713" y="1461105"/>
                    <a:pt x="1155700" y="1463675"/>
                  </a:cubicBezTo>
                  <a:lnTo>
                    <a:pt x="1168400" y="1482725"/>
                  </a:lnTo>
                  <a:cubicBezTo>
                    <a:pt x="1173241" y="1489987"/>
                    <a:pt x="1172633" y="1499658"/>
                    <a:pt x="1174750" y="1508125"/>
                  </a:cubicBezTo>
                  <a:cubicBezTo>
                    <a:pt x="1175562" y="1511372"/>
                    <a:pt x="1175782" y="1515079"/>
                    <a:pt x="1177925" y="1517650"/>
                  </a:cubicBezTo>
                  <a:cubicBezTo>
                    <a:pt x="1180386" y="1520604"/>
                    <a:pt x="1195807" y="1530629"/>
                    <a:pt x="1200150" y="1533525"/>
                  </a:cubicBezTo>
                  <a:cubicBezTo>
                    <a:pt x="1204196" y="1539594"/>
                    <a:pt x="1209443" y="1548814"/>
                    <a:pt x="1216025" y="1552575"/>
                  </a:cubicBezTo>
                  <a:cubicBezTo>
                    <a:pt x="1219814" y="1554740"/>
                    <a:pt x="1224529" y="1554551"/>
                    <a:pt x="1228725" y="1555750"/>
                  </a:cubicBezTo>
                  <a:cubicBezTo>
                    <a:pt x="1252419" y="1562520"/>
                    <a:pt x="1220385" y="1556940"/>
                    <a:pt x="1266825" y="1562100"/>
                  </a:cubicBezTo>
                  <a:cubicBezTo>
                    <a:pt x="1277811" y="1565762"/>
                    <a:pt x="1276955" y="1563311"/>
                    <a:pt x="1282700" y="1574800"/>
                  </a:cubicBezTo>
                  <a:cubicBezTo>
                    <a:pt x="1284197" y="1577793"/>
                    <a:pt x="1283508" y="1581958"/>
                    <a:pt x="1285875" y="1584325"/>
                  </a:cubicBezTo>
                  <a:cubicBezTo>
                    <a:pt x="1289222" y="1587672"/>
                    <a:pt x="1294342" y="1588558"/>
                    <a:pt x="1298575" y="1590675"/>
                  </a:cubicBezTo>
                  <a:cubicBezTo>
                    <a:pt x="1300692" y="1593850"/>
                    <a:pt x="1302227" y="1597502"/>
                    <a:pt x="1304925" y="1600200"/>
                  </a:cubicBezTo>
                  <a:cubicBezTo>
                    <a:pt x="1307623" y="1602898"/>
                    <a:pt x="1312066" y="1603570"/>
                    <a:pt x="1314450" y="1606550"/>
                  </a:cubicBezTo>
                  <a:cubicBezTo>
                    <a:pt x="1327284" y="1622592"/>
                    <a:pt x="1306132" y="1609987"/>
                    <a:pt x="1323975" y="1625600"/>
                  </a:cubicBezTo>
                  <a:cubicBezTo>
                    <a:pt x="1337412" y="1637357"/>
                    <a:pt x="1339468" y="1637114"/>
                    <a:pt x="1352550" y="1641475"/>
                  </a:cubicBezTo>
                  <a:cubicBezTo>
                    <a:pt x="1354667" y="1644650"/>
                    <a:pt x="1357193" y="1647587"/>
                    <a:pt x="1358900" y="1651000"/>
                  </a:cubicBezTo>
                  <a:cubicBezTo>
                    <a:pt x="1360397" y="1653993"/>
                    <a:pt x="1359984" y="1657912"/>
                    <a:pt x="1362075" y="1660525"/>
                  </a:cubicBezTo>
                  <a:cubicBezTo>
                    <a:pt x="1364459" y="1663505"/>
                    <a:pt x="1368187" y="1665168"/>
                    <a:pt x="1371600" y="1666875"/>
                  </a:cubicBezTo>
                  <a:cubicBezTo>
                    <a:pt x="1382238" y="1672194"/>
                    <a:pt x="1400646" y="1672219"/>
                    <a:pt x="1409700" y="1673225"/>
                  </a:cubicBezTo>
                  <a:cubicBezTo>
                    <a:pt x="1412875" y="1674283"/>
                    <a:pt x="1416858" y="1674033"/>
                    <a:pt x="1419225" y="1676400"/>
                  </a:cubicBezTo>
                  <a:cubicBezTo>
                    <a:pt x="1421592" y="1678767"/>
                    <a:pt x="1420903" y="1682932"/>
                    <a:pt x="1422400" y="1685925"/>
                  </a:cubicBezTo>
                  <a:cubicBezTo>
                    <a:pt x="1424107" y="1689338"/>
                    <a:pt x="1426052" y="1692752"/>
                    <a:pt x="1428750" y="1695450"/>
                  </a:cubicBezTo>
                  <a:cubicBezTo>
                    <a:pt x="1447837" y="1714537"/>
                    <a:pt x="1430658" y="1680849"/>
                    <a:pt x="1457325" y="1720850"/>
                  </a:cubicBezTo>
                  <a:cubicBezTo>
                    <a:pt x="1461558" y="1727200"/>
                    <a:pt x="1462420" y="1739266"/>
                    <a:pt x="1470025" y="1739900"/>
                  </a:cubicBezTo>
                  <a:cubicBezTo>
                    <a:pt x="1511108" y="1743324"/>
                    <a:pt x="1499114" y="1734064"/>
                    <a:pt x="1514475" y="17494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25" name="Group 6"/>
            <p:cNvGrpSpPr/>
            <p:nvPr/>
          </p:nvGrpSpPr>
          <p:grpSpPr>
            <a:xfrm>
              <a:off x="3828960" y="3762360"/>
              <a:ext cx="3489480" cy="1222560"/>
              <a:chOff x="3828960" y="3762360"/>
              <a:chExt cx="3489480" cy="1222560"/>
            </a:xfrm>
          </p:grpSpPr>
          <p:sp>
            <p:nvSpPr>
              <p:cNvPr id="1026" name="Freeform 3"/>
              <p:cNvSpPr/>
              <p:nvPr/>
            </p:nvSpPr>
            <p:spPr>
              <a:xfrm>
                <a:off x="3828960" y="3762360"/>
                <a:ext cx="1739880" cy="895680"/>
              </a:xfrm>
              <a:custGeom>
                <a:avLst/>
                <a:gdLst>
                  <a:gd name="textAreaLeft" fmla="*/ 0 w 1739880"/>
                  <a:gd name="textAreaRight" fmla="*/ 1740240 w 1739880"/>
                  <a:gd name="textAreaTop" fmla="*/ 0 h 895680"/>
                  <a:gd name="textAreaBottom" fmla="*/ 896040 h 895680"/>
                </a:gdLst>
                <a:ahLst/>
                <a:rect l="textAreaLeft" t="textAreaTop" r="textAreaRight" b="textAreaBottom"/>
                <a:pathLst>
                  <a:path w="1739900" h="895820">
                    <a:moveTo>
                      <a:pt x="0" y="0"/>
                    </a:moveTo>
                    <a:cubicBezTo>
                      <a:pt x="5292" y="3175"/>
                      <a:pt x="10642" y="6254"/>
                      <a:pt x="15875" y="9525"/>
                    </a:cubicBezTo>
                    <a:cubicBezTo>
                      <a:pt x="19111" y="11547"/>
                      <a:pt x="22887" y="13003"/>
                      <a:pt x="25400" y="15875"/>
                    </a:cubicBezTo>
                    <a:cubicBezTo>
                      <a:pt x="51329" y="45508"/>
                      <a:pt x="26194" y="26988"/>
                      <a:pt x="47625" y="41275"/>
                    </a:cubicBezTo>
                    <a:lnTo>
                      <a:pt x="60325" y="60325"/>
                    </a:lnTo>
                    <a:cubicBezTo>
                      <a:pt x="66563" y="69683"/>
                      <a:pt x="78974" y="72891"/>
                      <a:pt x="88900" y="76200"/>
                    </a:cubicBezTo>
                    <a:cubicBezTo>
                      <a:pt x="92075" y="78317"/>
                      <a:pt x="95912" y="79678"/>
                      <a:pt x="98425" y="82550"/>
                    </a:cubicBezTo>
                    <a:cubicBezTo>
                      <a:pt x="101902" y="86524"/>
                      <a:pt x="110445" y="106492"/>
                      <a:pt x="120650" y="107950"/>
                    </a:cubicBezTo>
                    <a:cubicBezTo>
                      <a:pt x="139538" y="110648"/>
                      <a:pt x="158750" y="110067"/>
                      <a:pt x="177800" y="111125"/>
                    </a:cubicBezTo>
                    <a:cubicBezTo>
                      <a:pt x="199102" y="125327"/>
                      <a:pt x="178231" y="108597"/>
                      <a:pt x="190500" y="127000"/>
                    </a:cubicBezTo>
                    <a:cubicBezTo>
                      <a:pt x="192991" y="130736"/>
                      <a:pt x="197268" y="132981"/>
                      <a:pt x="200025" y="136525"/>
                    </a:cubicBezTo>
                    <a:cubicBezTo>
                      <a:pt x="204710" y="142549"/>
                      <a:pt x="206375" y="151342"/>
                      <a:pt x="212725" y="155575"/>
                    </a:cubicBezTo>
                    <a:lnTo>
                      <a:pt x="231775" y="168275"/>
                    </a:lnTo>
                    <a:cubicBezTo>
                      <a:pt x="235657" y="176039"/>
                      <a:pt x="238865" y="183768"/>
                      <a:pt x="244475" y="190500"/>
                    </a:cubicBezTo>
                    <a:cubicBezTo>
                      <a:pt x="247350" y="193949"/>
                      <a:pt x="250825" y="196850"/>
                      <a:pt x="254000" y="200025"/>
                    </a:cubicBezTo>
                    <a:cubicBezTo>
                      <a:pt x="260181" y="218568"/>
                      <a:pt x="252339" y="201539"/>
                      <a:pt x="266700" y="215900"/>
                    </a:cubicBezTo>
                    <a:cubicBezTo>
                      <a:pt x="287867" y="237067"/>
                      <a:pt x="257175" y="214842"/>
                      <a:pt x="282575" y="231775"/>
                    </a:cubicBezTo>
                    <a:cubicBezTo>
                      <a:pt x="292638" y="246869"/>
                      <a:pt x="285305" y="240093"/>
                      <a:pt x="307975" y="247650"/>
                    </a:cubicBezTo>
                    <a:lnTo>
                      <a:pt x="317500" y="250825"/>
                    </a:lnTo>
                    <a:lnTo>
                      <a:pt x="330200" y="269875"/>
                    </a:lnTo>
                    <a:lnTo>
                      <a:pt x="336550" y="279400"/>
                    </a:lnTo>
                    <a:cubicBezTo>
                      <a:pt x="337567" y="283469"/>
                      <a:pt x="340623" y="297070"/>
                      <a:pt x="342900" y="301625"/>
                    </a:cubicBezTo>
                    <a:cubicBezTo>
                      <a:pt x="344607" y="305038"/>
                      <a:pt x="347357" y="307837"/>
                      <a:pt x="349250" y="311150"/>
                    </a:cubicBezTo>
                    <a:cubicBezTo>
                      <a:pt x="352570" y="316960"/>
                      <a:pt x="356793" y="328218"/>
                      <a:pt x="361950" y="333375"/>
                    </a:cubicBezTo>
                    <a:cubicBezTo>
                      <a:pt x="364648" y="336073"/>
                      <a:pt x="368300" y="337608"/>
                      <a:pt x="371475" y="339725"/>
                    </a:cubicBezTo>
                    <a:cubicBezTo>
                      <a:pt x="373592" y="342900"/>
                      <a:pt x="374845" y="346866"/>
                      <a:pt x="377825" y="349250"/>
                    </a:cubicBezTo>
                    <a:cubicBezTo>
                      <a:pt x="380438" y="351341"/>
                      <a:pt x="384424" y="350800"/>
                      <a:pt x="387350" y="352425"/>
                    </a:cubicBezTo>
                    <a:cubicBezTo>
                      <a:pt x="394021" y="356131"/>
                      <a:pt x="400050" y="360892"/>
                      <a:pt x="406400" y="365125"/>
                    </a:cubicBezTo>
                    <a:cubicBezTo>
                      <a:pt x="418623" y="377348"/>
                      <a:pt x="412189" y="372159"/>
                      <a:pt x="425450" y="381000"/>
                    </a:cubicBezTo>
                    <a:cubicBezTo>
                      <a:pt x="427567" y="384175"/>
                      <a:pt x="429357" y="387594"/>
                      <a:pt x="431800" y="390525"/>
                    </a:cubicBezTo>
                    <a:cubicBezTo>
                      <a:pt x="439440" y="399692"/>
                      <a:pt x="441484" y="400156"/>
                      <a:pt x="450850" y="406400"/>
                    </a:cubicBezTo>
                    <a:cubicBezTo>
                      <a:pt x="452967" y="409575"/>
                      <a:pt x="454328" y="413412"/>
                      <a:pt x="457200" y="415925"/>
                    </a:cubicBezTo>
                    <a:cubicBezTo>
                      <a:pt x="487352" y="442308"/>
                      <a:pt x="502104" y="429702"/>
                      <a:pt x="552450" y="431800"/>
                    </a:cubicBezTo>
                    <a:cubicBezTo>
                      <a:pt x="558488" y="433008"/>
                      <a:pt x="571341" y="434896"/>
                      <a:pt x="577850" y="438150"/>
                    </a:cubicBezTo>
                    <a:cubicBezTo>
                      <a:pt x="581263" y="439857"/>
                      <a:pt x="583888" y="442950"/>
                      <a:pt x="587375" y="444500"/>
                    </a:cubicBezTo>
                    <a:cubicBezTo>
                      <a:pt x="593492" y="447218"/>
                      <a:pt x="606425" y="450850"/>
                      <a:pt x="606425" y="450850"/>
                    </a:cubicBezTo>
                    <a:cubicBezTo>
                      <a:pt x="629965" y="466543"/>
                      <a:pt x="617991" y="462053"/>
                      <a:pt x="641350" y="466725"/>
                    </a:cubicBezTo>
                    <a:cubicBezTo>
                      <a:pt x="668647" y="484923"/>
                      <a:pt x="634110" y="463105"/>
                      <a:pt x="660400" y="476250"/>
                    </a:cubicBezTo>
                    <a:cubicBezTo>
                      <a:pt x="685019" y="488560"/>
                      <a:pt x="655509" y="477795"/>
                      <a:pt x="679450" y="485775"/>
                    </a:cubicBezTo>
                    <a:cubicBezTo>
                      <a:pt x="682625" y="487892"/>
                      <a:pt x="685402" y="490785"/>
                      <a:pt x="688975" y="492125"/>
                    </a:cubicBezTo>
                    <a:cubicBezTo>
                      <a:pt x="694028" y="494020"/>
                      <a:pt x="699615" y="493991"/>
                      <a:pt x="704850" y="495300"/>
                    </a:cubicBezTo>
                    <a:cubicBezTo>
                      <a:pt x="708097" y="496112"/>
                      <a:pt x="711200" y="497417"/>
                      <a:pt x="714375" y="498475"/>
                    </a:cubicBezTo>
                    <a:cubicBezTo>
                      <a:pt x="716492" y="501650"/>
                      <a:pt x="717745" y="505616"/>
                      <a:pt x="720725" y="508000"/>
                    </a:cubicBezTo>
                    <a:cubicBezTo>
                      <a:pt x="723338" y="510091"/>
                      <a:pt x="727032" y="510256"/>
                      <a:pt x="730250" y="511175"/>
                    </a:cubicBezTo>
                    <a:cubicBezTo>
                      <a:pt x="758157" y="519148"/>
                      <a:pt x="729637" y="509912"/>
                      <a:pt x="752475" y="517525"/>
                    </a:cubicBezTo>
                    <a:lnTo>
                      <a:pt x="771525" y="530225"/>
                    </a:lnTo>
                    <a:cubicBezTo>
                      <a:pt x="800248" y="549373"/>
                      <a:pt x="756261" y="532545"/>
                      <a:pt x="787400" y="542925"/>
                    </a:cubicBezTo>
                    <a:cubicBezTo>
                      <a:pt x="790575" y="545042"/>
                      <a:pt x="793512" y="547568"/>
                      <a:pt x="796925" y="549275"/>
                    </a:cubicBezTo>
                    <a:cubicBezTo>
                      <a:pt x="806461" y="554043"/>
                      <a:pt x="823738" y="554852"/>
                      <a:pt x="831850" y="555625"/>
                    </a:cubicBezTo>
                    <a:cubicBezTo>
                      <a:pt x="845587" y="556933"/>
                      <a:pt x="859367" y="557742"/>
                      <a:pt x="873125" y="558800"/>
                    </a:cubicBezTo>
                    <a:cubicBezTo>
                      <a:pt x="879475" y="559858"/>
                      <a:pt x="885862" y="560712"/>
                      <a:pt x="892175" y="561975"/>
                    </a:cubicBezTo>
                    <a:cubicBezTo>
                      <a:pt x="896454" y="562831"/>
                      <a:pt x="902035" y="561837"/>
                      <a:pt x="904875" y="565150"/>
                    </a:cubicBezTo>
                    <a:cubicBezTo>
                      <a:pt x="909231" y="570232"/>
                      <a:pt x="907512" y="578631"/>
                      <a:pt x="911225" y="584200"/>
                    </a:cubicBezTo>
                    <a:cubicBezTo>
                      <a:pt x="913342" y="587375"/>
                      <a:pt x="913981" y="592442"/>
                      <a:pt x="917575" y="593725"/>
                    </a:cubicBezTo>
                    <a:cubicBezTo>
                      <a:pt x="929700" y="598055"/>
                      <a:pt x="942975" y="597958"/>
                      <a:pt x="955675" y="600075"/>
                    </a:cubicBezTo>
                    <a:cubicBezTo>
                      <a:pt x="959979" y="600792"/>
                      <a:pt x="964022" y="602939"/>
                      <a:pt x="968375" y="603250"/>
                    </a:cubicBezTo>
                    <a:cubicBezTo>
                      <a:pt x="1008545" y="606119"/>
                      <a:pt x="1089025" y="609600"/>
                      <a:pt x="1089025" y="609600"/>
                    </a:cubicBezTo>
                    <a:lnTo>
                      <a:pt x="1104900" y="612775"/>
                    </a:lnTo>
                    <a:cubicBezTo>
                      <a:pt x="1121053" y="615712"/>
                      <a:pt x="1129526" y="616747"/>
                      <a:pt x="1146175" y="619125"/>
                    </a:cubicBezTo>
                    <a:cubicBezTo>
                      <a:pt x="1148292" y="631826"/>
                      <a:pt x="1148981" y="647331"/>
                      <a:pt x="1158875" y="657225"/>
                    </a:cubicBezTo>
                    <a:cubicBezTo>
                      <a:pt x="1161573" y="659923"/>
                      <a:pt x="1165225" y="661458"/>
                      <a:pt x="1168400" y="663575"/>
                    </a:cubicBezTo>
                    <a:cubicBezTo>
                      <a:pt x="1170517" y="666750"/>
                      <a:pt x="1173200" y="669613"/>
                      <a:pt x="1174750" y="673100"/>
                    </a:cubicBezTo>
                    <a:cubicBezTo>
                      <a:pt x="1177468" y="679217"/>
                      <a:pt x="1177387" y="686581"/>
                      <a:pt x="1181100" y="692150"/>
                    </a:cubicBezTo>
                    <a:lnTo>
                      <a:pt x="1193800" y="711200"/>
                    </a:lnTo>
                    <a:cubicBezTo>
                      <a:pt x="1194858" y="716492"/>
                      <a:pt x="1194742" y="722162"/>
                      <a:pt x="1196975" y="727075"/>
                    </a:cubicBezTo>
                    <a:cubicBezTo>
                      <a:pt x="1200133" y="734023"/>
                      <a:pt x="1205442" y="739775"/>
                      <a:pt x="1209675" y="746125"/>
                    </a:cubicBezTo>
                    <a:cubicBezTo>
                      <a:pt x="1214361" y="753153"/>
                      <a:pt x="1218216" y="760286"/>
                      <a:pt x="1225550" y="765175"/>
                    </a:cubicBezTo>
                    <a:cubicBezTo>
                      <a:pt x="1228335" y="767031"/>
                      <a:pt x="1231900" y="767292"/>
                      <a:pt x="1235075" y="768350"/>
                    </a:cubicBezTo>
                    <a:cubicBezTo>
                      <a:pt x="1238250" y="770467"/>
                      <a:pt x="1241113" y="773150"/>
                      <a:pt x="1244600" y="774700"/>
                    </a:cubicBezTo>
                    <a:cubicBezTo>
                      <a:pt x="1270332" y="786137"/>
                      <a:pt x="1285013" y="782307"/>
                      <a:pt x="1317625" y="784225"/>
                    </a:cubicBezTo>
                    <a:cubicBezTo>
                      <a:pt x="1318683" y="787400"/>
                      <a:pt x="1319988" y="790503"/>
                      <a:pt x="1320800" y="793750"/>
                    </a:cubicBezTo>
                    <a:cubicBezTo>
                      <a:pt x="1325187" y="811300"/>
                      <a:pt x="1323566" y="812137"/>
                      <a:pt x="1327150" y="831850"/>
                    </a:cubicBezTo>
                    <a:cubicBezTo>
                      <a:pt x="1328666" y="840190"/>
                      <a:pt x="1328954" y="849180"/>
                      <a:pt x="1339850" y="850900"/>
                    </a:cubicBezTo>
                    <a:cubicBezTo>
                      <a:pt x="1356609" y="853546"/>
                      <a:pt x="1373717" y="853017"/>
                      <a:pt x="1390650" y="854075"/>
                    </a:cubicBezTo>
                    <a:cubicBezTo>
                      <a:pt x="1398058" y="855133"/>
                      <a:pt x="1406036" y="854211"/>
                      <a:pt x="1412875" y="857250"/>
                    </a:cubicBezTo>
                    <a:cubicBezTo>
                      <a:pt x="1416362" y="858800"/>
                      <a:pt x="1417722" y="863268"/>
                      <a:pt x="1419225" y="866775"/>
                    </a:cubicBezTo>
                    <a:cubicBezTo>
                      <a:pt x="1420944" y="870786"/>
                      <a:pt x="1418155" y="878464"/>
                      <a:pt x="1422400" y="879475"/>
                    </a:cubicBezTo>
                    <a:cubicBezTo>
                      <a:pt x="1443017" y="884384"/>
                      <a:pt x="1464733" y="881592"/>
                      <a:pt x="1485900" y="882650"/>
                    </a:cubicBezTo>
                    <a:cubicBezTo>
                      <a:pt x="1489075" y="883708"/>
                      <a:pt x="1492158" y="885099"/>
                      <a:pt x="1495425" y="885825"/>
                    </a:cubicBezTo>
                    <a:cubicBezTo>
                      <a:pt x="1501709" y="887222"/>
                      <a:pt x="1508141" y="887848"/>
                      <a:pt x="1514475" y="889000"/>
                    </a:cubicBezTo>
                    <a:cubicBezTo>
                      <a:pt x="1519784" y="889965"/>
                      <a:pt x="1525058" y="891117"/>
                      <a:pt x="1530350" y="892175"/>
                    </a:cubicBezTo>
                    <a:cubicBezTo>
                      <a:pt x="1536700" y="891117"/>
                      <a:pt x="1543579" y="888471"/>
                      <a:pt x="1549400" y="889000"/>
                    </a:cubicBezTo>
                    <a:cubicBezTo>
                      <a:pt x="1555221" y="889529"/>
                      <a:pt x="1533525" y="894292"/>
                      <a:pt x="1565275" y="895350"/>
                    </a:cubicBezTo>
                    <a:cubicBezTo>
                      <a:pt x="1597025" y="896408"/>
                      <a:pt x="1681692" y="895350"/>
                      <a:pt x="1739900" y="895350"/>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7" name="Freeform 4"/>
              <p:cNvSpPr/>
              <p:nvPr/>
            </p:nvSpPr>
            <p:spPr>
              <a:xfrm>
                <a:off x="5562720" y="4654800"/>
                <a:ext cx="1755720" cy="330120"/>
              </a:xfrm>
              <a:custGeom>
                <a:avLst/>
                <a:gdLst>
                  <a:gd name="textAreaLeft" fmla="*/ 0 w 1755720"/>
                  <a:gd name="textAreaRight" fmla="*/ 1756080 w 1755720"/>
                  <a:gd name="textAreaTop" fmla="*/ 0 h 330120"/>
                  <a:gd name="textAreaBottom" fmla="*/ 330480 h 330120"/>
                </a:gdLst>
                <a:ahLst/>
                <a:rect l="textAreaLeft" t="textAreaTop" r="textAreaRight" b="textAreaBottom"/>
                <a:pathLst>
                  <a:path w="1755775" h="330589">
                    <a:moveTo>
                      <a:pt x="0" y="0"/>
                    </a:moveTo>
                    <a:cubicBezTo>
                      <a:pt x="1058" y="5292"/>
                      <a:pt x="1280" y="10822"/>
                      <a:pt x="3175" y="15875"/>
                    </a:cubicBezTo>
                    <a:cubicBezTo>
                      <a:pt x="14815" y="46915"/>
                      <a:pt x="5307" y="5352"/>
                      <a:pt x="12700" y="34925"/>
                    </a:cubicBezTo>
                    <a:cubicBezTo>
                      <a:pt x="14009" y="40160"/>
                      <a:pt x="10640" y="49491"/>
                      <a:pt x="15875" y="50800"/>
                    </a:cubicBezTo>
                    <a:cubicBezTo>
                      <a:pt x="39512" y="56709"/>
                      <a:pt x="64558" y="52917"/>
                      <a:pt x="88900" y="53975"/>
                    </a:cubicBezTo>
                    <a:lnTo>
                      <a:pt x="107950" y="82550"/>
                    </a:lnTo>
                    <a:cubicBezTo>
                      <a:pt x="110371" y="86181"/>
                      <a:pt x="116346" y="85008"/>
                      <a:pt x="120650" y="85725"/>
                    </a:cubicBezTo>
                    <a:cubicBezTo>
                      <a:pt x="129066" y="87128"/>
                      <a:pt x="137583" y="87842"/>
                      <a:pt x="146050" y="88900"/>
                    </a:cubicBezTo>
                    <a:cubicBezTo>
                      <a:pt x="147861" y="94333"/>
                      <a:pt x="150299" y="104433"/>
                      <a:pt x="155575" y="107950"/>
                    </a:cubicBezTo>
                    <a:cubicBezTo>
                      <a:pt x="159206" y="110371"/>
                      <a:pt x="164042" y="110067"/>
                      <a:pt x="168275" y="111125"/>
                    </a:cubicBezTo>
                    <a:cubicBezTo>
                      <a:pt x="182478" y="132430"/>
                      <a:pt x="171689" y="112919"/>
                      <a:pt x="177800" y="158750"/>
                    </a:cubicBezTo>
                    <a:cubicBezTo>
                      <a:pt x="178242" y="162067"/>
                      <a:pt x="178608" y="165908"/>
                      <a:pt x="180975" y="168275"/>
                    </a:cubicBezTo>
                    <a:cubicBezTo>
                      <a:pt x="184322" y="171622"/>
                      <a:pt x="144463" y="174625"/>
                      <a:pt x="193675" y="174625"/>
                    </a:cubicBezTo>
                    <a:cubicBezTo>
                      <a:pt x="242887" y="174625"/>
                      <a:pt x="382058" y="170392"/>
                      <a:pt x="476250" y="168275"/>
                    </a:cubicBezTo>
                    <a:cubicBezTo>
                      <a:pt x="478331" y="174519"/>
                      <a:pt x="482964" y="219266"/>
                      <a:pt x="485775" y="212725"/>
                    </a:cubicBezTo>
                    <a:cubicBezTo>
                      <a:pt x="488391" y="206637"/>
                      <a:pt x="753533" y="208492"/>
                      <a:pt x="752475" y="212725"/>
                    </a:cubicBezTo>
                    <a:cubicBezTo>
                      <a:pt x="747183" y="197908"/>
                      <a:pt x="749829" y="232833"/>
                      <a:pt x="752475" y="234950"/>
                    </a:cubicBezTo>
                    <a:cubicBezTo>
                      <a:pt x="742672" y="227118"/>
                      <a:pt x="1093258" y="228600"/>
                      <a:pt x="1263650" y="225425"/>
                    </a:cubicBezTo>
                    <a:cubicBezTo>
                      <a:pt x="1298575" y="226483"/>
                      <a:pt x="1375748" y="223989"/>
                      <a:pt x="1377950" y="228600"/>
                    </a:cubicBezTo>
                    <a:cubicBezTo>
                      <a:pt x="1382136" y="237366"/>
                      <a:pt x="1382713" y="275167"/>
                      <a:pt x="1384300" y="292100"/>
                    </a:cubicBezTo>
                    <a:cubicBezTo>
                      <a:pt x="1385888" y="309033"/>
                      <a:pt x="1389063" y="331258"/>
                      <a:pt x="1387475" y="330200"/>
                    </a:cubicBezTo>
                    <a:cubicBezTo>
                      <a:pt x="1389063" y="332317"/>
                      <a:pt x="1679046" y="325173"/>
                      <a:pt x="1755775" y="323850"/>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028" name="Group 67"/>
          <p:cNvGrpSpPr/>
          <p:nvPr/>
        </p:nvGrpSpPr>
        <p:grpSpPr>
          <a:xfrm>
            <a:off x="1827360" y="3614760"/>
            <a:ext cx="2259000" cy="1690560"/>
            <a:chOff x="1827360" y="3614760"/>
            <a:chExt cx="2259000" cy="1690560"/>
          </a:xfrm>
        </p:grpSpPr>
        <p:grpSp>
          <p:nvGrpSpPr>
            <p:cNvPr id="1029" name="Group 68"/>
            <p:cNvGrpSpPr/>
            <p:nvPr/>
          </p:nvGrpSpPr>
          <p:grpSpPr>
            <a:xfrm>
              <a:off x="1827360" y="3614760"/>
              <a:ext cx="2259000" cy="1690560"/>
              <a:chOff x="1827360" y="3614760"/>
              <a:chExt cx="2259000" cy="1690560"/>
            </a:xfrm>
          </p:grpSpPr>
          <p:sp>
            <p:nvSpPr>
              <p:cNvPr id="1030" name="Straight Connector 15367"/>
              <p:cNvSpPr/>
              <p:nvPr/>
            </p:nvSpPr>
            <p:spPr>
              <a:xfrm>
                <a:off x="1827360" y="3614760"/>
                <a:ext cx="2259000" cy="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1" name="Straight Connector 164"/>
              <p:cNvSpPr/>
              <p:nvPr/>
            </p:nvSpPr>
            <p:spPr>
              <a:xfrm flipV="1">
                <a:off x="4084200" y="3624120"/>
                <a:ext cx="0" cy="16812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32" name="Straight Connector 164"/>
            <p:cNvSpPr/>
            <p:nvPr/>
          </p:nvSpPr>
          <p:spPr>
            <a:xfrm flipV="1">
              <a:off x="3637440" y="3624120"/>
              <a:ext cx="0" cy="16812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33" name="TextBox 392"/>
          <p:cNvSpPr/>
          <p:nvPr/>
        </p:nvSpPr>
        <p:spPr>
          <a:xfrm rot="16200000">
            <a:off x="371160" y="3448800"/>
            <a:ext cx="1628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Geneva"/>
              </a:rPr>
              <a:t>Probability of OS</a:t>
            </a:r>
            <a:endParaRPr b="1" lang="en-US" sz="1400" spc="-1" strike="noStrike">
              <a:solidFill>
                <a:srgbClr val="ffffff"/>
              </a:solidFill>
              <a:latin typeface="Arial"/>
            </a:endParaRPr>
          </a:p>
        </p:txBody>
      </p:sp>
      <p:sp>
        <p:nvSpPr>
          <p:cNvPr id="1034" name="Rectangle 220"/>
          <p:cNvSpPr/>
          <p:nvPr/>
        </p:nvSpPr>
        <p:spPr>
          <a:xfrm>
            <a:off x="2105640" y="590544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3</a:t>
            </a:r>
            <a:endParaRPr b="1" lang="en-US" sz="1400" spc="-1" strike="noStrike">
              <a:solidFill>
                <a:srgbClr val="ffffff"/>
              </a:solidFill>
              <a:latin typeface="Arial"/>
            </a:endParaRPr>
          </a:p>
        </p:txBody>
      </p:sp>
      <p:sp>
        <p:nvSpPr>
          <p:cNvPr id="1035" name="Rectangle 221"/>
          <p:cNvSpPr/>
          <p:nvPr/>
        </p:nvSpPr>
        <p:spPr>
          <a:xfrm>
            <a:off x="3150000" y="590544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58</a:t>
            </a:r>
            <a:endParaRPr b="1" lang="en-US" sz="1400" spc="-1" strike="noStrike">
              <a:solidFill>
                <a:srgbClr val="ffffff"/>
              </a:solidFill>
              <a:latin typeface="Arial"/>
            </a:endParaRPr>
          </a:p>
        </p:txBody>
      </p:sp>
      <p:sp>
        <p:nvSpPr>
          <p:cNvPr id="1036" name="Rectangle 223"/>
          <p:cNvSpPr/>
          <p:nvPr/>
        </p:nvSpPr>
        <p:spPr>
          <a:xfrm>
            <a:off x="425700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74</a:t>
            </a:r>
            <a:endParaRPr b="1" lang="en-US" sz="1400" spc="-1" strike="noStrike">
              <a:solidFill>
                <a:srgbClr val="ffffff"/>
              </a:solidFill>
              <a:latin typeface="Arial"/>
            </a:endParaRPr>
          </a:p>
        </p:txBody>
      </p:sp>
      <p:sp>
        <p:nvSpPr>
          <p:cNvPr id="1037" name="Rectangle 224"/>
          <p:cNvSpPr/>
          <p:nvPr/>
        </p:nvSpPr>
        <p:spPr>
          <a:xfrm>
            <a:off x="531756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4</a:t>
            </a:r>
            <a:endParaRPr b="1" lang="en-US" sz="1400" spc="-1" strike="noStrike">
              <a:solidFill>
                <a:srgbClr val="ffffff"/>
              </a:solidFill>
              <a:latin typeface="Arial"/>
            </a:endParaRPr>
          </a:p>
        </p:txBody>
      </p:sp>
      <p:sp>
        <p:nvSpPr>
          <p:cNvPr id="1038" name="Rectangle 226"/>
          <p:cNvSpPr/>
          <p:nvPr/>
        </p:nvSpPr>
        <p:spPr>
          <a:xfrm>
            <a:off x="636048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3</a:t>
            </a:r>
            <a:endParaRPr b="1" lang="en-US" sz="1400" spc="-1" strike="noStrike">
              <a:solidFill>
                <a:srgbClr val="ffffff"/>
              </a:solidFill>
              <a:latin typeface="Arial"/>
            </a:endParaRPr>
          </a:p>
        </p:txBody>
      </p:sp>
      <p:sp>
        <p:nvSpPr>
          <p:cNvPr id="1039" name="Rectangle 227"/>
          <p:cNvSpPr/>
          <p:nvPr/>
        </p:nvSpPr>
        <p:spPr>
          <a:xfrm>
            <a:off x="7468200" y="59054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0" name="Rectangle 231"/>
          <p:cNvSpPr/>
          <p:nvPr/>
        </p:nvSpPr>
        <p:spPr>
          <a:xfrm>
            <a:off x="2105640" y="60930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9</a:t>
            </a:r>
            <a:endParaRPr b="1" lang="en-US" sz="1400" spc="-1" strike="noStrike">
              <a:solidFill>
                <a:srgbClr val="ffffff"/>
              </a:solidFill>
              <a:latin typeface="Arial"/>
            </a:endParaRPr>
          </a:p>
        </p:txBody>
      </p:sp>
      <p:sp>
        <p:nvSpPr>
          <p:cNvPr id="1041" name="Rectangle 232"/>
          <p:cNvSpPr/>
          <p:nvPr/>
        </p:nvSpPr>
        <p:spPr>
          <a:xfrm>
            <a:off x="3150000" y="60930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32</a:t>
            </a:r>
            <a:endParaRPr b="1" lang="en-US" sz="1400" spc="-1" strike="noStrike">
              <a:solidFill>
                <a:srgbClr val="ffffff"/>
              </a:solidFill>
              <a:latin typeface="Arial"/>
            </a:endParaRPr>
          </a:p>
        </p:txBody>
      </p:sp>
      <p:sp>
        <p:nvSpPr>
          <p:cNvPr id="1042" name="Rectangle 234"/>
          <p:cNvSpPr/>
          <p:nvPr/>
        </p:nvSpPr>
        <p:spPr>
          <a:xfrm>
            <a:off x="4257000" y="60930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4</a:t>
            </a:r>
            <a:endParaRPr b="1" lang="en-US" sz="1400" spc="-1" strike="noStrike">
              <a:solidFill>
                <a:srgbClr val="ffffff"/>
              </a:solidFill>
              <a:latin typeface="Arial"/>
            </a:endParaRPr>
          </a:p>
        </p:txBody>
      </p:sp>
      <p:sp>
        <p:nvSpPr>
          <p:cNvPr id="1043" name="Rectangle 235"/>
          <p:cNvSpPr/>
          <p:nvPr/>
        </p:nvSpPr>
        <p:spPr>
          <a:xfrm>
            <a:off x="5317560" y="60930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2</a:t>
            </a:r>
            <a:endParaRPr b="1" lang="en-US" sz="1400" spc="-1" strike="noStrike">
              <a:solidFill>
                <a:srgbClr val="ffffff"/>
              </a:solidFill>
              <a:latin typeface="Arial"/>
            </a:endParaRPr>
          </a:p>
        </p:txBody>
      </p:sp>
      <p:sp>
        <p:nvSpPr>
          <p:cNvPr id="1044" name="Rectangle 237"/>
          <p:cNvSpPr/>
          <p:nvPr/>
        </p:nvSpPr>
        <p:spPr>
          <a:xfrm>
            <a:off x="6410880" y="6093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8</a:t>
            </a:r>
            <a:endParaRPr b="1" lang="en-US" sz="1400" spc="-1" strike="noStrike">
              <a:solidFill>
                <a:srgbClr val="ffffff"/>
              </a:solidFill>
              <a:latin typeface="Arial"/>
            </a:endParaRPr>
          </a:p>
        </p:txBody>
      </p:sp>
      <p:sp>
        <p:nvSpPr>
          <p:cNvPr id="1045" name="Rectangle 238"/>
          <p:cNvSpPr/>
          <p:nvPr/>
        </p:nvSpPr>
        <p:spPr>
          <a:xfrm>
            <a:off x="7464960" y="6093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6" name="Rectangle 242"/>
          <p:cNvSpPr/>
          <p:nvPr/>
        </p:nvSpPr>
        <p:spPr>
          <a:xfrm>
            <a:off x="760320" y="590220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1047" name="Rectangle 243"/>
          <p:cNvSpPr/>
          <p:nvPr/>
        </p:nvSpPr>
        <p:spPr>
          <a:xfrm>
            <a:off x="761400" y="609300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1048" name="Rectangle 38"/>
          <p:cNvSpPr/>
          <p:nvPr/>
        </p:nvSpPr>
        <p:spPr>
          <a:xfrm>
            <a:off x="2262600" y="5342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9" name="Rectangle 42"/>
          <p:cNvSpPr/>
          <p:nvPr/>
        </p:nvSpPr>
        <p:spPr>
          <a:xfrm>
            <a:off x="322992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1050" name="Rectangle 46"/>
          <p:cNvSpPr/>
          <p:nvPr/>
        </p:nvSpPr>
        <p:spPr>
          <a:xfrm>
            <a:off x="431424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0</a:t>
            </a:r>
            <a:endParaRPr b="1" lang="en-US" sz="1400" spc="-1" strike="noStrike">
              <a:solidFill>
                <a:srgbClr val="ffffff"/>
              </a:solidFill>
              <a:latin typeface="Arial"/>
            </a:endParaRPr>
          </a:p>
        </p:txBody>
      </p:sp>
      <p:sp>
        <p:nvSpPr>
          <p:cNvPr id="1051" name="Rectangle 55"/>
          <p:cNvSpPr/>
          <p:nvPr/>
        </p:nvSpPr>
        <p:spPr>
          <a:xfrm>
            <a:off x="538596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0</a:t>
            </a:r>
            <a:endParaRPr b="1" lang="en-US" sz="1400" spc="-1" strike="noStrike">
              <a:solidFill>
                <a:srgbClr val="ffffff"/>
              </a:solidFill>
              <a:latin typeface="Arial"/>
            </a:endParaRPr>
          </a:p>
        </p:txBody>
      </p:sp>
      <p:sp>
        <p:nvSpPr>
          <p:cNvPr id="1052" name="Rectangle 57"/>
          <p:cNvSpPr/>
          <p:nvPr/>
        </p:nvSpPr>
        <p:spPr>
          <a:xfrm>
            <a:off x="642708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40</a:t>
            </a:r>
            <a:endParaRPr b="1" lang="en-US" sz="1400" spc="-1" strike="noStrike">
              <a:solidFill>
                <a:srgbClr val="ffffff"/>
              </a:solidFill>
              <a:latin typeface="Arial"/>
            </a:endParaRPr>
          </a:p>
        </p:txBody>
      </p:sp>
      <p:sp>
        <p:nvSpPr>
          <p:cNvPr id="1053" name="Rectangle 61"/>
          <p:cNvSpPr/>
          <p:nvPr/>
        </p:nvSpPr>
        <p:spPr>
          <a:xfrm>
            <a:off x="748908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0</a:t>
            </a:r>
            <a:endParaRPr b="1" lang="en-US" sz="1400" spc="-1" strike="noStrike">
              <a:solidFill>
                <a:srgbClr val="ffffff"/>
              </a:solidFill>
              <a:latin typeface="Arial"/>
            </a:endParaRPr>
          </a:p>
        </p:txBody>
      </p:sp>
      <p:sp>
        <p:nvSpPr>
          <p:cNvPr id="1054" name="Freeform 6"/>
          <p:cNvSpPr/>
          <p:nvPr/>
        </p:nvSpPr>
        <p:spPr>
          <a:xfrm>
            <a:off x="1830240" y="1927080"/>
            <a:ext cx="6629400" cy="3370320"/>
          </a:xfrm>
          <a:custGeom>
            <a:avLst/>
            <a:gdLst>
              <a:gd name="textAreaLeft" fmla="*/ 0 w 6629400"/>
              <a:gd name="textAreaRight" fmla="*/ 6629760 w 6629400"/>
              <a:gd name="textAreaTop" fmla="*/ 0 h 3370320"/>
              <a:gd name="textAreaBottom" fmla="*/ 3370680 h 3370320"/>
            </a:gdLst>
            <a:ahLst/>
            <a:rect l="textAreaLeft" t="textAreaTop" r="textAreaRight" b="textAreaBottom"/>
            <a:pathLst>
              <a:path w="4176" h="2123">
                <a:moveTo>
                  <a:pt x="0" y="0"/>
                </a:moveTo>
                <a:lnTo>
                  <a:pt x="0" y="2123"/>
                </a:lnTo>
                <a:lnTo>
                  <a:pt x="4176" y="2123"/>
                </a:lnTo>
              </a:path>
            </a:pathLst>
          </a:custGeom>
          <a:noFill/>
          <a:ln w="2556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55" name="Group 20"/>
          <p:cNvGrpSpPr/>
          <p:nvPr/>
        </p:nvGrpSpPr>
        <p:grpSpPr>
          <a:xfrm>
            <a:off x="2395440" y="5301720"/>
            <a:ext cx="5270760" cy="63720"/>
            <a:chOff x="2395440" y="5301720"/>
            <a:chExt cx="5270760" cy="63720"/>
          </a:xfrm>
        </p:grpSpPr>
        <p:sp>
          <p:nvSpPr>
            <p:cNvPr id="1056" name="Line 41"/>
            <p:cNvSpPr/>
            <p:nvPr/>
          </p:nvSpPr>
          <p:spPr>
            <a:xfrm flipV="1">
              <a:off x="239544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7" name="Line 43"/>
            <p:cNvSpPr/>
            <p:nvPr/>
          </p:nvSpPr>
          <p:spPr>
            <a:xfrm flipV="1">
              <a:off x="338760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8" name="Line 47"/>
            <p:cNvSpPr/>
            <p:nvPr/>
          </p:nvSpPr>
          <p:spPr>
            <a:xfrm flipV="1">
              <a:off x="448308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9" name="Line 56"/>
            <p:cNvSpPr/>
            <p:nvPr/>
          </p:nvSpPr>
          <p:spPr>
            <a:xfrm flipV="1">
              <a:off x="556416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0" name="Line 58"/>
            <p:cNvSpPr/>
            <p:nvPr/>
          </p:nvSpPr>
          <p:spPr>
            <a:xfrm flipV="1">
              <a:off x="659952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1" name="Line 62"/>
            <p:cNvSpPr/>
            <p:nvPr/>
          </p:nvSpPr>
          <p:spPr>
            <a:xfrm flipV="1">
              <a:off x="766620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62" name="Line 216"/>
          <p:cNvSpPr/>
          <p:nvPr/>
        </p:nvSpPr>
        <p:spPr>
          <a:xfrm>
            <a:off x="4689360" y="2757600"/>
            <a:ext cx="435240" cy="1440"/>
          </a:xfrm>
          <a:prstGeom prst="line">
            <a:avLst/>
          </a:prstGeom>
          <a:ln w="2844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3" name="Line 217"/>
          <p:cNvSpPr/>
          <p:nvPr/>
        </p:nvSpPr>
        <p:spPr>
          <a:xfrm>
            <a:off x="4689360" y="2992320"/>
            <a:ext cx="435240" cy="1800"/>
          </a:xfrm>
          <a:prstGeom prst="line">
            <a:avLst/>
          </a:prstGeom>
          <a:ln w="2844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4" name="Rectangle 244"/>
          <p:cNvSpPr/>
          <p:nvPr/>
        </p:nvSpPr>
        <p:spPr>
          <a:xfrm>
            <a:off x="5199840" y="260208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1065" name="Rectangle 245"/>
          <p:cNvSpPr/>
          <p:nvPr/>
        </p:nvSpPr>
        <p:spPr>
          <a:xfrm>
            <a:off x="5205240" y="2870280"/>
            <a:ext cx="12160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grpSp>
        <p:nvGrpSpPr>
          <p:cNvPr id="1066" name="Group 18"/>
          <p:cNvGrpSpPr/>
          <p:nvPr/>
        </p:nvGrpSpPr>
        <p:grpSpPr>
          <a:xfrm>
            <a:off x="2362320" y="2022480"/>
            <a:ext cx="5238720" cy="2622600"/>
            <a:chOff x="2362320" y="2022480"/>
            <a:chExt cx="5238720" cy="2622600"/>
          </a:xfrm>
        </p:grpSpPr>
        <p:grpSp>
          <p:nvGrpSpPr>
            <p:cNvPr id="1067" name="Group 17"/>
            <p:cNvGrpSpPr/>
            <p:nvPr/>
          </p:nvGrpSpPr>
          <p:grpSpPr>
            <a:xfrm>
              <a:off x="2362320" y="2022480"/>
              <a:ext cx="1352520" cy="1407960"/>
              <a:chOff x="2362320" y="2022480"/>
              <a:chExt cx="1352520" cy="1407960"/>
            </a:xfrm>
          </p:grpSpPr>
          <p:grpSp>
            <p:nvGrpSpPr>
              <p:cNvPr id="1068" name="Group 91"/>
              <p:cNvGrpSpPr/>
              <p:nvPr/>
            </p:nvGrpSpPr>
            <p:grpSpPr>
              <a:xfrm>
                <a:off x="2362320" y="2024640"/>
                <a:ext cx="71280" cy="71280"/>
                <a:chOff x="2362320" y="2024640"/>
                <a:chExt cx="71280" cy="71280"/>
              </a:xfrm>
            </p:grpSpPr>
            <p:sp>
              <p:nvSpPr>
                <p:cNvPr id="1069" name="Straight Connector 92"/>
                <p:cNvSpPr/>
                <p:nvPr/>
              </p:nvSpPr>
              <p:spPr>
                <a:xfrm>
                  <a:off x="2395800" y="2024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0" name="Straight Connector 93"/>
                <p:cNvSpPr/>
                <p:nvPr/>
              </p:nvSpPr>
              <p:spPr>
                <a:xfrm>
                  <a:off x="2362320" y="2059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1" name="Group 250"/>
              <p:cNvGrpSpPr/>
              <p:nvPr/>
            </p:nvGrpSpPr>
            <p:grpSpPr>
              <a:xfrm>
                <a:off x="2386080" y="2024640"/>
                <a:ext cx="71280" cy="71280"/>
                <a:chOff x="2386080" y="2024640"/>
                <a:chExt cx="71280" cy="71280"/>
              </a:xfrm>
            </p:grpSpPr>
            <p:sp>
              <p:nvSpPr>
                <p:cNvPr id="1072" name="Straight Connector 251"/>
                <p:cNvSpPr/>
                <p:nvPr/>
              </p:nvSpPr>
              <p:spPr>
                <a:xfrm>
                  <a:off x="2419560" y="2024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3" name="Straight Connector 252"/>
                <p:cNvSpPr/>
                <p:nvPr/>
              </p:nvSpPr>
              <p:spPr>
                <a:xfrm>
                  <a:off x="2386080" y="2059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4" name="Group 253"/>
              <p:cNvGrpSpPr/>
              <p:nvPr/>
            </p:nvGrpSpPr>
            <p:grpSpPr>
              <a:xfrm>
                <a:off x="2433600" y="2022480"/>
                <a:ext cx="71280" cy="71280"/>
                <a:chOff x="2433600" y="2022480"/>
                <a:chExt cx="71280" cy="71280"/>
              </a:xfrm>
            </p:grpSpPr>
            <p:sp>
              <p:nvSpPr>
                <p:cNvPr id="1075" name="Straight Connector 254"/>
                <p:cNvSpPr/>
                <p:nvPr/>
              </p:nvSpPr>
              <p:spPr>
                <a:xfrm>
                  <a:off x="2467080" y="20224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6" name="Straight Connector 255"/>
                <p:cNvSpPr/>
                <p:nvPr/>
              </p:nvSpPr>
              <p:spPr>
                <a:xfrm>
                  <a:off x="2433600" y="20577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7" name="Group 256"/>
              <p:cNvGrpSpPr/>
              <p:nvPr/>
            </p:nvGrpSpPr>
            <p:grpSpPr>
              <a:xfrm>
                <a:off x="2471760" y="2034360"/>
                <a:ext cx="71280" cy="71280"/>
                <a:chOff x="2471760" y="2034360"/>
                <a:chExt cx="71280" cy="71280"/>
              </a:xfrm>
            </p:grpSpPr>
            <p:sp>
              <p:nvSpPr>
                <p:cNvPr id="1078" name="Straight Connector 257"/>
                <p:cNvSpPr/>
                <p:nvPr/>
              </p:nvSpPr>
              <p:spPr>
                <a:xfrm>
                  <a:off x="2505240" y="2034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9" name="Straight Connector 258"/>
                <p:cNvSpPr/>
                <p:nvPr/>
              </p:nvSpPr>
              <p:spPr>
                <a:xfrm>
                  <a:off x="2471760" y="2069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0" name="Group 259"/>
              <p:cNvGrpSpPr/>
              <p:nvPr/>
            </p:nvGrpSpPr>
            <p:grpSpPr>
              <a:xfrm>
                <a:off x="2647800" y="2217600"/>
                <a:ext cx="71280" cy="71280"/>
                <a:chOff x="2647800" y="2217600"/>
                <a:chExt cx="71280" cy="71280"/>
              </a:xfrm>
            </p:grpSpPr>
            <p:sp>
              <p:nvSpPr>
                <p:cNvPr id="1081" name="Straight Connector 260"/>
                <p:cNvSpPr/>
                <p:nvPr/>
              </p:nvSpPr>
              <p:spPr>
                <a:xfrm>
                  <a:off x="2681280" y="2217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2" name="Straight Connector 261"/>
                <p:cNvSpPr/>
                <p:nvPr/>
              </p:nvSpPr>
              <p:spPr>
                <a:xfrm>
                  <a:off x="2647800" y="2252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3" name="Group 262"/>
              <p:cNvGrpSpPr/>
              <p:nvPr/>
            </p:nvGrpSpPr>
            <p:grpSpPr>
              <a:xfrm>
                <a:off x="2733840" y="2379600"/>
                <a:ext cx="71280" cy="71280"/>
                <a:chOff x="2733840" y="2379600"/>
                <a:chExt cx="71280" cy="71280"/>
              </a:xfrm>
            </p:grpSpPr>
            <p:sp>
              <p:nvSpPr>
                <p:cNvPr id="1084" name="Straight Connector 263"/>
                <p:cNvSpPr/>
                <p:nvPr/>
              </p:nvSpPr>
              <p:spPr>
                <a:xfrm>
                  <a:off x="2767320" y="2379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5" name="Straight Connector 264"/>
                <p:cNvSpPr/>
                <p:nvPr/>
              </p:nvSpPr>
              <p:spPr>
                <a:xfrm>
                  <a:off x="2733840" y="2414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6" name="Group 265"/>
              <p:cNvGrpSpPr/>
              <p:nvPr/>
            </p:nvGrpSpPr>
            <p:grpSpPr>
              <a:xfrm>
                <a:off x="2962440" y="2673000"/>
                <a:ext cx="71280" cy="71280"/>
                <a:chOff x="2962440" y="2673000"/>
                <a:chExt cx="71280" cy="71280"/>
              </a:xfrm>
            </p:grpSpPr>
            <p:sp>
              <p:nvSpPr>
                <p:cNvPr id="1087" name="Straight Connector 266"/>
                <p:cNvSpPr/>
                <p:nvPr/>
              </p:nvSpPr>
              <p:spPr>
                <a:xfrm>
                  <a:off x="2995920" y="2673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8" name="Straight Connector 267"/>
                <p:cNvSpPr/>
                <p:nvPr/>
              </p:nvSpPr>
              <p:spPr>
                <a:xfrm>
                  <a:off x="2962440" y="2708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9" name="Group 268"/>
              <p:cNvGrpSpPr/>
              <p:nvPr/>
            </p:nvGrpSpPr>
            <p:grpSpPr>
              <a:xfrm>
                <a:off x="2800440" y="2396520"/>
                <a:ext cx="71280" cy="71280"/>
                <a:chOff x="2800440" y="2396520"/>
                <a:chExt cx="71280" cy="71280"/>
              </a:xfrm>
            </p:grpSpPr>
            <p:sp>
              <p:nvSpPr>
                <p:cNvPr id="1090" name="Straight Connector 269"/>
                <p:cNvSpPr/>
                <p:nvPr/>
              </p:nvSpPr>
              <p:spPr>
                <a:xfrm>
                  <a:off x="2833920" y="2396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1" name="Straight Connector 270"/>
                <p:cNvSpPr/>
                <p:nvPr/>
              </p:nvSpPr>
              <p:spPr>
                <a:xfrm>
                  <a:off x="2800440" y="2431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2" name="Group 271"/>
              <p:cNvGrpSpPr/>
              <p:nvPr/>
            </p:nvGrpSpPr>
            <p:grpSpPr>
              <a:xfrm>
                <a:off x="3360240" y="3082680"/>
                <a:ext cx="71280" cy="71280"/>
                <a:chOff x="3360240" y="3082680"/>
                <a:chExt cx="71280" cy="71280"/>
              </a:xfrm>
            </p:grpSpPr>
            <p:sp>
              <p:nvSpPr>
                <p:cNvPr id="1093" name="Straight Connector 272"/>
                <p:cNvSpPr/>
                <p:nvPr/>
              </p:nvSpPr>
              <p:spPr>
                <a:xfrm>
                  <a:off x="3393720" y="30826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4" name="Straight Connector 273"/>
                <p:cNvSpPr/>
                <p:nvPr/>
              </p:nvSpPr>
              <p:spPr>
                <a:xfrm>
                  <a:off x="3360240" y="31179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5" name="Group 274"/>
              <p:cNvGrpSpPr/>
              <p:nvPr/>
            </p:nvGrpSpPr>
            <p:grpSpPr>
              <a:xfrm>
                <a:off x="3398400" y="3104280"/>
                <a:ext cx="71280" cy="71280"/>
                <a:chOff x="3398400" y="3104280"/>
                <a:chExt cx="71280" cy="71280"/>
              </a:xfrm>
            </p:grpSpPr>
            <p:sp>
              <p:nvSpPr>
                <p:cNvPr id="1096" name="Straight Connector 275"/>
                <p:cNvSpPr/>
                <p:nvPr/>
              </p:nvSpPr>
              <p:spPr>
                <a:xfrm>
                  <a:off x="3431880" y="3104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7" name="Straight Connector 276"/>
                <p:cNvSpPr/>
                <p:nvPr/>
              </p:nvSpPr>
              <p:spPr>
                <a:xfrm>
                  <a:off x="3398400" y="3139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8" name="Group 277"/>
              <p:cNvGrpSpPr/>
              <p:nvPr/>
            </p:nvGrpSpPr>
            <p:grpSpPr>
              <a:xfrm>
                <a:off x="3515040" y="3263760"/>
                <a:ext cx="71280" cy="71280"/>
                <a:chOff x="3515040" y="3263760"/>
                <a:chExt cx="71280" cy="71280"/>
              </a:xfrm>
            </p:grpSpPr>
            <p:sp>
              <p:nvSpPr>
                <p:cNvPr id="1099" name="Straight Connector 278"/>
                <p:cNvSpPr/>
                <p:nvPr/>
              </p:nvSpPr>
              <p:spPr>
                <a:xfrm>
                  <a:off x="3548520" y="3263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0" name="Straight Connector 279"/>
                <p:cNvSpPr/>
                <p:nvPr/>
              </p:nvSpPr>
              <p:spPr>
                <a:xfrm>
                  <a:off x="3515040" y="3299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1" name="Group 280"/>
              <p:cNvGrpSpPr/>
              <p:nvPr/>
            </p:nvGrpSpPr>
            <p:grpSpPr>
              <a:xfrm>
                <a:off x="3588840" y="3294720"/>
                <a:ext cx="71280" cy="71280"/>
                <a:chOff x="3588840" y="3294720"/>
                <a:chExt cx="71280" cy="71280"/>
              </a:xfrm>
            </p:grpSpPr>
            <p:sp>
              <p:nvSpPr>
                <p:cNvPr id="1102" name="Straight Connector 281"/>
                <p:cNvSpPr/>
                <p:nvPr/>
              </p:nvSpPr>
              <p:spPr>
                <a:xfrm>
                  <a:off x="3622320" y="3294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3" name="Straight Connector 282"/>
                <p:cNvSpPr/>
                <p:nvPr/>
              </p:nvSpPr>
              <p:spPr>
                <a:xfrm>
                  <a:off x="3588840" y="3330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4" name="Group 283"/>
              <p:cNvGrpSpPr/>
              <p:nvPr/>
            </p:nvGrpSpPr>
            <p:grpSpPr>
              <a:xfrm>
                <a:off x="3643560" y="3359160"/>
                <a:ext cx="71280" cy="71280"/>
                <a:chOff x="3643560" y="3359160"/>
                <a:chExt cx="71280" cy="71280"/>
              </a:xfrm>
            </p:grpSpPr>
            <p:sp>
              <p:nvSpPr>
                <p:cNvPr id="1105" name="Straight Connector 284"/>
                <p:cNvSpPr/>
                <p:nvPr/>
              </p:nvSpPr>
              <p:spPr>
                <a:xfrm>
                  <a:off x="3677040" y="3359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6" name="Straight Connector 285"/>
                <p:cNvSpPr/>
                <p:nvPr/>
              </p:nvSpPr>
              <p:spPr>
                <a:xfrm>
                  <a:off x="3643560" y="3394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107" name="Group 16"/>
            <p:cNvGrpSpPr/>
            <p:nvPr/>
          </p:nvGrpSpPr>
          <p:grpSpPr>
            <a:xfrm>
              <a:off x="3712320" y="3380400"/>
              <a:ext cx="3888720" cy="1264680"/>
              <a:chOff x="3712320" y="3380400"/>
              <a:chExt cx="3888720" cy="1264680"/>
            </a:xfrm>
          </p:grpSpPr>
          <p:grpSp>
            <p:nvGrpSpPr>
              <p:cNvPr id="1108" name="Group 286"/>
              <p:cNvGrpSpPr/>
              <p:nvPr/>
            </p:nvGrpSpPr>
            <p:grpSpPr>
              <a:xfrm>
                <a:off x="3712320" y="3380400"/>
                <a:ext cx="71280" cy="71280"/>
                <a:chOff x="3712320" y="3380400"/>
                <a:chExt cx="71280" cy="71280"/>
              </a:xfrm>
            </p:grpSpPr>
            <p:sp>
              <p:nvSpPr>
                <p:cNvPr id="1109" name="Straight Connector 287"/>
                <p:cNvSpPr/>
                <p:nvPr/>
              </p:nvSpPr>
              <p:spPr>
                <a:xfrm>
                  <a:off x="3745800" y="33804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0" name="Straight Connector 288"/>
                <p:cNvSpPr/>
                <p:nvPr/>
              </p:nvSpPr>
              <p:spPr>
                <a:xfrm>
                  <a:off x="3712320" y="34156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1" name="Group 289"/>
              <p:cNvGrpSpPr/>
              <p:nvPr/>
            </p:nvGrpSpPr>
            <p:grpSpPr>
              <a:xfrm>
                <a:off x="3721680" y="3394440"/>
                <a:ext cx="71280" cy="71280"/>
                <a:chOff x="3721680" y="3394440"/>
                <a:chExt cx="71280" cy="71280"/>
              </a:xfrm>
            </p:grpSpPr>
            <p:sp>
              <p:nvSpPr>
                <p:cNvPr id="1112" name="Straight Connector 290"/>
                <p:cNvSpPr/>
                <p:nvPr/>
              </p:nvSpPr>
              <p:spPr>
                <a:xfrm>
                  <a:off x="3755160" y="33944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3" name="Straight Connector 291"/>
                <p:cNvSpPr/>
                <p:nvPr/>
              </p:nvSpPr>
              <p:spPr>
                <a:xfrm>
                  <a:off x="3721680" y="34297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4" name="Group 292"/>
              <p:cNvGrpSpPr/>
              <p:nvPr/>
            </p:nvGrpSpPr>
            <p:grpSpPr>
              <a:xfrm>
                <a:off x="3819240" y="3437280"/>
                <a:ext cx="71280" cy="71280"/>
                <a:chOff x="3819240" y="3437280"/>
                <a:chExt cx="71280" cy="71280"/>
              </a:xfrm>
            </p:grpSpPr>
            <p:sp>
              <p:nvSpPr>
                <p:cNvPr id="1115" name="Straight Connector 293"/>
                <p:cNvSpPr/>
                <p:nvPr/>
              </p:nvSpPr>
              <p:spPr>
                <a:xfrm>
                  <a:off x="3852720" y="3437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6" name="Straight Connector 294"/>
                <p:cNvSpPr/>
                <p:nvPr/>
              </p:nvSpPr>
              <p:spPr>
                <a:xfrm>
                  <a:off x="3819240" y="3472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7" name="Group 295"/>
              <p:cNvGrpSpPr/>
              <p:nvPr/>
            </p:nvGrpSpPr>
            <p:grpSpPr>
              <a:xfrm>
                <a:off x="3893040" y="3501720"/>
                <a:ext cx="71280" cy="71280"/>
                <a:chOff x="3893040" y="3501720"/>
                <a:chExt cx="71280" cy="71280"/>
              </a:xfrm>
            </p:grpSpPr>
            <p:sp>
              <p:nvSpPr>
                <p:cNvPr id="1118" name="Straight Connector 296"/>
                <p:cNvSpPr/>
                <p:nvPr/>
              </p:nvSpPr>
              <p:spPr>
                <a:xfrm>
                  <a:off x="3926520" y="3501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9" name="Straight Connector 297"/>
                <p:cNvSpPr/>
                <p:nvPr/>
              </p:nvSpPr>
              <p:spPr>
                <a:xfrm>
                  <a:off x="3893040" y="3537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0" name="Group 298"/>
              <p:cNvGrpSpPr/>
              <p:nvPr/>
            </p:nvGrpSpPr>
            <p:grpSpPr>
              <a:xfrm>
                <a:off x="3931200" y="3542400"/>
                <a:ext cx="71280" cy="71280"/>
                <a:chOff x="3931200" y="3542400"/>
                <a:chExt cx="71280" cy="71280"/>
              </a:xfrm>
            </p:grpSpPr>
            <p:sp>
              <p:nvSpPr>
                <p:cNvPr id="1121" name="Straight Connector 299"/>
                <p:cNvSpPr/>
                <p:nvPr/>
              </p:nvSpPr>
              <p:spPr>
                <a:xfrm>
                  <a:off x="3964680" y="35424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2" name="Straight Connector 300"/>
                <p:cNvSpPr/>
                <p:nvPr/>
              </p:nvSpPr>
              <p:spPr>
                <a:xfrm>
                  <a:off x="3931200" y="35776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3" name="Group 301"/>
              <p:cNvGrpSpPr/>
              <p:nvPr/>
            </p:nvGrpSpPr>
            <p:grpSpPr>
              <a:xfrm>
                <a:off x="4033800" y="3573360"/>
                <a:ext cx="71280" cy="71280"/>
                <a:chOff x="4033800" y="3573360"/>
                <a:chExt cx="71280" cy="71280"/>
              </a:xfrm>
            </p:grpSpPr>
            <p:sp>
              <p:nvSpPr>
                <p:cNvPr id="1124" name="Straight Connector 302"/>
                <p:cNvSpPr/>
                <p:nvPr/>
              </p:nvSpPr>
              <p:spPr>
                <a:xfrm>
                  <a:off x="4067280" y="3573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5" name="Straight Connector 303"/>
                <p:cNvSpPr/>
                <p:nvPr/>
              </p:nvSpPr>
              <p:spPr>
                <a:xfrm>
                  <a:off x="4033800" y="3608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6" name="Group 304"/>
              <p:cNvGrpSpPr/>
              <p:nvPr/>
            </p:nvGrpSpPr>
            <p:grpSpPr>
              <a:xfrm>
                <a:off x="3962160" y="3547080"/>
                <a:ext cx="71280" cy="71280"/>
                <a:chOff x="3962160" y="3547080"/>
                <a:chExt cx="71280" cy="71280"/>
              </a:xfrm>
            </p:grpSpPr>
            <p:sp>
              <p:nvSpPr>
                <p:cNvPr id="1127" name="Straight Connector 305"/>
                <p:cNvSpPr/>
                <p:nvPr/>
              </p:nvSpPr>
              <p:spPr>
                <a:xfrm>
                  <a:off x="3995640" y="3547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8" name="Straight Connector 306"/>
                <p:cNvSpPr/>
                <p:nvPr/>
              </p:nvSpPr>
              <p:spPr>
                <a:xfrm>
                  <a:off x="3962160" y="3582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9" name="Group 307"/>
              <p:cNvGrpSpPr/>
              <p:nvPr/>
            </p:nvGrpSpPr>
            <p:grpSpPr>
              <a:xfrm>
                <a:off x="4169520" y="3709080"/>
                <a:ext cx="71280" cy="71280"/>
                <a:chOff x="4169520" y="3709080"/>
                <a:chExt cx="71280" cy="71280"/>
              </a:xfrm>
            </p:grpSpPr>
            <p:sp>
              <p:nvSpPr>
                <p:cNvPr id="1130" name="Straight Connector 308"/>
                <p:cNvSpPr/>
                <p:nvPr/>
              </p:nvSpPr>
              <p:spPr>
                <a:xfrm>
                  <a:off x="4203000" y="3709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1" name="Straight Connector 309"/>
                <p:cNvSpPr/>
                <p:nvPr/>
              </p:nvSpPr>
              <p:spPr>
                <a:xfrm>
                  <a:off x="4169520" y="3744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2" name="Group 310"/>
              <p:cNvGrpSpPr/>
              <p:nvPr/>
            </p:nvGrpSpPr>
            <p:grpSpPr>
              <a:xfrm>
                <a:off x="4252680" y="3761280"/>
                <a:ext cx="71280" cy="71280"/>
                <a:chOff x="4252680" y="3761280"/>
                <a:chExt cx="71280" cy="71280"/>
              </a:xfrm>
            </p:grpSpPr>
            <p:sp>
              <p:nvSpPr>
                <p:cNvPr id="1133" name="Straight Connector 311"/>
                <p:cNvSpPr/>
                <p:nvPr/>
              </p:nvSpPr>
              <p:spPr>
                <a:xfrm>
                  <a:off x="4286160" y="3761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4" name="Straight Connector 312"/>
                <p:cNvSpPr/>
                <p:nvPr/>
              </p:nvSpPr>
              <p:spPr>
                <a:xfrm>
                  <a:off x="4252680" y="3796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5" name="Group 313"/>
              <p:cNvGrpSpPr/>
              <p:nvPr/>
            </p:nvGrpSpPr>
            <p:grpSpPr>
              <a:xfrm>
                <a:off x="4338360" y="3828240"/>
                <a:ext cx="71280" cy="71280"/>
                <a:chOff x="4338360" y="3828240"/>
                <a:chExt cx="71280" cy="71280"/>
              </a:xfrm>
            </p:grpSpPr>
            <p:sp>
              <p:nvSpPr>
                <p:cNvPr id="1136" name="Straight Connector 314"/>
                <p:cNvSpPr/>
                <p:nvPr/>
              </p:nvSpPr>
              <p:spPr>
                <a:xfrm>
                  <a:off x="4371840" y="3828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7" name="Straight Connector 315"/>
                <p:cNvSpPr/>
                <p:nvPr/>
              </p:nvSpPr>
              <p:spPr>
                <a:xfrm>
                  <a:off x="4338360" y="3863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8" name="Group 316"/>
              <p:cNvGrpSpPr/>
              <p:nvPr/>
            </p:nvGrpSpPr>
            <p:grpSpPr>
              <a:xfrm>
                <a:off x="4464720" y="3904200"/>
                <a:ext cx="71280" cy="71280"/>
                <a:chOff x="4464720" y="3904200"/>
                <a:chExt cx="71280" cy="71280"/>
              </a:xfrm>
            </p:grpSpPr>
            <p:sp>
              <p:nvSpPr>
                <p:cNvPr id="1139" name="Straight Connector 317"/>
                <p:cNvSpPr/>
                <p:nvPr/>
              </p:nvSpPr>
              <p:spPr>
                <a:xfrm>
                  <a:off x="4498200" y="39042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0" name="Straight Connector 318"/>
                <p:cNvSpPr/>
                <p:nvPr/>
              </p:nvSpPr>
              <p:spPr>
                <a:xfrm>
                  <a:off x="4464720" y="39394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1" name="Group 319"/>
              <p:cNvGrpSpPr/>
              <p:nvPr/>
            </p:nvGrpSpPr>
            <p:grpSpPr>
              <a:xfrm>
                <a:off x="4367160" y="3828240"/>
                <a:ext cx="71280" cy="71280"/>
                <a:chOff x="4367160" y="3828240"/>
                <a:chExt cx="71280" cy="71280"/>
              </a:xfrm>
            </p:grpSpPr>
            <p:sp>
              <p:nvSpPr>
                <p:cNvPr id="1142" name="Straight Connector 320"/>
                <p:cNvSpPr/>
                <p:nvPr/>
              </p:nvSpPr>
              <p:spPr>
                <a:xfrm>
                  <a:off x="4400640" y="3828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3" name="Straight Connector 321"/>
                <p:cNvSpPr/>
                <p:nvPr/>
              </p:nvSpPr>
              <p:spPr>
                <a:xfrm>
                  <a:off x="4367160" y="3863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4" name="Group 322"/>
              <p:cNvGrpSpPr/>
              <p:nvPr/>
            </p:nvGrpSpPr>
            <p:grpSpPr>
              <a:xfrm>
                <a:off x="4295520" y="3804120"/>
                <a:ext cx="71280" cy="71280"/>
                <a:chOff x="4295520" y="3804120"/>
                <a:chExt cx="71280" cy="71280"/>
              </a:xfrm>
            </p:grpSpPr>
            <p:sp>
              <p:nvSpPr>
                <p:cNvPr id="1145" name="Straight Connector 323"/>
                <p:cNvSpPr/>
                <p:nvPr/>
              </p:nvSpPr>
              <p:spPr>
                <a:xfrm>
                  <a:off x="4329000" y="3804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6" name="Straight Connector 324"/>
                <p:cNvSpPr/>
                <p:nvPr/>
              </p:nvSpPr>
              <p:spPr>
                <a:xfrm>
                  <a:off x="4295520" y="3839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7" name="Group 325"/>
              <p:cNvGrpSpPr/>
              <p:nvPr/>
            </p:nvGrpSpPr>
            <p:grpSpPr>
              <a:xfrm>
                <a:off x="4557600" y="3959280"/>
                <a:ext cx="71280" cy="71280"/>
                <a:chOff x="4557600" y="3959280"/>
                <a:chExt cx="71280" cy="71280"/>
              </a:xfrm>
            </p:grpSpPr>
            <p:sp>
              <p:nvSpPr>
                <p:cNvPr id="1148" name="Straight Connector 326"/>
                <p:cNvSpPr/>
                <p:nvPr/>
              </p:nvSpPr>
              <p:spPr>
                <a:xfrm>
                  <a:off x="4591080" y="3959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9" name="Straight Connector 327"/>
                <p:cNvSpPr/>
                <p:nvPr/>
              </p:nvSpPr>
              <p:spPr>
                <a:xfrm>
                  <a:off x="4557600" y="3994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0" name="Group 328"/>
              <p:cNvGrpSpPr/>
              <p:nvPr/>
            </p:nvGrpSpPr>
            <p:grpSpPr>
              <a:xfrm>
                <a:off x="4674240" y="4002120"/>
                <a:ext cx="71280" cy="71280"/>
                <a:chOff x="4674240" y="4002120"/>
                <a:chExt cx="71280" cy="71280"/>
              </a:xfrm>
            </p:grpSpPr>
            <p:sp>
              <p:nvSpPr>
                <p:cNvPr id="1151" name="Straight Connector 329"/>
                <p:cNvSpPr/>
                <p:nvPr/>
              </p:nvSpPr>
              <p:spPr>
                <a:xfrm>
                  <a:off x="4707720" y="4002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2" name="Straight Connector 330"/>
                <p:cNvSpPr/>
                <p:nvPr/>
              </p:nvSpPr>
              <p:spPr>
                <a:xfrm>
                  <a:off x="4674240" y="4037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3" name="Group 331"/>
              <p:cNvGrpSpPr/>
              <p:nvPr/>
            </p:nvGrpSpPr>
            <p:grpSpPr>
              <a:xfrm>
                <a:off x="4643280" y="4002120"/>
                <a:ext cx="71280" cy="71280"/>
                <a:chOff x="4643280" y="4002120"/>
                <a:chExt cx="71280" cy="71280"/>
              </a:xfrm>
            </p:grpSpPr>
            <p:sp>
              <p:nvSpPr>
                <p:cNvPr id="1154" name="Straight Connector 332"/>
                <p:cNvSpPr/>
                <p:nvPr/>
              </p:nvSpPr>
              <p:spPr>
                <a:xfrm>
                  <a:off x="4676760" y="4002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5" name="Straight Connector 333"/>
                <p:cNvSpPr/>
                <p:nvPr/>
              </p:nvSpPr>
              <p:spPr>
                <a:xfrm>
                  <a:off x="4643280" y="4037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6" name="Group 334"/>
              <p:cNvGrpSpPr/>
              <p:nvPr/>
            </p:nvGrpSpPr>
            <p:grpSpPr>
              <a:xfrm>
                <a:off x="4617000" y="3999600"/>
                <a:ext cx="71280" cy="71280"/>
                <a:chOff x="4617000" y="3999600"/>
                <a:chExt cx="71280" cy="71280"/>
              </a:xfrm>
            </p:grpSpPr>
            <p:sp>
              <p:nvSpPr>
                <p:cNvPr id="1157" name="Straight Connector 335"/>
                <p:cNvSpPr/>
                <p:nvPr/>
              </p:nvSpPr>
              <p:spPr>
                <a:xfrm>
                  <a:off x="4650480" y="3999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8" name="Straight Connector 336"/>
                <p:cNvSpPr/>
                <p:nvPr/>
              </p:nvSpPr>
              <p:spPr>
                <a:xfrm>
                  <a:off x="4617000" y="4034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9" name="Group 337"/>
              <p:cNvGrpSpPr/>
              <p:nvPr/>
            </p:nvGrpSpPr>
            <p:grpSpPr>
              <a:xfrm>
                <a:off x="4714920" y="4078080"/>
                <a:ext cx="71280" cy="71280"/>
                <a:chOff x="4714920" y="4078080"/>
                <a:chExt cx="71280" cy="71280"/>
              </a:xfrm>
            </p:grpSpPr>
            <p:sp>
              <p:nvSpPr>
                <p:cNvPr id="1160" name="Straight Connector 338"/>
                <p:cNvSpPr/>
                <p:nvPr/>
              </p:nvSpPr>
              <p:spPr>
                <a:xfrm>
                  <a:off x="4748400" y="4078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1" name="Straight Connector 339"/>
                <p:cNvSpPr/>
                <p:nvPr/>
              </p:nvSpPr>
              <p:spPr>
                <a:xfrm>
                  <a:off x="4714920" y="4113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2" name="Group 340"/>
              <p:cNvGrpSpPr/>
              <p:nvPr/>
            </p:nvGrpSpPr>
            <p:grpSpPr>
              <a:xfrm>
                <a:off x="4836240" y="4161600"/>
                <a:ext cx="71280" cy="71280"/>
                <a:chOff x="4836240" y="4161600"/>
                <a:chExt cx="71280" cy="71280"/>
              </a:xfrm>
            </p:grpSpPr>
            <p:sp>
              <p:nvSpPr>
                <p:cNvPr id="1163" name="Straight Connector 341"/>
                <p:cNvSpPr/>
                <p:nvPr/>
              </p:nvSpPr>
              <p:spPr>
                <a:xfrm>
                  <a:off x="4869720" y="4161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4" name="Straight Connector 342"/>
                <p:cNvSpPr/>
                <p:nvPr/>
              </p:nvSpPr>
              <p:spPr>
                <a:xfrm>
                  <a:off x="4836240" y="4196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5" name="Group 343"/>
              <p:cNvGrpSpPr/>
              <p:nvPr/>
            </p:nvGrpSpPr>
            <p:grpSpPr>
              <a:xfrm>
                <a:off x="4912560" y="4156920"/>
                <a:ext cx="71280" cy="71280"/>
                <a:chOff x="4912560" y="4156920"/>
                <a:chExt cx="71280" cy="71280"/>
              </a:xfrm>
            </p:grpSpPr>
            <p:sp>
              <p:nvSpPr>
                <p:cNvPr id="1166" name="Straight Connector 344"/>
                <p:cNvSpPr/>
                <p:nvPr/>
              </p:nvSpPr>
              <p:spPr>
                <a:xfrm>
                  <a:off x="4946040" y="4156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7" name="Straight Connector 345"/>
                <p:cNvSpPr/>
                <p:nvPr/>
              </p:nvSpPr>
              <p:spPr>
                <a:xfrm>
                  <a:off x="4912560" y="4192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8" name="Group 346"/>
              <p:cNvGrpSpPr/>
              <p:nvPr/>
            </p:nvGrpSpPr>
            <p:grpSpPr>
              <a:xfrm>
                <a:off x="4748040" y="4121280"/>
                <a:ext cx="71280" cy="71280"/>
                <a:chOff x="4748040" y="4121280"/>
                <a:chExt cx="71280" cy="71280"/>
              </a:xfrm>
            </p:grpSpPr>
            <p:sp>
              <p:nvSpPr>
                <p:cNvPr id="1169" name="Straight Connector 347"/>
                <p:cNvSpPr/>
                <p:nvPr/>
              </p:nvSpPr>
              <p:spPr>
                <a:xfrm>
                  <a:off x="4781520" y="4121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0" name="Straight Connector 348"/>
                <p:cNvSpPr/>
                <p:nvPr/>
              </p:nvSpPr>
              <p:spPr>
                <a:xfrm>
                  <a:off x="4748040" y="4156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1" name="Group 349"/>
              <p:cNvGrpSpPr/>
              <p:nvPr/>
            </p:nvGrpSpPr>
            <p:grpSpPr>
              <a:xfrm>
                <a:off x="4945680" y="4187880"/>
                <a:ext cx="71280" cy="71280"/>
                <a:chOff x="4945680" y="4187880"/>
                <a:chExt cx="71280" cy="71280"/>
              </a:xfrm>
            </p:grpSpPr>
            <p:sp>
              <p:nvSpPr>
                <p:cNvPr id="1172" name="Straight Connector 350"/>
                <p:cNvSpPr/>
                <p:nvPr/>
              </p:nvSpPr>
              <p:spPr>
                <a:xfrm>
                  <a:off x="4979160" y="41878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3" name="Straight Connector 351"/>
                <p:cNvSpPr/>
                <p:nvPr/>
              </p:nvSpPr>
              <p:spPr>
                <a:xfrm>
                  <a:off x="4945680" y="42231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4" name="Group 352"/>
              <p:cNvGrpSpPr/>
              <p:nvPr/>
            </p:nvGrpSpPr>
            <p:grpSpPr>
              <a:xfrm>
                <a:off x="5067360" y="4199760"/>
                <a:ext cx="71280" cy="71280"/>
                <a:chOff x="5067360" y="4199760"/>
                <a:chExt cx="71280" cy="71280"/>
              </a:xfrm>
            </p:grpSpPr>
            <p:sp>
              <p:nvSpPr>
                <p:cNvPr id="1175" name="Straight Connector 353"/>
                <p:cNvSpPr/>
                <p:nvPr/>
              </p:nvSpPr>
              <p:spPr>
                <a:xfrm>
                  <a:off x="5100840" y="4199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6" name="Straight Connector 354"/>
                <p:cNvSpPr/>
                <p:nvPr/>
              </p:nvSpPr>
              <p:spPr>
                <a:xfrm>
                  <a:off x="5067360" y="4235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7" name="Group 355"/>
              <p:cNvGrpSpPr/>
              <p:nvPr/>
            </p:nvGrpSpPr>
            <p:grpSpPr>
              <a:xfrm>
                <a:off x="5205240" y="4226040"/>
                <a:ext cx="71280" cy="71280"/>
                <a:chOff x="5205240" y="4226040"/>
                <a:chExt cx="71280" cy="71280"/>
              </a:xfrm>
            </p:grpSpPr>
            <p:sp>
              <p:nvSpPr>
                <p:cNvPr id="1178" name="Straight Connector 356"/>
                <p:cNvSpPr/>
                <p:nvPr/>
              </p:nvSpPr>
              <p:spPr>
                <a:xfrm>
                  <a:off x="5238720" y="4226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9" name="Straight Connector 357"/>
                <p:cNvSpPr/>
                <p:nvPr/>
              </p:nvSpPr>
              <p:spPr>
                <a:xfrm>
                  <a:off x="5205240" y="4261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0" name="Group 358"/>
              <p:cNvGrpSpPr/>
              <p:nvPr/>
            </p:nvGrpSpPr>
            <p:grpSpPr>
              <a:xfrm>
                <a:off x="5236200" y="4223520"/>
                <a:ext cx="71280" cy="71280"/>
                <a:chOff x="5236200" y="4223520"/>
                <a:chExt cx="71280" cy="71280"/>
              </a:xfrm>
            </p:grpSpPr>
            <p:sp>
              <p:nvSpPr>
                <p:cNvPr id="1181" name="Straight Connector 359"/>
                <p:cNvSpPr/>
                <p:nvPr/>
              </p:nvSpPr>
              <p:spPr>
                <a:xfrm>
                  <a:off x="5269680" y="4223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2" name="Straight Connector 360"/>
                <p:cNvSpPr/>
                <p:nvPr/>
              </p:nvSpPr>
              <p:spPr>
                <a:xfrm>
                  <a:off x="5236200" y="4258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3" name="Group 361"/>
              <p:cNvGrpSpPr/>
              <p:nvPr/>
            </p:nvGrpSpPr>
            <p:grpSpPr>
              <a:xfrm>
                <a:off x="5398200" y="4302360"/>
                <a:ext cx="71280" cy="71280"/>
                <a:chOff x="5398200" y="4302360"/>
                <a:chExt cx="71280" cy="71280"/>
              </a:xfrm>
            </p:grpSpPr>
            <p:sp>
              <p:nvSpPr>
                <p:cNvPr id="1184" name="Straight Connector 362"/>
                <p:cNvSpPr/>
                <p:nvPr/>
              </p:nvSpPr>
              <p:spPr>
                <a:xfrm>
                  <a:off x="5431680" y="4302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5" name="Straight Connector 363"/>
                <p:cNvSpPr/>
                <p:nvPr/>
              </p:nvSpPr>
              <p:spPr>
                <a:xfrm>
                  <a:off x="5398200" y="4337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6" name="Group 364"/>
              <p:cNvGrpSpPr/>
              <p:nvPr/>
            </p:nvGrpSpPr>
            <p:grpSpPr>
              <a:xfrm>
                <a:off x="5555520" y="4302360"/>
                <a:ext cx="71280" cy="71280"/>
                <a:chOff x="5555520" y="4302360"/>
                <a:chExt cx="71280" cy="71280"/>
              </a:xfrm>
            </p:grpSpPr>
            <p:sp>
              <p:nvSpPr>
                <p:cNvPr id="1187" name="Straight Connector 365"/>
                <p:cNvSpPr/>
                <p:nvPr/>
              </p:nvSpPr>
              <p:spPr>
                <a:xfrm>
                  <a:off x="5589000" y="4302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8" name="Straight Connector 366"/>
                <p:cNvSpPr/>
                <p:nvPr/>
              </p:nvSpPr>
              <p:spPr>
                <a:xfrm>
                  <a:off x="5555520" y="4337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9" name="Group 367"/>
              <p:cNvGrpSpPr/>
              <p:nvPr/>
            </p:nvGrpSpPr>
            <p:grpSpPr>
              <a:xfrm>
                <a:off x="5614920" y="4299840"/>
                <a:ext cx="71280" cy="71280"/>
                <a:chOff x="5614920" y="4299840"/>
                <a:chExt cx="71280" cy="71280"/>
              </a:xfrm>
            </p:grpSpPr>
            <p:sp>
              <p:nvSpPr>
                <p:cNvPr id="1190" name="Straight Connector 368"/>
                <p:cNvSpPr/>
                <p:nvPr/>
              </p:nvSpPr>
              <p:spPr>
                <a:xfrm>
                  <a:off x="5648400" y="42998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1" name="Straight Connector 369"/>
                <p:cNvSpPr/>
                <p:nvPr/>
              </p:nvSpPr>
              <p:spPr>
                <a:xfrm>
                  <a:off x="5614920" y="43351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2" name="Group 370"/>
              <p:cNvGrpSpPr/>
              <p:nvPr/>
            </p:nvGrpSpPr>
            <p:grpSpPr>
              <a:xfrm>
                <a:off x="5648400" y="4299840"/>
                <a:ext cx="71280" cy="71280"/>
                <a:chOff x="5648400" y="4299840"/>
                <a:chExt cx="71280" cy="71280"/>
              </a:xfrm>
            </p:grpSpPr>
            <p:sp>
              <p:nvSpPr>
                <p:cNvPr id="1193" name="Straight Connector 371"/>
                <p:cNvSpPr/>
                <p:nvPr/>
              </p:nvSpPr>
              <p:spPr>
                <a:xfrm>
                  <a:off x="5681880" y="42998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4" name="Straight Connector 372"/>
                <p:cNvSpPr/>
                <p:nvPr/>
              </p:nvSpPr>
              <p:spPr>
                <a:xfrm>
                  <a:off x="5648400" y="43351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5" name="Group 373"/>
              <p:cNvGrpSpPr/>
              <p:nvPr/>
            </p:nvGrpSpPr>
            <p:grpSpPr>
              <a:xfrm>
                <a:off x="5664960" y="4333320"/>
                <a:ext cx="71280" cy="71280"/>
                <a:chOff x="5664960" y="4333320"/>
                <a:chExt cx="71280" cy="71280"/>
              </a:xfrm>
            </p:grpSpPr>
            <p:sp>
              <p:nvSpPr>
                <p:cNvPr id="1196" name="Straight Connector 374"/>
                <p:cNvSpPr/>
                <p:nvPr/>
              </p:nvSpPr>
              <p:spPr>
                <a:xfrm>
                  <a:off x="5698440" y="4333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7" name="Straight Connector 375"/>
                <p:cNvSpPr/>
                <p:nvPr/>
              </p:nvSpPr>
              <p:spPr>
                <a:xfrm>
                  <a:off x="5664960" y="4368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8" name="Group 376"/>
              <p:cNvGrpSpPr/>
              <p:nvPr/>
            </p:nvGrpSpPr>
            <p:grpSpPr>
              <a:xfrm>
                <a:off x="5810400" y="4426200"/>
                <a:ext cx="71280" cy="71280"/>
                <a:chOff x="5810400" y="4426200"/>
                <a:chExt cx="71280" cy="71280"/>
              </a:xfrm>
            </p:grpSpPr>
            <p:sp>
              <p:nvSpPr>
                <p:cNvPr id="1199" name="Straight Connector 377"/>
                <p:cNvSpPr/>
                <p:nvPr/>
              </p:nvSpPr>
              <p:spPr>
                <a:xfrm>
                  <a:off x="5843880" y="44262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0" name="Straight Connector 378"/>
                <p:cNvSpPr/>
                <p:nvPr/>
              </p:nvSpPr>
              <p:spPr>
                <a:xfrm>
                  <a:off x="5810400" y="44614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1" name="Group 379"/>
              <p:cNvGrpSpPr/>
              <p:nvPr/>
            </p:nvGrpSpPr>
            <p:grpSpPr>
              <a:xfrm>
                <a:off x="5822280" y="4492800"/>
                <a:ext cx="71280" cy="71280"/>
                <a:chOff x="5822280" y="4492800"/>
                <a:chExt cx="71280" cy="71280"/>
              </a:xfrm>
            </p:grpSpPr>
            <p:sp>
              <p:nvSpPr>
                <p:cNvPr id="1202" name="Straight Connector 380"/>
                <p:cNvSpPr/>
                <p:nvPr/>
              </p:nvSpPr>
              <p:spPr>
                <a:xfrm>
                  <a:off x="5855760" y="4492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3" name="Straight Connector 381"/>
                <p:cNvSpPr/>
                <p:nvPr/>
              </p:nvSpPr>
              <p:spPr>
                <a:xfrm>
                  <a:off x="5822280" y="4528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4" name="Group 382"/>
              <p:cNvGrpSpPr/>
              <p:nvPr/>
            </p:nvGrpSpPr>
            <p:grpSpPr>
              <a:xfrm>
                <a:off x="5927040" y="4495320"/>
                <a:ext cx="71280" cy="71280"/>
                <a:chOff x="5927040" y="4495320"/>
                <a:chExt cx="71280" cy="71280"/>
              </a:xfrm>
            </p:grpSpPr>
            <p:sp>
              <p:nvSpPr>
                <p:cNvPr id="1205" name="Straight Connector 383"/>
                <p:cNvSpPr/>
                <p:nvPr/>
              </p:nvSpPr>
              <p:spPr>
                <a:xfrm>
                  <a:off x="5960520" y="4495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6" name="Straight Connector 384"/>
                <p:cNvSpPr/>
                <p:nvPr/>
              </p:nvSpPr>
              <p:spPr>
                <a:xfrm>
                  <a:off x="5927040" y="4530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7" name="Group 385"/>
              <p:cNvGrpSpPr/>
              <p:nvPr/>
            </p:nvGrpSpPr>
            <p:grpSpPr>
              <a:xfrm>
                <a:off x="5977080" y="4492800"/>
                <a:ext cx="71280" cy="71280"/>
                <a:chOff x="5977080" y="4492800"/>
                <a:chExt cx="71280" cy="71280"/>
              </a:xfrm>
            </p:grpSpPr>
            <p:sp>
              <p:nvSpPr>
                <p:cNvPr id="1208" name="Straight Connector 386"/>
                <p:cNvSpPr/>
                <p:nvPr/>
              </p:nvSpPr>
              <p:spPr>
                <a:xfrm>
                  <a:off x="6010560" y="4492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9" name="Straight Connector 387"/>
                <p:cNvSpPr/>
                <p:nvPr/>
              </p:nvSpPr>
              <p:spPr>
                <a:xfrm>
                  <a:off x="5977080" y="4528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0" name="Group 388"/>
              <p:cNvGrpSpPr/>
              <p:nvPr/>
            </p:nvGrpSpPr>
            <p:grpSpPr>
              <a:xfrm>
                <a:off x="6153120" y="4521240"/>
                <a:ext cx="71280" cy="71280"/>
                <a:chOff x="6153120" y="4521240"/>
                <a:chExt cx="71280" cy="71280"/>
              </a:xfrm>
            </p:grpSpPr>
            <p:sp>
              <p:nvSpPr>
                <p:cNvPr id="1211" name="Straight Connector 389"/>
                <p:cNvSpPr/>
                <p:nvPr/>
              </p:nvSpPr>
              <p:spPr>
                <a:xfrm>
                  <a:off x="6186600" y="4521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2" name="Straight Connector 390"/>
                <p:cNvSpPr/>
                <p:nvPr/>
              </p:nvSpPr>
              <p:spPr>
                <a:xfrm>
                  <a:off x="6153120" y="4556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3" name="Group 391"/>
              <p:cNvGrpSpPr/>
              <p:nvPr/>
            </p:nvGrpSpPr>
            <p:grpSpPr>
              <a:xfrm>
                <a:off x="6384240" y="4573800"/>
                <a:ext cx="71280" cy="71280"/>
                <a:chOff x="6384240" y="4573800"/>
                <a:chExt cx="71280" cy="71280"/>
              </a:xfrm>
            </p:grpSpPr>
            <p:sp>
              <p:nvSpPr>
                <p:cNvPr id="1214" name="Straight Connector 392"/>
                <p:cNvSpPr/>
                <p:nvPr/>
              </p:nvSpPr>
              <p:spPr>
                <a:xfrm>
                  <a:off x="6417720" y="4573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5" name="Straight Connector 393"/>
                <p:cNvSpPr/>
                <p:nvPr/>
              </p:nvSpPr>
              <p:spPr>
                <a:xfrm>
                  <a:off x="6384240" y="4609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6" name="Group 394"/>
              <p:cNvGrpSpPr/>
              <p:nvPr/>
            </p:nvGrpSpPr>
            <p:grpSpPr>
              <a:xfrm>
                <a:off x="6770160" y="4569120"/>
                <a:ext cx="71280" cy="71280"/>
                <a:chOff x="6770160" y="4569120"/>
                <a:chExt cx="71280" cy="71280"/>
              </a:xfrm>
            </p:grpSpPr>
            <p:sp>
              <p:nvSpPr>
                <p:cNvPr id="1217" name="Straight Connector 395"/>
                <p:cNvSpPr/>
                <p:nvPr/>
              </p:nvSpPr>
              <p:spPr>
                <a:xfrm>
                  <a:off x="68036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8" name="Straight Connector 396"/>
                <p:cNvSpPr/>
                <p:nvPr/>
              </p:nvSpPr>
              <p:spPr>
                <a:xfrm>
                  <a:off x="67701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9" name="Group 397"/>
              <p:cNvGrpSpPr/>
              <p:nvPr/>
            </p:nvGrpSpPr>
            <p:grpSpPr>
              <a:xfrm>
                <a:off x="6860520" y="4566600"/>
                <a:ext cx="71280" cy="71280"/>
                <a:chOff x="6860520" y="4566600"/>
                <a:chExt cx="71280" cy="71280"/>
              </a:xfrm>
            </p:grpSpPr>
            <p:sp>
              <p:nvSpPr>
                <p:cNvPr id="1220" name="Straight Connector 398"/>
                <p:cNvSpPr/>
                <p:nvPr/>
              </p:nvSpPr>
              <p:spPr>
                <a:xfrm>
                  <a:off x="6894000" y="4566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1" name="Straight Connector 399"/>
                <p:cNvSpPr/>
                <p:nvPr/>
              </p:nvSpPr>
              <p:spPr>
                <a:xfrm>
                  <a:off x="6860520" y="4601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2" name="Group 400"/>
              <p:cNvGrpSpPr/>
              <p:nvPr/>
            </p:nvGrpSpPr>
            <p:grpSpPr>
              <a:xfrm>
                <a:off x="6874920" y="4569120"/>
                <a:ext cx="71280" cy="71280"/>
                <a:chOff x="6874920" y="4569120"/>
                <a:chExt cx="71280" cy="71280"/>
              </a:xfrm>
            </p:grpSpPr>
            <p:sp>
              <p:nvSpPr>
                <p:cNvPr id="1223" name="Straight Connector 401"/>
                <p:cNvSpPr/>
                <p:nvPr/>
              </p:nvSpPr>
              <p:spPr>
                <a:xfrm>
                  <a:off x="690840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4" name="Straight Connector 402"/>
                <p:cNvSpPr/>
                <p:nvPr/>
              </p:nvSpPr>
              <p:spPr>
                <a:xfrm>
                  <a:off x="687492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5" name="Group 403"/>
              <p:cNvGrpSpPr/>
              <p:nvPr/>
            </p:nvGrpSpPr>
            <p:grpSpPr>
              <a:xfrm>
                <a:off x="7034400" y="4564080"/>
                <a:ext cx="71280" cy="71280"/>
                <a:chOff x="7034400" y="4564080"/>
                <a:chExt cx="71280" cy="71280"/>
              </a:xfrm>
            </p:grpSpPr>
            <p:sp>
              <p:nvSpPr>
                <p:cNvPr id="1226" name="Straight Connector 404"/>
                <p:cNvSpPr/>
                <p:nvPr/>
              </p:nvSpPr>
              <p:spPr>
                <a:xfrm>
                  <a:off x="7067880" y="4564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7" name="Straight Connector 405"/>
                <p:cNvSpPr/>
                <p:nvPr/>
              </p:nvSpPr>
              <p:spPr>
                <a:xfrm>
                  <a:off x="7034400" y="4599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8" name="Group 406"/>
              <p:cNvGrpSpPr/>
              <p:nvPr/>
            </p:nvGrpSpPr>
            <p:grpSpPr>
              <a:xfrm>
                <a:off x="7120080" y="4569120"/>
                <a:ext cx="71280" cy="71280"/>
                <a:chOff x="7120080" y="4569120"/>
                <a:chExt cx="71280" cy="71280"/>
              </a:xfrm>
            </p:grpSpPr>
            <p:sp>
              <p:nvSpPr>
                <p:cNvPr id="1229" name="Straight Connector 407"/>
                <p:cNvSpPr/>
                <p:nvPr/>
              </p:nvSpPr>
              <p:spPr>
                <a:xfrm>
                  <a:off x="715356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0" name="Straight Connector 408"/>
                <p:cNvSpPr/>
                <p:nvPr/>
              </p:nvSpPr>
              <p:spPr>
                <a:xfrm>
                  <a:off x="712008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1" name="Group 409"/>
              <p:cNvGrpSpPr/>
              <p:nvPr/>
            </p:nvGrpSpPr>
            <p:grpSpPr>
              <a:xfrm>
                <a:off x="7198560" y="4566600"/>
                <a:ext cx="71280" cy="71280"/>
                <a:chOff x="7198560" y="4566600"/>
                <a:chExt cx="71280" cy="71280"/>
              </a:xfrm>
            </p:grpSpPr>
            <p:sp>
              <p:nvSpPr>
                <p:cNvPr id="1232" name="Straight Connector 410"/>
                <p:cNvSpPr/>
                <p:nvPr/>
              </p:nvSpPr>
              <p:spPr>
                <a:xfrm>
                  <a:off x="7232040" y="4566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3" name="Straight Connector 411"/>
                <p:cNvSpPr/>
                <p:nvPr/>
              </p:nvSpPr>
              <p:spPr>
                <a:xfrm>
                  <a:off x="7198560" y="4601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4" name="Group 412"/>
              <p:cNvGrpSpPr/>
              <p:nvPr/>
            </p:nvGrpSpPr>
            <p:grpSpPr>
              <a:xfrm>
                <a:off x="7224840" y="4564080"/>
                <a:ext cx="71280" cy="71280"/>
                <a:chOff x="7224840" y="4564080"/>
                <a:chExt cx="71280" cy="71280"/>
              </a:xfrm>
            </p:grpSpPr>
            <p:sp>
              <p:nvSpPr>
                <p:cNvPr id="1235" name="Straight Connector 413"/>
                <p:cNvSpPr/>
                <p:nvPr/>
              </p:nvSpPr>
              <p:spPr>
                <a:xfrm>
                  <a:off x="7258320" y="4564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6" name="Straight Connector 414"/>
                <p:cNvSpPr/>
                <p:nvPr/>
              </p:nvSpPr>
              <p:spPr>
                <a:xfrm>
                  <a:off x="7224840" y="4599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7" name="Group 415"/>
              <p:cNvGrpSpPr/>
              <p:nvPr/>
            </p:nvGrpSpPr>
            <p:grpSpPr>
              <a:xfrm>
                <a:off x="7529760" y="4569120"/>
                <a:ext cx="71280" cy="71280"/>
                <a:chOff x="7529760" y="4569120"/>
                <a:chExt cx="71280" cy="71280"/>
              </a:xfrm>
            </p:grpSpPr>
            <p:sp>
              <p:nvSpPr>
                <p:cNvPr id="1238" name="Straight Connector 416"/>
                <p:cNvSpPr/>
                <p:nvPr/>
              </p:nvSpPr>
              <p:spPr>
                <a:xfrm>
                  <a:off x="75632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9" name="Straight Connector 417"/>
                <p:cNvSpPr/>
                <p:nvPr/>
              </p:nvSpPr>
              <p:spPr>
                <a:xfrm>
                  <a:off x="75297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0" name="Group 418"/>
              <p:cNvGrpSpPr/>
              <p:nvPr/>
            </p:nvGrpSpPr>
            <p:grpSpPr>
              <a:xfrm>
                <a:off x="7413120" y="4569120"/>
                <a:ext cx="71280" cy="71280"/>
                <a:chOff x="7413120" y="4569120"/>
                <a:chExt cx="71280" cy="71280"/>
              </a:xfrm>
            </p:grpSpPr>
            <p:sp>
              <p:nvSpPr>
                <p:cNvPr id="1241" name="Straight Connector 419"/>
                <p:cNvSpPr/>
                <p:nvPr/>
              </p:nvSpPr>
              <p:spPr>
                <a:xfrm>
                  <a:off x="744660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2" name="Straight Connector 420"/>
                <p:cNvSpPr/>
                <p:nvPr/>
              </p:nvSpPr>
              <p:spPr>
                <a:xfrm>
                  <a:off x="741312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3" name="Group 421"/>
              <p:cNvGrpSpPr/>
              <p:nvPr/>
            </p:nvGrpSpPr>
            <p:grpSpPr>
              <a:xfrm>
                <a:off x="7360560" y="4569120"/>
                <a:ext cx="71280" cy="71280"/>
                <a:chOff x="7360560" y="4569120"/>
                <a:chExt cx="71280" cy="71280"/>
              </a:xfrm>
            </p:grpSpPr>
            <p:sp>
              <p:nvSpPr>
                <p:cNvPr id="1244" name="Straight Connector 422"/>
                <p:cNvSpPr/>
                <p:nvPr/>
              </p:nvSpPr>
              <p:spPr>
                <a:xfrm>
                  <a:off x="73940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5" name="Straight Connector 423"/>
                <p:cNvSpPr/>
                <p:nvPr/>
              </p:nvSpPr>
              <p:spPr>
                <a:xfrm>
                  <a:off x="73605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6" name="Group 424"/>
              <p:cNvGrpSpPr/>
              <p:nvPr/>
            </p:nvGrpSpPr>
            <p:grpSpPr>
              <a:xfrm>
                <a:off x="7308360" y="4569120"/>
                <a:ext cx="71280" cy="71280"/>
                <a:chOff x="7308360" y="4569120"/>
                <a:chExt cx="71280" cy="71280"/>
              </a:xfrm>
            </p:grpSpPr>
            <p:sp>
              <p:nvSpPr>
                <p:cNvPr id="1247" name="Straight Connector 425"/>
                <p:cNvSpPr/>
                <p:nvPr/>
              </p:nvSpPr>
              <p:spPr>
                <a:xfrm>
                  <a:off x="73418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8" name="Straight Connector 426"/>
                <p:cNvSpPr/>
                <p:nvPr/>
              </p:nvSpPr>
              <p:spPr>
                <a:xfrm>
                  <a:off x="73083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sp>
        <p:nvSpPr>
          <p:cNvPr id="1249" name="Rectangle 241"/>
          <p:cNvSpPr/>
          <p:nvPr/>
        </p:nvSpPr>
        <p:spPr>
          <a:xfrm>
            <a:off x="755280" y="5695920"/>
            <a:ext cx="1302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Pts at Risk, n</a:t>
            </a:r>
            <a:endParaRPr b="1" lang="en-US" sz="1400" spc="-1" strike="noStrike">
              <a:solidFill>
                <a:srgbClr val="ffffff"/>
              </a:solidFill>
              <a:latin typeface="Arial"/>
            </a:endParaRPr>
          </a:p>
        </p:txBody>
      </p:sp>
      <p:sp>
        <p:nvSpPr>
          <p:cNvPr id="1250" name="Rectangle 49"/>
          <p:cNvSpPr/>
          <p:nvPr/>
        </p:nvSpPr>
        <p:spPr>
          <a:xfrm>
            <a:off x="4763520" y="555948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os</a:t>
            </a:r>
            <a:endParaRPr b="1" lang="en-US" sz="1400" spc="-1" strike="noStrike">
              <a:solidFill>
                <a:srgbClr val="ffffff"/>
              </a:solidFill>
              <a:latin typeface="Arial"/>
            </a:endParaRPr>
          </a:p>
        </p:txBody>
      </p:sp>
      <p:sp>
        <p:nvSpPr>
          <p:cNvPr id="1251" name="Rectangle 52"/>
          <p:cNvSpPr/>
          <p:nvPr/>
        </p:nvSpPr>
        <p:spPr>
          <a:xfrm>
            <a:off x="5142960" y="3441600"/>
            <a:ext cx="32410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tratified HR: 1.31 (95% CI: 1.05-1.63;</a:t>
            </a:r>
            <a:br>
              <a:rPr sz="1400"/>
            </a:br>
            <a:r>
              <a:rPr b="0" lang="en-US" sz="1400" spc="-1" strike="noStrike">
                <a:solidFill>
                  <a:srgbClr val="ffffff"/>
                </a:solidFill>
                <a:latin typeface="Arial"/>
                <a:ea typeface="Geneva"/>
              </a:rPr>
              <a:t>log rank </a:t>
            </a:r>
            <a:r>
              <a:rPr b="0" i="1" lang="en-US" sz="1400" spc="-1" strike="noStrike">
                <a:solidFill>
                  <a:srgbClr val="ffffff"/>
                </a:solidFill>
                <a:latin typeface="Arial"/>
                <a:ea typeface="Geneva"/>
              </a:rPr>
              <a:t>P </a:t>
            </a:r>
            <a:r>
              <a:rPr b="0" lang="en-US" sz="1400" spc="-1" strike="noStrike">
                <a:solidFill>
                  <a:srgbClr val="ffffff"/>
                </a:solidFill>
                <a:latin typeface="Arial"/>
                <a:ea typeface="Geneva"/>
              </a:rPr>
              <a:t>= .014)</a:t>
            </a:r>
            <a:endParaRPr b="1" lang="en-US" sz="1400" spc="-1" strike="noStrike">
              <a:solidFill>
                <a:srgbClr val="ffffff"/>
              </a:solidFill>
              <a:latin typeface="Arial"/>
            </a:endParaRPr>
          </a:p>
        </p:txBody>
      </p:sp>
      <p:sp>
        <p:nvSpPr>
          <p:cNvPr id="1252" name="Rectangle 248"/>
          <p:cNvSpPr/>
          <p:nvPr/>
        </p:nvSpPr>
        <p:spPr>
          <a:xfrm>
            <a:off x="6455880" y="2629080"/>
            <a:ext cx="174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2.27 (10.13-14.80)</a:t>
            </a:r>
            <a:endParaRPr b="1" lang="en-US" sz="1400" spc="-1" strike="noStrike">
              <a:solidFill>
                <a:srgbClr val="ffffff"/>
              </a:solidFill>
              <a:latin typeface="Arial"/>
            </a:endParaRPr>
          </a:p>
        </p:txBody>
      </p:sp>
      <p:sp>
        <p:nvSpPr>
          <p:cNvPr id="1253" name="Rectangle 249"/>
          <p:cNvSpPr/>
          <p:nvPr/>
        </p:nvSpPr>
        <p:spPr>
          <a:xfrm>
            <a:off x="6468480" y="2859120"/>
            <a:ext cx="174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6.64 (13.55-18.72)</a:t>
            </a:r>
            <a:endParaRPr b="1" lang="en-US" sz="1400" spc="-1" strike="noStrike">
              <a:solidFill>
                <a:srgbClr val="ffffff"/>
              </a:solidFill>
              <a:latin typeface="Arial"/>
            </a:endParaRPr>
          </a:p>
        </p:txBody>
      </p:sp>
      <p:sp>
        <p:nvSpPr>
          <p:cNvPr id="1254" name="Line 7"/>
          <p:cNvSpPr/>
          <p:nvPr/>
        </p:nvSpPr>
        <p:spPr>
          <a:xfrm>
            <a:off x="1751040" y="197820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5" name="Rectangle 8"/>
          <p:cNvSpPr/>
          <p:nvPr/>
        </p:nvSpPr>
        <p:spPr>
          <a:xfrm>
            <a:off x="1354680" y="1844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1256" name="Line 9"/>
          <p:cNvSpPr/>
          <p:nvPr/>
        </p:nvSpPr>
        <p:spPr>
          <a:xfrm>
            <a:off x="1751040" y="23050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7" name="Rectangle 10"/>
          <p:cNvSpPr/>
          <p:nvPr/>
        </p:nvSpPr>
        <p:spPr>
          <a:xfrm>
            <a:off x="1354680" y="21747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9</a:t>
            </a:r>
            <a:endParaRPr b="1" lang="en-US" sz="1400" spc="-1" strike="noStrike">
              <a:solidFill>
                <a:srgbClr val="ffffff"/>
              </a:solidFill>
              <a:latin typeface="Arial"/>
            </a:endParaRPr>
          </a:p>
        </p:txBody>
      </p:sp>
      <p:sp>
        <p:nvSpPr>
          <p:cNvPr id="1258" name="Line 11"/>
          <p:cNvSpPr/>
          <p:nvPr/>
        </p:nvSpPr>
        <p:spPr>
          <a:xfrm>
            <a:off x="1751040" y="263520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9" name="Rectangle 12"/>
          <p:cNvSpPr/>
          <p:nvPr/>
        </p:nvSpPr>
        <p:spPr>
          <a:xfrm>
            <a:off x="1354680" y="25052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8</a:t>
            </a:r>
            <a:endParaRPr b="1" lang="en-US" sz="1400" spc="-1" strike="noStrike">
              <a:solidFill>
                <a:srgbClr val="ffffff"/>
              </a:solidFill>
              <a:latin typeface="Arial"/>
            </a:endParaRPr>
          </a:p>
        </p:txBody>
      </p:sp>
      <p:sp>
        <p:nvSpPr>
          <p:cNvPr id="1260" name="Line 22"/>
          <p:cNvSpPr/>
          <p:nvPr/>
        </p:nvSpPr>
        <p:spPr>
          <a:xfrm>
            <a:off x="1751040" y="296244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1" name="Rectangle 23"/>
          <p:cNvSpPr/>
          <p:nvPr/>
        </p:nvSpPr>
        <p:spPr>
          <a:xfrm>
            <a:off x="1354680" y="28274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7</a:t>
            </a:r>
            <a:endParaRPr b="1" lang="en-US" sz="1400" spc="-1" strike="noStrike">
              <a:solidFill>
                <a:srgbClr val="ffffff"/>
              </a:solidFill>
              <a:latin typeface="Arial"/>
            </a:endParaRPr>
          </a:p>
        </p:txBody>
      </p:sp>
      <p:sp>
        <p:nvSpPr>
          <p:cNvPr id="1262" name="Line 24"/>
          <p:cNvSpPr/>
          <p:nvPr/>
        </p:nvSpPr>
        <p:spPr>
          <a:xfrm>
            <a:off x="1751040" y="32878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3" name="Rectangle 25"/>
          <p:cNvSpPr/>
          <p:nvPr/>
        </p:nvSpPr>
        <p:spPr>
          <a:xfrm>
            <a:off x="1354680" y="3152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6</a:t>
            </a:r>
            <a:endParaRPr b="1" lang="en-US" sz="1400" spc="-1" strike="noStrike">
              <a:solidFill>
                <a:srgbClr val="ffffff"/>
              </a:solidFill>
              <a:latin typeface="Arial"/>
            </a:endParaRPr>
          </a:p>
        </p:txBody>
      </p:sp>
      <p:sp>
        <p:nvSpPr>
          <p:cNvPr id="1264" name="Line 26"/>
          <p:cNvSpPr/>
          <p:nvPr/>
        </p:nvSpPr>
        <p:spPr>
          <a:xfrm>
            <a:off x="1751040" y="36100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5" name="Rectangle 27"/>
          <p:cNvSpPr/>
          <p:nvPr/>
        </p:nvSpPr>
        <p:spPr>
          <a:xfrm>
            <a:off x="1354680" y="34750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5</a:t>
            </a:r>
            <a:endParaRPr b="1" lang="en-US" sz="1400" spc="-1" strike="noStrike">
              <a:solidFill>
                <a:srgbClr val="ffffff"/>
              </a:solidFill>
              <a:latin typeface="Arial"/>
            </a:endParaRPr>
          </a:p>
        </p:txBody>
      </p:sp>
      <p:sp>
        <p:nvSpPr>
          <p:cNvPr id="1266" name="Line 28"/>
          <p:cNvSpPr/>
          <p:nvPr/>
        </p:nvSpPr>
        <p:spPr>
          <a:xfrm>
            <a:off x="1751040" y="393552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7" name="Rectangle 29"/>
          <p:cNvSpPr/>
          <p:nvPr/>
        </p:nvSpPr>
        <p:spPr>
          <a:xfrm>
            <a:off x="1354680" y="3805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4</a:t>
            </a:r>
            <a:endParaRPr b="1" lang="en-US" sz="1400" spc="-1" strike="noStrike">
              <a:solidFill>
                <a:srgbClr val="ffffff"/>
              </a:solidFill>
              <a:latin typeface="Arial"/>
            </a:endParaRPr>
          </a:p>
        </p:txBody>
      </p:sp>
      <p:sp>
        <p:nvSpPr>
          <p:cNvPr id="1268" name="Line 30"/>
          <p:cNvSpPr/>
          <p:nvPr/>
        </p:nvSpPr>
        <p:spPr>
          <a:xfrm>
            <a:off x="1751040" y="426708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9" name="Rectangle 31"/>
          <p:cNvSpPr/>
          <p:nvPr/>
        </p:nvSpPr>
        <p:spPr>
          <a:xfrm>
            <a:off x="1354680" y="41324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3</a:t>
            </a:r>
            <a:endParaRPr b="1" lang="en-US" sz="1400" spc="-1" strike="noStrike">
              <a:solidFill>
                <a:srgbClr val="ffffff"/>
              </a:solidFill>
              <a:latin typeface="Arial"/>
            </a:endParaRPr>
          </a:p>
        </p:txBody>
      </p:sp>
      <p:sp>
        <p:nvSpPr>
          <p:cNvPr id="1270" name="Line 32"/>
          <p:cNvSpPr/>
          <p:nvPr/>
        </p:nvSpPr>
        <p:spPr>
          <a:xfrm>
            <a:off x="1751040" y="458784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1" name="Rectangle 33"/>
          <p:cNvSpPr/>
          <p:nvPr/>
        </p:nvSpPr>
        <p:spPr>
          <a:xfrm>
            <a:off x="1354680" y="4457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2</a:t>
            </a:r>
            <a:endParaRPr b="1" lang="en-US" sz="1400" spc="-1" strike="noStrike">
              <a:solidFill>
                <a:srgbClr val="ffffff"/>
              </a:solidFill>
              <a:latin typeface="Arial"/>
            </a:endParaRPr>
          </a:p>
        </p:txBody>
      </p:sp>
      <p:sp>
        <p:nvSpPr>
          <p:cNvPr id="1272" name="Line 34"/>
          <p:cNvSpPr/>
          <p:nvPr/>
        </p:nvSpPr>
        <p:spPr>
          <a:xfrm>
            <a:off x="1751040" y="491976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3" name="Rectangle 35"/>
          <p:cNvSpPr/>
          <p:nvPr/>
        </p:nvSpPr>
        <p:spPr>
          <a:xfrm>
            <a:off x="1354680" y="47847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1</a:t>
            </a:r>
            <a:endParaRPr b="1" lang="en-US" sz="1400" spc="-1" strike="noStrike">
              <a:solidFill>
                <a:srgbClr val="ffffff"/>
              </a:solidFill>
              <a:latin typeface="Arial"/>
            </a:endParaRPr>
          </a:p>
        </p:txBody>
      </p:sp>
      <p:sp>
        <p:nvSpPr>
          <p:cNvPr id="1274" name="Line 36"/>
          <p:cNvSpPr/>
          <p:nvPr/>
        </p:nvSpPr>
        <p:spPr>
          <a:xfrm>
            <a:off x="1751040" y="524016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5" name="Rectangle 37"/>
          <p:cNvSpPr/>
          <p:nvPr/>
        </p:nvSpPr>
        <p:spPr>
          <a:xfrm>
            <a:off x="1504080" y="511020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276" name="Rectangle 246"/>
          <p:cNvSpPr/>
          <p:nvPr/>
        </p:nvSpPr>
        <p:spPr>
          <a:xfrm>
            <a:off x="6453360" y="2203560"/>
            <a:ext cx="1776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edian OS, Mos (95% CI)</a:t>
            </a:r>
            <a:endParaRPr b="1" lang="en-US" sz="1400" spc="-1" strike="noStrike">
              <a:solidFill>
                <a:srgbClr val="ffffff"/>
              </a:solidFill>
              <a:latin typeface="Arial"/>
            </a:endParaRPr>
          </a:p>
        </p:txBody>
      </p:sp>
      <p:sp>
        <p:nvSpPr>
          <p:cNvPr id="1277" name="TextBox 6"/>
          <p:cNvSpPr/>
          <p:nvPr/>
        </p:nvSpPr>
        <p:spPr>
          <a:xfrm>
            <a:off x="284040" y="637056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
        <p:nvSpPr>
          <p:cNvPr id="1278" name="PlaceHolder 1"/>
          <p:cNvSpPr>
            <a:spLocks noGrp="1"/>
          </p:cNvSpPr>
          <p:nvPr>
            <p:ph type="title"/>
          </p:nvPr>
        </p:nvSpPr>
        <p:spPr>
          <a:xfrm>
            <a:off x="382320" y="666360"/>
            <a:ext cx="83516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Geneva"/>
              </a:rPr>
              <a:t>Overall Survival</a:t>
            </a:r>
            <a:endParaRPr b="1" lang="en-US" sz="3200" spc="-1" strike="noStrike">
              <a:solidFill>
                <a:srgbClr val="f8f45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OS by Duration of Previous Sunitinib</a:t>
            </a:r>
            <a:br>
              <a:rPr sz="3200"/>
            </a:br>
            <a:r>
              <a:rPr b="1" lang="en-US" sz="3200" spc="-1" strike="noStrike">
                <a:solidFill>
                  <a:srgbClr val="f8f45a"/>
                </a:solidFill>
                <a:latin typeface="Arial"/>
                <a:ea typeface="Calibri"/>
              </a:rPr>
              <a:t>(ITT Population)</a:t>
            </a:r>
            <a:endParaRPr b="1" lang="en-US" sz="3200" spc="-1" strike="noStrike">
              <a:solidFill>
                <a:srgbClr val="f8f45a"/>
              </a:solidFill>
              <a:latin typeface="Arial"/>
            </a:endParaRPr>
          </a:p>
        </p:txBody>
      </p:sp>
      <p:graphicFrame>
        <p:nvGraphicFramePr>
          <p:cNvPr id="1280" name=""/>
          <p:cNvGraphicFramePr/>
          <p:nvPr/>
        </p:nvGraphicFramePr>
        <p:xfrm>
          <a:off x="384120" y="1914480"/>
          <a:ext cx="8462880" cy="2316240"/>
        </p:xfrm>
        <a:graphic>
          <a:graphicData uri="http://schemas.openxmlformats.org/drawingml/2006/table">
            <a:tbl>
              <a:tblPr/>
              <a:tblGrid>
                <a:gridCol w="2605320"/>
                <a:gridCol w="1715760"/>
                <a:gridCol w="1724040"/>
                <a:gridCol w="1476360"/>
                <a:gridCol w="941400"/>
              </a:tblGrid>
              <a:tr h="579600">
                <a:tc>
                  <a:txBody>
                    <a:bodyPr lIns="90000" rIns="90000" anchor="ctr">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Previous Sunitinib Use</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Temsirolimus (n = 259)</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Sorafenib </a:t>
                      </a:r>
                      <a:br>
                        <a:rPr sz="1600"/>
                      </a:br>
                      <a:r>
                        <a:rPr b="1" lang="en-GB" sz="1600" spc="-1" strike="noStrike">
                          <a:solidFill>
                            <a:srgbClr val="ffffff"/>
                          </a:solidFill>
                          <a:latin typeface="Arial"/>
                          <a:ea typeface="Geneva"/>
                        </a:rPr>
                        <a:t>(n = 253)</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HR (95% CI)</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Geneva"/>
                        </a:rPr>
                        <a:t>P </a:t>
                      </a:r>
                      <a:r>
                        <a:rPr b="1" lang="en-GB" sz="1600" spc="-1" strike="noStrike">
                          <a:solidFill>
                            <a:srgbClr val="ffffff"/>
                          </a:solidFill>
                          <a:latin typeface="Arial"/>
                          <a:ea typeface="Geneva"/>
                        </a:rPr>
                        <a:t>Value*</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r>
              <a:tr h="57924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lt; 9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38 (15)</a:t>
                      </a:r>
                      <a:br>
                        <a:rPr sz="1600"/>
                      </a:br>
                      <a:r>
                        <a:rPr b="0" lang="en-GB" sz="1600" spc="-1" strike="noStrike">
                          <a:solidFill>
                            <a:srgbClr val="000000"/>
                          </a:solidFill>
                          <a:latin typeface="Arial"/>
                          <a:ea typeface="Geneva"/>
                        </a:rPr>
                        <a:t>8.0 (5.3-14.7)</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29 (12)</a:t>
                      </a:r>
                      <a:br>
                        <a:rPr sz="1600"/>
                      </a:br>
                      <a:r>
                        <a:rPr b="0" lang="en-GB" sz="1600" spc="-1" strike="noStrike">
                          <a:solidFill>
                            <a:srgbClr val="000000"/>
                          </a:solidFill>
                          <a:latin typeface="Arial"/>
                          <a:ea typeface="Geneva"/>
                        </a:rPr>
                        <a:t>10.3 (5.7-13.8)</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11 </a:t>
                      </a:r>
                      <a:br>
                        <a:rPr sz="1600"/>
                      </a:br>
                      <a:r>
                        <a:rPr b="0" lang="en-GB" sz="1600" spc="-1" strike="noStrike">
                          <a:solidFill>
                            <a:srgbClr val="000000"/>
                          </a:solidFill>
                          <a:latin typeface="Arial"/>
                          <a:ea typeface="Geneva"/>
                        </a:rPr>
                        <a:t>(0.64-1.93)</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708</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r>
              <a:tr h="57852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90-27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99 (38)</a:t>
                      </a:r>
                      <a:br>
                        <a:rPr sz="1600"/>
                      </a:br>
                      <a:r>
                        <a:rPr b="0" lang="en-GB" sz="1600" spc="-1" strike="noStrike">
                          <a:solidFill>
                            <a:srgbClr val="000000"/>
                          </a:solidFill>
                          <a:latin typeface="Arial"/>
                          <a:ea typeface="Geneva"/>
                        </a:rPr>
                        <a:t>11.6 (10.1-16.1)</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97 (38)</a:t>
                      </a:r>
                      <a:br>
                        <a:rPr sz="1600"/>
                      </a:br>
                      <a:r>
                        <a:rPr b="0" lang="en-GB" sz="1600" spc="-1" strike="noStrike">
                          <a:solidFill>
                            <a:srgbClr val="000000"/>
                          </a:solidFill>
                          <a:latin typeface="Arial"/>
                          <a:ea typeface="Geneva"/>
                        </a:rPr>
                        <a:t>16.8 (11.1-19.8) </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32 </a:t>
                      </a:r>
                      <a:br>
                        <a:rPr sz="1600"/>
                      </a:br>
                      <a:r>
                        <a:rPr b="0" lang="en-GB" sz="1600" spc="-1" strike="noStrike">
                          <a:solidFill>
                            <a:srgbClr val="000000"/>
                          </a:solidFill>
                          <a:latin typeface="Arial"/>
                          <a:ea typeface="Geneva"/>
                        </a:rPr>
                        <a:t>(0.95-1.84)</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096</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r>
              <a:tr h="57888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gt; 27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21 (47)</a:t>
                      </a:r>
                      <a:br>
                        <a:rPr sz="1600"/>
                      </a:br>
                      <a:r>
                        <a:rPr b="0" lang="en-GB" sz="1600" spc="-1" strike="noStrike">
                          <a:solidFill>
                            <a:srgbClr val="000000"/>
                          </a:solidFill>
                          <a:latin typeface="Arial"/>
                          <a:ea typeface="Geneva"/>
                        </a:rPr>
                        <a:t>14.4 (10.9-17.6)</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26 (50)</a:t>
                      </a:r>
                      <a:br>
                        <a:rPr sz="1600"/>
                      </a:br>
                      <a:r>
                        <a:rPr b="0" lang="en-GB" sz="1600" spc="-1" strike="noStrike">
                          <a:solidFill>
                            <a:srgbClr val="000000"/>
                          </a:solidFill>
                          <a:latin typeface="Arial"/>
                          <a:ea typeface="Geneva"/>
                        </a:rPr>
                        <a:t>17.6 (15.3-22.9)</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40 </a:t>
                      </a:r>
                      <a:br>
                        <a:rPr sz="1600"/>
                      </a:br>
                      <a:r>
                        <a:rPr b="0" lang="en-GB" sz="1600" spc="-1" strike="noStrike">
                          <a:solidFill>
                            <a:srgbClr val="000000"/>
                          </a:solidFill>
                          <a:latin typeface="Arial"/>
                          <a:ea typeface="Geneva"/>
                        </a:rPr>
                        <a:t>(1.02-1.92)</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036</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
        <p:nvSpPr>
          <p:cNvPr id="1281" name="Rectangle 38"/>
          <p:cNvSpPr/>
          <p:nvPr/>
        </p:nvSpPr>
        <p:spPr>
          <a:xfrm>
            <a:off x="384120" y="4316760"/>
            <a:ext cx="7437600" cy="323640"/>
          </a:xfrm>
          <a:prstGeom prst="rect">
            <a:avLst/>
          </a:prstGeom>
          <a:noFill/>
          <a:ln w="0">
            <a:noFill/>
          </a:ln>
        </p:spPr>
        <p:style>
          <a:lnRef idx="0"/>
          <a:fillRef idx="0"/>
          <a:effectRef idx="0"/>
          <a:fontRef idx="minor"/>
        </p:style>
        <p:txBody>
          <a:bodyPr lIns="92160" rIns="92160" tIns="46080" bIns="46080" anchor="b">
            <a:spAutoFit/>
          </a:bodyPr>
          <a:p>
            <a:pPr>
              <a:lnSpc>
                <a:spcPct val="95000"/>
              </a:lnSpc>
              <a:spcBef>
                <a:spcPts val="700"/>
              </a:spcBef>
              <a:spcAft>
                <a:spcPts val="499"/>
              </a:spcAft>
              <a:tabLst>
                <a:tab algn="l" pos="0"/>
                <a:tab algn="l" pos="176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Unstratified log rank test.</a:t>
            </a:r>
            <a:endParaRPr b="1" lang="en-US" sz="1600" spc="-1" strike="noStrike">
              <a:solidFill>
                <a:srgbClr val="ffffff"/>
              </a:solidFill>
              <a:latin typeface="Arial"/>
            </a:endParaRPr>
          </a:p>
        </p:txBody>
      </p:sp>
      <p:sp>
        <p:nvSpPr>
          <p:cNvPr id="1282" name="Text Box 19"/>
          <p:cNvSpPr/>
          <p:nvPr/>
        </p:nvSpPr>
        <p:spPr>
          <a:xfrm>
            <a:off x="384120" y="4738680"/>
            <a:ext cx="8462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a108"/>
                </a:solidFill>
                <a:latin typeface="Arial"/>
              </a:rPr>
              <a:t>Longer time on first-line TKI predicts for greater benefit from second-line TKI</a:t>
            </a:r>
            <a:endParaRPr b="1" lang="en-US" sz="1800" spc="-1" strike="noStrike">
              <a:solidFill>
                <a:srgbClr val="ffffff"/>
              </a:solidFill>
              <a:latin typeface="Arial"/>
            </a:endParaRPr>
          </a:p>
        </p:txBody>
      </p:sp>
      <p:sp>
        <p:nvSpPr>
          <p:cNvPr id="1283" name="TextBox 6"/>
          <p:cNvSpPr/>
          <p:nvPr/>
        </p:nvSpPr>
        <p:spPr>
          <a:xfrm>
            <a:off x="284040" y="637524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2"/>
                                        </p:tgtEl>
                                        <p:attrNameLst>
                                          <p:attrName>style.visibility</p:attrName>
                                        </p:attrNameLst>
                                      </p:cBhvr>
                                      <p:to>
                                        <p:strVal val="visible"/>
                                      </p:to>
                                    </p:set>
                                    <p:anim calcmode="lin" valueType="num">
                                      <p:cBhvr additive="base">
                                        <p:cTn id="7" dur="500" fill="hold"/>
                                        <p:tgtEl>
                                          <p:spTgt spid="1282"/>
                                        </p:tgtEl>
                                        <p:attrNameLst>
                                          <p:attrName>ppt_x</p:attrName>
                                        </p:attrNameLst>
                                      </p:cBhvr>
                                      <p:tavLst>
                                        <p:tav tm="0">
                                          <p:val>
                                            <p:strVal val="#ppt_x"/>
                                          </p:val>
                                        </p:tav>
                                        <p:tav tm="100000">
                                          <p:val>
                                            <p:strVal val="#ppt_x"/>
                                          </p:val>
                                        </p:tav>
                                      </p:tavLst>
                                    </p:anim>
                                    <p:anim calcmode="lin" valueType="num">
                                      <p:cBhvr additive="base">
                                        <p:cTn id="8" dur="500" fill="hold"/>
                                        <p:tgtEl>
                                          <p:spTgt spid="1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ase Study 2</a:t>
            </a:r>
            <a:endParaRPr b="1" lang="en-US" sz="3200" spc="-1" strike="noStrike">
              <a:solidFill>
                <a:srgbClr val="f8f45a"/>
              </a:solidFill>
              <a:latin typeface="Arial"/>
            </a:endParaRPr>
          </a:p>
        </p:txBody>
      </p:sp>
      <p:sp>
        <p:nvSpPr>
          <p:cNvPr id="1285" name="PlaceHolder 2"/>
          <p:cNvSpPr>
            <a:spLocks noGrp="1"/>
          </p:cNvSpPr>
          <p:nvPr>
            <p:ph/>
          </p:nvPr>
        </p:nvSpPr>
        <p:spPr>
          <a:xfrm>
            <a:off x="385560" y="1828440"/>
            <a:ext cx="41511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77-yr-old man underwent CT scan due to L flank pain</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Scans showed a 7-cm L renal mass and multiple lung nodules up to 1.2 cm</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edical history of HTN and nephrolithiasis; on amlodipine, metoprolol, and aspirin </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Retired oral surgeon; nonsmoker</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No family history of RCC</a:t>
            </a:r>
            <a:endParaRPr b="0" lang="en-US" sz="2000" spc="-1" strike="noStrike">
              <a:solidFill>
                <a:srgbClr val="fefdde"/>
              </a:solidFill>
              <a:latin typeface="Arial"/>
            </a:endParaRPr>
          </a:p>
        </p:txBody>
      </p:sp>
      <p:sp>
        <p:nvSpPr>
          <p:cNvPr id="1286" name="Text Box 9"/>
          <p:cNvSpPr/>
          <p:nvPr/>
        </p:nvSpPr>
        <p:spPr>
          <a:xfrm>
            <a:off x="7513560" y="2170080"/>
            <a:ext cx="1063800" cy="34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cdcf"/>
                </a:solidFill>
                <a:latin typeface="Arial"/>
              </a:rPr>
              <a:t>aaaaaa</a:t>
            </a:r>
            <a:endParaRPr b="1" lang="en-US" sz="1800" spc="-1" strike="noStrike">
              <a:solidFill>
                <a:srgbClr val="ffffff"/>
              </a:solidFill>
              <a:latin typeface="Arial"/>
            </a:endParaRPr>
          </a:p>
        </p:txBody>
      </p:sp>
      <p:pic>
        <p:nvPicPr>
          <p:cNvPr id="1287" name="Picture 12" descr="3"/>
          <p:cNvPicPr/>
          <p:nvPr/>
        </p:nvPicPr>
        <p:blipFill>
          <a:blip r:embed="rId1"/>
          <a:stretch/>
        </p:blipFill>
        <p:spPr>
          <a:xfrm>
            <a:off x="4610160" y="1906560"/>
            <a:ext cx="3997440" cy="2243160"/>
          </a:xfrm>
          <a:prstGeom prst="rect">
            <a:avLst/>
          </a:prstGeom>
          <a:ln w="0">
            <a:noFill/>
          </a:ln>
        </p:spPr>
      </p:pic>
      <p:sp>
        <p:nvSpPr>
          <p:cNvPr id="1288" name="Text Box 8"/>
          <p:cNvSpPr/>
          <p:nvPr/>
        </p:nvSpPr>
        <p:spPr>
          <a:xfrm>
            <a:off x="4618080" y="2009880"/>
            <a:ext cx="10634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289" name="Picture 13" descr="4"/>
          <p:cNvPicPr/>
          <p:nvPr/>
        </p:nvPicPr>
        <p:blipFill>
          <a:blip r:embed="rId2"/>
          <a:stretch/>
        </p:blipFill>
        <p:spPr>
          <a:xfrm>
            <a:off x="4583160" y="4302000"/>
            <a:ext cx="4060800" cy="2279880"/>
          </a:xfrm>
          <a:prstGeom prst="rect">
            <a:avLst/>
          </a:prstGeom>
          <a:ln w="0">
            <a:noFill/>
          </a:ln>
        </p:spPr>
      </p:pic>
      <p:sp>
        <p:nvSpPr>
          <p:cNvPr id="1290" name="Text Box 10"/>
          <p:cNvSpPr/>
          <p:nvPr/>
        </p:nvSpPr>
        <p:spPr>
          <a:xfrm>
            <a:off x="4595760" y="4389480"/>
            <a:ext cx="82872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1" name="Line 14"/>
          <p:cNvSpPr/>
          <p:nvPr/>
        </p:nvSpPr>
        <p:spPr>
          <a:xfrm flipH="1" flipV="1">
            <a:off x="7429320" y="3348000"/>
            <a:ext cx="1417320" cy="41112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2" name="Text Box 8"/>
          <p:cNvSpPr/>
          <p:nvPr/>
        </p:nvSpPr>
        <p:spPr>
          <a:xfrm>
            <a:off x="7524720" y="206064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a:t>
            </a:r>
            <a:endParaRPr b="1" lang="en-US" sz="3200" spc="-1" strike="noStrike">
              <a:solidFill>
                <a:srgbClr val="f8f45a"/>
              </a:solidFill>
              <a:latin typeface="Arial"/>
            </a:endParaRPr>
          </a:p>
        </p:txBody>
      </p:sp>
      <p:sp>
        <p:nvSpPr>
          <p:cNvPr id="129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ytoreductive nephrectomy showed clear-cell RCC, grade 4/4</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Scans 9 mos later showed increase in lung nodules, new mediastinal and hilar adenopathy, and new liver metastases</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Began sunitinib 37.5 mg; scans after 2 cycles showed SD</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Struggled with fatigue, diarrhea, malaise, rash; admitted with dehydration after cycle 3</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umed treatment after </a:t>
            </a:r>
            <a:br>
              <a:rPr sz="2200"/>
            </a:br>
            <a:r>
              <a:rPr b="0" lang="en-US" sz="2200" spc="-1" strike="noStrike">
                <a:solidFill>
                  <a:srgbClr val="fefdde"/>
                </a:solidFill>
                <a:latin typeface="Arial"/>
                <a:ea typeface="Arial"/>
              </a:rPr>
              <a:t>3-wk break; scans after </a:t>
            </a:r>
            <a:br>
              <a:rPr sz="2200"/>
            </a:br>
            <a:r>
              <a:rPr b="0" lang="en-US" sz="2200" spc="-1" strike="noStrike">
                <a:solidFill>
                  <a:srgbClr val="fefdde"/>
                </a:solidFill>
                <a:latin typeface="Arial"/>
                <a:ea typeface="Arial"/>
              </a:rPr>
              <a:t>2 more cycles showed disease </a:t>
            </a:r>
            <a:br>
              <a:rPr sz="2200"/>
            </a:br>
            <a:r>
              <a:rPr b="0" lang="en-US" sz="2200" spc="-1" strike="noStrike">
                <a:solidFill>
                  <a:srgbClr val="fefdde"/>
                </a:solidFill>
                <a:latin typeface="Arial"/>
                <a:ea typeface="Arial"/>
              </a:rPr>
              <a:t>progression in liver</a:t>
            </a:r>
            <a:endParaRPr b="0" lang="en-US" sz="2200" spc="-1" strike="noStrike">
              <a:solidFill>
                <a:srgbClr val="fefdde"/>
              </a:solidFill>
              <a:latin typeface="Arial"/>
            </a:endParaRPr>
          </a:p>
        </p:txBody>
      </p:sp>
      <p:pic>
        <p:nvPicPr>
          <p:cNvPr id="1295" name="Picture 4" descr="5"/>
          <p:cNvPicPr/>
          <p:nvPr/>
        </p:nvPicPr>
        <p:blipFill>
          <a:blip r:embed="rId1"/>
          <a:stretch/>
        </p:blipFill>
        <p:spPr>
          <a:xfrm>
            <a:off x="4903920" y="4357800"/>
            <a:ext cx="3958920" cy="2224080"/>
          </a:xfrm>
          <a:prstGeom prst="rect">
            <a:avLst/>
          </a:prstGeom>
          <a:ln w="0">
            <a:noFill/>
          </a:ln>
        </p:spPr>
      </p:pic>
      <p:sp>
        <p:nvSpPr>
          <p:cNvPr id="1296" name="Text Box 6"/>
          <p:cNvSpPr/>
          <p:nvPr/>
        </p:nvSpPr>
        <p:spPr>
          <a:xfrm>
            <a:off x="5005440" y="4481640"/>
            <a:ext cx="121428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 Question 3</a:t>
            </a:r>
            <a:endParaRPr b="1" lang="en-US" sz="3200" spc="-1" strike="noStrike">
              <a:solidFill>
                <a:srgbClr val="f8f45a"/>
              </a:solidFill>
              <a:latin typeface="Arial"/>
            </a:endParaRPr>
          </a:p>
        </p:txBody>
      </p:sp>
      <p:sp>
        <p:nvSpPr>
          <p:cNvPr id="129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Radiographic progression on frontline TKI has been demonstrated. </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What would you recommend at this time?</a:t>
            </a:r>
            <a:endParaRPr b="0" lang="en-US" sz="2400" spc="-1" strike="noStrike">
              <a:solidFill>
                <a:srgbClr val="fefdd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3"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 Question 5</a:t>
            </a:r>
            <a:endParaRPr b="1" lang="en-US" sz="3200" spc="-1" strike="noStrike">
              <a:solidFill>
                <a:srgbClr val="f8f45a"/>
              </a:solidFill>
              <a:latin typeface="Arial"/>
            </a:endParaRPr>
          </a:p>
        </p:txBody>
      </p:sp>
      <p:sp>
        <p:nvSpPr>
          <p:cNvPr id="1300" name=""/>
          <p:cNvSpPr txBox="1"/>
          <p:nvPr/>
        </p:nvSpPr>
        <p:spPr>
          <a:xfrm>
            <a:off x="385920" y="1828440"/>
            <a:ext cx="8454960" cy="41720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After 8 mos on everolimus, he develops R facial droop and slurred speech that resolve after 5 mins. MRI as shown. Restaging scans show improvement in lung and liver metastases. Following SRS, what would you recommend?</a:t>
            </a:r>
            <a:endParaRPr b="0" lang="en-US" sz="2400" spc="-1" strike="noStrike">
              <a:solidFill>
                <a:srgbClr val="fefdde"/>
              </a:solidFill>
              <a:latin typeface="Arial"/>
            </a:endParaRPr>
          </a:p>
        </p:txBody>
      </p:sp>
      <p:pic>
        <p:nvPicPr>
          <p:cNvPr id="1301" name="Picture 4" descr="20"/>
          <p:cNvPicPr/>
          <p:nvPr/>
        </p:nvPicPr>
        <p:blipFill>
          <a:blip r:embed="rId1"/>
          <a:stretch/>
        </p:blipFill>
        <p:spPr>
          <a:xfrm>
            <a:off x="5116680" y="3551400"/>
            <a:ext cx="3730320" cy="2093760"/>
          </a:xfrm>
          <a:prstGeom prst="rect">
            <a:avLst/>
          </a:prstGeom>
          <a:ln w="0">
            <a:noFill/>
          </a:ln>
        </p:spPr>
      </p:pic>
      <p:sp>
        <p:nvSpPr>
          <p:cNvPr id="1302" name="Text Box 5"/>
          <p:cNvSpPr/>
          <p:nvPr/>
        </p:nvSpPr>
        <p:spPr>
          <a:xfrm>
            <a:off x="5165640" y="3987720"/>
            <a:ext cx="12146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3" name="Text Box 6"/>
          <p:cNvSpPr/>
          <p:nvPr/>
        </p:nvSpPr>
        <p:spPr>
          <a:xfrm>
            <a:off x="399960" y="5784840"/>
            <a:ext cx="8462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a108"/>
                </a:solidFill>
                <a:latin typeface="Arial"/>
              </a:rPr>
              <a:t>He remains on everolimus 14 mos later with SD and no toxicity other than </a:t>
            </a:r>
            <a:br>
              <a:rPr sz="1800"/>
            </a:br>
            <a:r>
              <a:rPr b="0" lang="en-US" sz="1800" spc="-1" strike="noStrike">
                <a:solidFill>
                  <a:srgbClr val="f6a108"/>
                </a:solidFill>
                <a:latin typeface="Arial"/>
              </a:rPr>
              <a:t>grade 1 pneumonitis</a:t>
            </a:r>
            <a:endParaRPr b="1"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03"/>
                                        </p:tgtEl>
                                        <p:attrNameLst>
                                          <p:attrName>style.visibility</p:attrName>
                                        </p:attrNameLst>
                                      </p:cBhvr>
                                      <p:to>
                                        <p:strVal val="visible"/>
                                      </p:to>
                                    </p:set>
                                    <p:anim calcmode="lin" valueType="num">
                                      <p:cBhvr additive="base">
                                        <p:cTn id="15" dur="500" fill="hold"/>
                                        <p:tgtEl>
                                          <p:spTgt spid="1303"/>
                                        </p:tgtEl>
                                        <p:attrNameLst>
                                          <p:attrName>ppt_x</p:attrName>
                                        </p:attrNameLst>
                                      </p:cBhvr>
                                      <p:tavLst>
                                        <p:tav tm="0">
                                          <p:val>
                                            <p:strVal val="#ppt_x"/>
                                          </p:val>
                                        </p:tav>
                                        <p:tav tm="100000">
                                          <p:val>
                                            <p:strVal val="#ppt_x"/>
                                          </p:val>
                                        </p:tav>
                                      </p:tavLst>
                                    </p:anim>
                                    <p:anim calcmode="lin" valueType="num">
                                      <p:cBhvr additive="base">
                                        <p:cTn id="16" dur="500" fill="hold"/>
                                        <p:tgtEl>
                                          <p:spTgt spid="1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82680" y="666360"/>
            <a:ext cx="8464320" cy="1103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Second-line Post-TKI Results</a:t>
            </a:r>
            <a:endParaRPr b="1" lang="en-US" sz="3200" spc="-1" strike="noStrike">
              <a:solidFill>
                <a:srgbClr val="f8f45a"/>
              </a:solidFill>
              <a:latin typeface="Arial"/>
            </a:endParaRPr>
          </a:p>
        </p:txBody>
      </p:sp>
      <p:graphicFrame>
        <p:nvGraphicFramePr>
          <p:cNvPr id="1305" name=""/>
          <p:cNvGraphicFramePr/>
          <p:nvPr/>
        </p:nvGraphicFramePr>
        <p:xfrm>
          <a:off x="393840" y="1914480"/>
          <a:ext cx="8462880" cy="3179880"/>
        </p:xfrm>
        <a:graphic>
          <a:graphicData uri="http://schemas.openxmlformats.org/drawingml/2006/table">
            <a:tbl>
              <a:tblPr/>
              <a:tblGrid>
                <a:gridCol w="1596960"/>
                <a:gridCol w="2409840"/>
                <a:gridCol w="1927080"/>
                <a:gridCol w="2529000"/>
              </a:tblGrid>
              <a:tr h="327240">
                <a:tc>
                  <a:txBody>
                    <a:bodyPr lIns="82800" rIns="82800" tIns="41400" bIns="41400" anchor="t">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Agent</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PFS, Mo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OS, Mo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Comment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r>
              <a:tr h="569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Everolimu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9</a:t>
                      </a:r>
                      <a:br>
                        <a:rPr sz="1600"/>
                      </a:br>
                      <a:r>
                        <a:rPr b="0" lang="en-US" sz="1600" spc="-1" strike="noStrike">
                          <a:solidFill>
                            <a:srgbClr val="000000"/>
                          </a:solidFill>
                          <a:latin typeface="Arial"/>
                          <a:ea typeface="ＭＳ Ｐゴシック"/>
                        </a:rPr>
                        <a:t>(5.4 in second line only)</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4.8</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econd and third line</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r h="326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Temsirolimus</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3</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2.3</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horter OS than sorafenib</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r>
              <a:tr h="5716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Axitinib</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8</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5.2</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ubstantially higher in non-sunitinib subgroup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r h="569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orafenib</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3.4 (AXIS)</a:t>
                      </a:r>
                      <a:br>
                        <a:rPr sz="1600"/>
                      </a:br>
                      <a:r>
                        <a:rPr b="0" lang="en-US" sz="1600" spc="-1" strike="noStrike">
                          <a:solidFill>
                            <a:srgbClr val="000000"/>
                          </a:solidFill>
                          <a:latin typeface="Arial"/>
                          <a:ea typeface="ＭＳ Ｐゴシック"/>
                        </a:rPr>
                        <a:t>3.9 (INTORSECT)</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6.5 (AXIS)</a:t>
                      </a:r>
                      <a:br>
                        <a:rPr sz="1600"/>
                      </a:br>
                      <a:r>
                        <a:rPr b="0" lang="en-US" sz="1600" spc="-1" strike="noStrike">
                          <a:solidFill>
                            <a:srgbClr val="000000"/>
                          </a:solidFill>
                          <a:latin typeface="Arial"/>
                          <a:ea typeface="ＭＳ Ｐゴシック"/>
                        </a:rPr>
                        <a:t>16.6 (INTORSECT)</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Consistent low PFS but high OS results</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r>
              <a:tr h="81432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Placebo</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9</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4.4</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80% crossover to everolimus </a:t>
                      </a:r>
                      <a:br>
                        <a:rPr sz="1600"/>
                      </a:br>
                      <a:r>
                        <a:rPr b="0" lang="en-US" sz="1600" spc="-1" strike="noStrike">
                          <a:solidFill>
                            <a:srgbClr val="000000"/>
                          </a:solidFill>
                          <a:latin typeface="Arial"/>
                          <a:ea typeface="ＭＳ Ｐゴシック"/>
                        </a:rPr>
                        <a:t>(5.0 mos PF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bl>
          </a:graphicData>
        </a:graphic>
      </p:graphicFrame>
      <p:sp>
        <p:nvSpPr>
          <p:cNvPr id="1306" name="Text Box 68"/>
          <p:cNvSpPr/>
          <p:nvPr/>
        </p:nvSpPr>
        <p:spPr>
          <a:xfrm>
            <a:off x="284040" y="6138720"/>
            <a:ext cx="661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Cancer. 2010;116:4256-4265. </a:t>
            </a:r>
            <a:r>
              <a:rPr b="0" lang="fr-FR" sz="1400" spc="-1" strike="noStrike">
                <a:solidFill>
                  <a:srgbClr val="cdcdcf"/>
                </a:solidFill>
                <a:latin typeface="Arial"/>
              </a:rPr>
              <a:t>Rini et al, Lancet Oncology. 2011;378:1931-1936. Hutson T, et al. ESMO 2012. Abstract LBA22.</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ERCY Quattro Trial in mRCC: OS</a:t>
            </a:r>
            <a:endParaRPr b="1" lang="en-US" sz="3200" spc="-1" strike="noStrike">
              <a:solidFill>
                <a:srgbClr val="f8f45a"/>
              </a:solidFill>
              <a:latin typeface="Arial"/>
            </a:endParaRPr>
          </a:p>
        </p:txBody>
      </p:sp>
      <p:sp>
        <p:nvSpPr>
          <p:cNvPr id="1308" name="Line 4"/>
          <p:cNvSpPr/>
          <p:nvPr/>
        </p:nvSpPr>
        <p:spPr>
          <a:xfrm>
            <a:off x="5680080" y="2712960"/>
            <a:ext cx="2286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9" name="Text Box 5"/>
          <p:cNvSpPr/>
          <p:nvPr/>
        </p:nvSpPr>
        <p:spPr>
          <a:xfrm>
            <a:off x="5911560" y="2552760"/>
            <a:ext cx="5068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ad2b"/>
                </a:solidFill>
                <a:latin typeface="Arial"/>
              </a:rPr>
              <a:t>IFN</a:t>
            </a:r>
            <a:endParaRPr b="1" lang="en-US" sz="1600" spc="-1" strike="noStrike">
              <a:solidFill>
                <a:srgbClr val="ffffff"/>
              </a:solidFill>
              <a:latin typeface="Arial"/>
            </a:endParaRPr>
          </a:p>
        </p:txBody>
      </p:sp>
      <p:sp>
        <p:nvSpPr>
          <p:cNvPr id="1310" name="Text Box 6"/>
          <p:cNvSpPr/>
          <p:nvPr/>
        </p:nvSpPr>
        <p:spPr>
          <a:xfrm>
            <a:off x="7536960" y="255276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ad2b"/>
                </a:solidFill>
                <a:latin typeface="Arial"/>
              </a:rPr>
              <a:t>15.2</a:t>
            </a:r>
            <a:endParaRPr b="1" lang="en-US" sz="1600" spc="-1" strike="noStrike">
              <a:solidFill>
                <a:srgbClr val="ffffff"/>
              </a:solidFill>
              <a:latin typeface="Arial"/>
            </a:endParaRPr>
          </a:p>
        </p:txBody>
      </p:sp>
      <p:sp>
        <p:nvSpPr>
          <p:cNvPr id="1311" name="Line 8"/>
          <p:cNvSpPr/>
          <p:nvPr/>
        </p:nvSpPr>
        <p:spPr>
          <a:xfrm>
            <a:off x="5680080" y="2365200"/>
            <a:ext cx="2286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2" name="Text Box 9"/>
          <p:cNvSpPr/>
          <p:nvPr/>
        </p:nvSpPr>
        <p:spPr>
          <a:xfrm>
            <a:off x="5909400" y="2205000"/>
            <a:ext cx="621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6a108"/>
                </a:solidFill>
                <a:latin typeface="Arial"/>
              </a:rPr>
              <a:t>MPA</a:t>
            </a:r>
            <a:endParaRPr b="1" lang="en-US" sz="1600" spc="-1" strike="noStrike">
              <a:solidFill>
                <a:srgbClr val="ffffff"/>
              </a:solidFill>
              <a:latin typeface="Arial"/>
            </a:endParaRPr>
          </a:p>
        </p:txBody>
      </p:sp>
      <p:sp>
        <p:nvSpPr>
          <p:cNvPr id="1313" name="Text Box 10"/>
          <p:cNvSpPr/>
          <p:nvPr/>
        </p:nvSpPr>
        <p:spPr>
          <a:xfrm>
            <a:off x="7536960" y="220500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6a108"/>
                </a:solidFill>
                <a:latin typeface="Arial"/>
              </a:rPr>
              <a:t>14.9</a:t>
            </a:r>
            <a:endParaRPr b="1" lang="en-US" sz="1600" spc="-1" strike="noStrike">
              <a:solidFill>
                <a:srgbClr val="ffffff"/>
              </a:solidFill>
              <a:latin typeface="Arial"/>
            </a:endParaRPr>
          </a:p>
        </p:txBody>
      </p:sp>
      <p:sp>
        <p:nvSpPr>
          <p:cNvPr id="1314" name="Line 13"/>
          <p:cNvSpPr/>
          <p:nvPr/>
        </p:nvSpPr>
        <p:spPr>
          <a:xfrm>
            <a:off x="5680080" y="3094200"/>
            <a:ext cx="2286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5" name="Text Box 14"/>
          <p:cNvSpPr/>
          <p:nvPr/>
        </p:nvSpPr>
        <p:spPr>
          <a:xfrm>
            <a:off x="5917680" y="2933640"/>
            <a:ext cx="529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aaace"/>
                </a:solidFill>
                <a:latin typeface="Arial"/>
              </a:rPr>
              <a:t>IL-2</a:t>
            </a:r>
            <a:endParaRPr b="1" lang="en-US" sz="1600" spc="-1" strike="noStrike">
              <a:solidFill>
                <a:srgbClr val="ffffff"/>
              </a:solidFill>
              <a:latin typeface="Arial"/>
            </a:endParaRPr>
          </a:p>
        </p:txBody>
      </p:sp>
      <p:sp>
        <p:nvSpPr>
          <p:cNvPr id="1316" name="Text Box 15"/>
          <p:cNvSpPr/>
          <p:nvPr/>
        </p:nvSpPr>
        <p:spPr>
          <a:xfrm>
            <a:off x="7536960" y="293364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aaace"/>
                </a:solidFill>
                <a:latin typeface="Arial"/>
              </a:rPr>
              <a:t>15.3</a:t>
            </a:r>
            <a:endParaRPr b="1" lang="en-US" sz="1600" spc="-1" strike="noStrike">
              <a:solidFill>
                <a:srgbClr val="ffffff"/>
              </a:solidFill>
              <a:latin typeface="Arial"/>
            </a:endParaRPr>
          </a:p>
        </p:txBody>
      </p:sp>
      <p:sp>
        <p:nvSpPr>
          <p:cNvPr id="1317" name="Line 16"/>
          <p:cNvSpPr/>
          <p:nvPr/>
        </p:nvSpPr>
        <p:spPr>
          <a:xfrm>
            <a:off x="5680080" y="3475080"/>
            <a:ext cx="2286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8" name="Text Box 17"/>
          <p:cNvSpPr/>
          <p:nvPr/>
        </p:nvSpPr>
        <p:spPr>
          <a:xfrm>
            <a:off x="5915880" y="3314880"/>
            <a:ext cx="1087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45a"/>
                </a:solidFill>
                <a:latin typeface="Arial"/>
              </a:rPr>
              <a:t>IFN + IL-2</a:t>
            </a:r>
            <a:endParaRPr b="1" lang="en-US" sz="1600" spc="-1" strike="noStrike">
              <a:solidFill>
                <a:srgbClr val="ffffff"/>
              </a:solidFill>
              <a:latin typeface="Arial"/>
            </a:endParaRPr>
          </a:p>
        </p:txBody>
      </p:sp>
      <p:sp>
        <p:nvSpPr>
          <p:cNvPr id="1319" name="Text Box 18"/>
          <p:cNvSpPr/>
          <p:nvPr/>
        </p:nvSpPr>
        <p:spPr>
          <a:xfrm>
            <a:off x="7536960" y="331488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45a"/>
                </a:solidFill>
                <a:latin typeface="Arial"/>
              </a:rPr>
              <a:t>16.8</a:t>
            </a:r>
            <a:endParaRPr b="1" lang="en-US" sz="1600" spc="-1" strike="noStrike">
              <a:solidFill>
                <a:srgbClr val="ffffff"/>
              </a:solidFill>
              <a:latin typeface="Arial"/>
            </a:endParaRPr>
          </a:p>
        </p:txBody>
      </p:sp>
      <p:sp>
        <p:nvSpPr>
          <p:cNvPr id="1320" name="Freeform 3"/>
          <p:cNvSpPr/>
          <p:nvPr/>
        </p:nvSpPr>
        <p:spPr>
          <a:xfrm>
            <a:off x="1305000" y="1998720"/>
            <a:ext cx="7081920" cy="2998800"/>
          </a:xfrm>
          <a:custGeom>
            <a:avLst/>
            <a:gdLst>
              <a:gd name="textAreaLeft" fmla="*/ 0 w 7081920"/>
              <a:gd name="textAreaRight" fmla="*/ 7082280 w 7081920"/>
              <a:gd name="textAreaTop" fmla="*/ 0 h 2998800"/>
              <a:gd name="textAreaBottom" fmla="*/ 2999160 h 2998800"/>
            </a:gdLst>
            <a:ahLst/>
            <a:rect l="textAreaLeft" t="textAreaTop" r="textAreaRight" b="textAreaBottom"/>
            <a:pathLst>
              <a:path w="4461" h="2148">
                <a:moveTo>
                  <a:pt x="4461" y="2148"/>
                </a:moveTo>
                <a:lnTo>
                  <a:pt x="4461" y="1956"/>
                </a:lnTo>
                <a:lnTo>
                  <a:pt x="3594" y="1956"/>
                </a:lnTo>
                <a:lnTo>
                  <a:pt x="3594" y="1905"/>
                </a:lnTo>
                <a:lnTo>
                  <a:pt x="3381" y="1905"/>
                </a:lnTo>
                <a:lnTo>
                  <a:pt x="3381" y="1851"/>
                </a:lnTo>
                <a:lnTo>
                  <a:pt x="3237" y="1851"/>
                </a:lnTo>
                <a:lnTo>
                  <a:pt x="3237" y="1809"/>
                </a:lnTo>
                <a:lnTo>
                  <a:pt x="3060" y="1809"/>
                </a:lnTo>
                <a:lnTo>
                  <a:pt x="3060" y="1776"/>
                </a:lnTo>
                <a:lnTo>
                  <a:pt x="3036" y="1776"/>
                </a:lnTo>
                <a:lnTo>
                  <a:pt x="3036" y="1728"/>
                </a:lnTo>
                <a:lnTo>
                  <a:pt x="3018" y="1731"/>
                </a:lnTo>
                <a:lnTo>
                  <a:pt x="3018" y="1695"/>
                </a:lnTo>
                <a:lnTo>
                  <a:pt x="2523" y="1695"/>
                </a:lnTo>
                <a:lnTo>
                  <a:pt x="2523" y="1659"/>
                </a:lnTo>
                <a:lnTo>
                  <a:pt x="2457" y="1659"/>
                </a:lnTo>
                <a:lnTo>
                  <a:pt x="2457" y="1626"/>
                </a:lnTo>
                <a:lnTo>
                  <a:pt x="2391" y="1626"/>
                </a:lnTo>
                <a:lnTo>
                  <a:pt x="2391" y="1593"/>
                </a:lnTo>
                <a:lnTo>
                  <a:pt x="2310" y="1593"/>
                </a:lnTo>
                <a:lnTo>
                  <a:pt x="2310" y="1557"/>
                </a:lnTo>
                <a:lnTo>
                  <a:pt x="2172" y="1557"/>
                </a:lnTo>
                <a:lnTo>
                  <a:pt x="2172" y="1533"/>
                </a:lnTo>
                <a:lnTo>
                  <a:pt x="2106" y="1533"/>
                </a:lnTo>
                <a:lnTo>
                  <a:pt x="2106" y="1503"/>
                </a:lnTo>
                <a:lnTo>
                  <a:pt x="2085" y="1503"/>
                </a:lnTo>
                <a:lnTo>
                  <a:pt x="2085" y="1470"/>
                </a:lnTo>
                <a:lnTo>
                  <a:pt x="1986" y="1470"/>
                </a:lnTo>
                <a:lnTo>
                  <a:pt x="1983" y="1437"/>
                </a:lnTo>
                <a:lnTo>
                  <a:pt x="1920" y="1437"/>
                </a:lnTo>
                <a:lnTo>
                  <a:pt x="1920" y="1401"/>
                </a:lnTo>
                <a:lnTo>
                  <a:pt x="1779" y="1401"/>
                </a:lnTo>
                <a:lnTo>
                  <a:pt x="1779" y="1371"/>
                </a:lnTo>
                <a:lnTo>
                  <a:pt x="1689" y="1371"/>
                </a:lnTo>
                <a:lnTo>
                  <a:pt x="1689" y="1338"/>
                </a:lnTo>
                <a:lnTo>
                  <a:pt x="1668" y="1336"/>
                </a:lnTo>
                <a:lnTo>
                  <a:pt x="1668" y="1296"/>
                </a:lnTo>
                <a:cubicBezTo>
                  <a:pt x="1622" y="1296"/>
                  <a:pt x="1576" y="1296"/>
                  <a:pt x="1530" y="1296"/>
                </a:cubicBezTo>
                <a:lnTo>
                  <a:pt x="1530" y="1257"/>
                </a:lnTo>
                <a:lnTo>
                  <a:pt x="1422" y="1257"/>
                </a:lnTo>
                <a:lnTo>
                  <a:pt x="1422" y="1223"/>
                </a:lnTo>
                <a:lnTo>
                  <a:pt x="1377" y="1223"/>
                </a:lnTo>
                <a:lnTo>
                  <a:pt x="1377" y="1197"/>
                </a:lnTo>
                <a:lnTo>
                  <a:pt x="1354" y="1197"/>
                </a:lnTo>
                <a:lnTo>
                  <a:pt x="1354" y="1137"/>
                </a:lnTo>
                <a:lnTo>
                  <a:pt x="1326" y="1137"/>
                </a:lnTo>
                <a:lnTo>
                  <a:pt x="1326" y="1092"/>
                </a:lnTo>
                <a:lnTo>
                  <a:pt x="1305" y="1092"/>
                </a:lnTo>
                <a:lnTo>
                  <a:pt x="1305" y="1011"/>
                </a:lnTo>
                <a:lnTo>
                  <a:pt x="1179" y="1011"/>
                </a:lnTo>
                <a:lnTo>
                  <a:pt x="1129" y="924"/>
                </a:lnTo>
                <a:lnTo>
                  <a:pt x="1101" y="924"/>
                </a:lnTo>
                <a:lnTo>
                  <a:pt x="1101" y="894"/>
                </a:lnTo>
                <a:lnTo>
                  <a:pt x="1038" y="894"/>
                </a:lnTo>
                <a:lnTo>
                  <a:pt x="1038" y="867"/>
                </a:lnTo>
                <a:lnTo>
                  <a:pt x="993" y="867"/>
                </a:lnTo>
                <a:lnTo>
                  <a:pt x="993" y="831"/>
                </a:lnTo>
                <a:lnTo>
                  <a:pt x="960" y="831"/>
                </a:lnTo>
                <a:lnTo>
                  <a:pt x="960" y="810"/>
                </a:lnTo>
                <a:lnTo>
                  <a:pt x="909" y="810"/>
                </a:lnTo>
                <a:lnTo>
                  <a:pt x="891" y="741"/>
                </a:lnTo>
                <a:lnTo>
                  <a:pt x="867" y="741"/>
                </a:lnTo>
                <a:lnTo>
                  <a:pt x="867" y="669"/>
                </a:lnTo>
                <a:lnTo>
                  <a:pt x="813" y="669"/>
                </a:lnTo>
                <a:lnTo>
                  <a:pt x="813" y="624"/>
                </a:lnTo>
                <a:lnTo>
                  <a:pt x="720" y="624"/>
                </a:lnTo>
                <a:lnTo>
                  <a:pt x="720" y="549"/>
                </a:lnTo>
                <a:lnTo>
                  <a:pt x="675" y="549"/>
                </a:lnTo>
                <a:lnTo>
                  <a:pt x="677" y="531"/>
                </a:lnTo>
                <a:lnTo>
                  <a:pt x="630" y="531"/>
                </a:lnTo>
                <a:lnTo>
                  <a:pt x="603" y="468"/>
                </a:lnTo>
                <a:lnTo>
                  <a:pt x="597" y="445"/>
                </a:lnTo>
                <a:lnTo>
                  <a:pt x="483" y="445"/>
                </a:lnTo>
                <a:lnTo>
                  <a:pt x="456" y="393"/>
                </a:lnTo>
                <a:lnTo>
                  <a:pt x="417" y="393"/>
                </a:lnTo>
                <a:lnTo>
                  <a:pt x="417" y="354"/>
                </a:lnTo>
                <a:lnTo>
                  <a:pt x="315" y="354"/>
                </a:lnTo>
                <a:lnTo>
                  <a:pt x="315" y="303"/>
                </a:lnTo>
                <a:lnTo>
                  <a:pt x="210" y="303"/>
                </a:lnTo>
                <a:lnTo>
                  <a:pt x="210" y="273"/>
                </a:lnTo>
                <a:lnTo>
                  <a:pt x="186" y="273"/>
                </a:lnTo>
                <a:lnTo>
                  <a:pt x="162" y="180"/>
                </a:lnTo>
                <a:lnTo>
                  <a:pt x="132" y="180"/>
                </a:lnTo>
                <a:lnTo>
                  <a:pt x="135" y="153"/>
                </a:lnTo>
                <a:lnTo>
                  <a:pt x="113" y="159"/>
                </a:lnTo>
                <a:lnTo>
                  <a:pt x="60" y="67"/>
                </a:lnTo>
                <a:lnTo>
                  <a:pt x="60" y="30"/>
                </a:lnTo>
                <a:lnTo>
                  <a:pt x="36" y="30"/>
                </a:lnTo>
                <a:lnTo>
                  <a:pt x="36" y="0"/>
                </a:lnTo>
                <a:lnTo>
                  <a:pt x="0" y="0"/>
                </a:lnTo>
              </a:path>
            </a:pathLst>
          </a:custGeom>
          <a:noFill/>
          <a:ln w="28440">
            <a:solidFill>
              <a:srgbClr val="12ad2b"/>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1" name="Freeform 7"/>
          <p:cNvSpPr/>
          <p:nvPr/>
        </p:nvSpPr>
        <p:spPr>
          <a:xfrm>
            <a:off x="1305000" y="1998720"/>
            <a:ext cx="6381720" cy="2932200"/>
          </a:xfrm>
          <a:custGeom>
            <a:avLst/>
            <a:gdLst/>
            <a:ahLst/>
            <a:rect l="l" t="t" r="r" b="b"/>
            <a:pathLst>
              <a:path w="10000" h="10000">
                <a:moveTo>
                  <a:pt x="10000" y="10000"/>
                </a:moveTo>
                <a:lnTo>
                  <a:pt x="10000" y="9629"/>
                </a:lnTo>
                <a:cubicBezTo>
                  <a:pt x="9981" y="9638"/>
                  <a:pt x="9962" y="9648"/>
                  <a:pt x="9943" y="9657"/>
                </a:cubicBezTo>
                <a:lnTo>
                  <a:pt x="9943" y="9171"/>
                </a:lnTo>
                <a:lnTo>
                  <a:pt x="9157" y="9171"/>
                </a:lnTo>
                <a:lnTo>
                  <a:pt x="9157" y="8929"/>
                </a:lnTo>
                <a:lnTo>
                  <a:pt x="7866" y="8929"/>
                </a:lnTo>
                <a:lnTo>
                  <a:pt x="7866" y="8657"/>
                </a:lnTo>
                <a:lnTo>
                  <a:pt x="7343" y="8657"/>
                </a:lnTo>
                <a:lnTo>
                  <a:pt x="7343" y="8500"/>
                </a:lnTo>
                <a:lnTo>
                  <a:pt x="7000" y="8500"/>
                </a:lnTo>
                <a:lnTo>
                  <a:pt x="7000" y="8286"/>
                </a:lnTo>
                <a:lnTo>
                  <a:pt x="6619" y="8286"/>
                </a:lnTo>
                <a:lnTo>
                  <a:pt x="6619" y="8057"/>
                </a:lnTo>
                <a:lnTo>
                  <a:pt x="6478" y="8057"/>
                </a:lnTo>
                <a:lnTo>
                  <a:pt x="6478" y="7943"/>
                </a:lnTo>
                <a:lnTo>
                  <a:pt x="5769" y="7943"/>
                </a:lnTo>
                <a:lnTo>
                  <a:pt x="5769" y="7786"/>
                </a:lnTo>
                <a:lnTo>
                  <a:pt x="5657" y="7786"/>
                </a:lnTo>
                <a:lnTo>
                  <a:pt x="5657" y="7643"/>
                </a:lnTo>
                <a:lnTo>
                  <a:pt x="5112" y="7643"/>
                </a:lnTo>
                <a:lnTo>
                  <a:pt x="5112" y="7514"/>
                </a:lnTo>
                <a:lnTo>
                  <a:pt x="4973" y="7529"/>
                </a:lnTo>
                <a:cubicBezTo>
                  <a:pt x="4873" y="7124"/>
                  <a:pt x="4873" y="7276"/>
                  <a:pt x="4873" y="7114"/>
                </a:cubicBezTo>
                <a:lnTo>
                  <a:pt x="4724" y="7114"/>
                </a:lnTo>
                <a:lnTo>
                  <a:pt x="4724" y="7014"/>
                </a:lnTo>
                <a:lnTo>
                  <a:pt x="4560" y="7014"/>
                </a:lnTo>
                <a:cubicBezTo>
                  <a:pt x="4562" y="6976"/>
                  <a:pt x="4565" y="6938"/>
                  <a:pt x="4567" y="6900"/>
                </a:cubicBezTo>
                <a:cubicBezTo>
                  <a:pt x="4548" y="6910"/>
                  <a:pt x="4529" y="6919"/>
                  <a:pt x="4510" y="6929"/>
                </a:cubicBezTo>
                <a:cubicBezTo>
                  <a:pt x="4502" y="6902"/>
                  <a:pt x="4493" y="6875"/>
                  <a:pt x="4485" y="6848"/>
                </a:cubicBezTo>
                <a:lnTo>
                  <a:pt x="4388" y="6848"/>
                </a:lnTo>
                <a:lnTo>
                  <a:pt x="4388" y="6686"/>
                </a:lnTo>
                <a:lnTo>
                  <a:pt x="4276" y="6686"/>
                </a:lnTo>
                <a:lnTo>
                  <a:pt x="4276" y="6529"/>
                </a:lnTo>
                <a:lnTo>
                  <a:pt x="4157" y="6529"/>
                </a:lnTo>
                <a:lnTo>
                  <a:pt x="4157" y="6443"/>
                </a:lnTo>
                <a:lnTo>
                  <a:pt x="3948" y="6443"/>
                </a:lnTo>
                <a:lnTo>
                  <a:pt x="3948" y="6329"/>
                </a:lnTo>
                <a:lnTo>
                  <a:pt x="3896" y="6329"/>
                </a:lnTo>
                <a:lnTo>
                  <a:pt x="3896" y="6219"/>
                </a:lnTo>
                <a:lnTo>
                  <a:pt x="3784" y="6219"/>
                </a:lnTo>
                <a:lnTo>
                  <a:pt x="3784" y="6114"/>
                </a:lnTo>
                <a:lnTo>
                  <a:pt x="3694" y="6114"/>
                </a:lnTo>
                <a:lnTo>
                  <a:pt x="3694" y="6029"/>
                </a:lnTo>
                <a:lnTo>
                  <a:pt x="3552" y="6029"/>
                </a:lnTo>
                <a:lnTo>
                  <a:pt x="3552" y="5900"/>
                </a:lnTo>
                <a:lnTo>
                  <a:pt x="3410" y="5900"/>
                </a:lnTo>
                <a:lnTo>
                  <a:pt x="3410" y="5700"/>
                </a:lnTo>
                <a:lnTo>
                  <a:pt x="3328" y="5700"/>
                </a:lnTo>
                <a:lnTo>
                  <a:pt x="3328" y="5586"/>
                </a:lnTo>
                <a:lnTo>
                  <a:pt x="3269" y="5586"/>
                </a:lnTo>
                <a:lnTo>
                  <a:pt x="3269" y="5457"/>
                </a:lnTo>
                <a:cubicBezTo>
                  <a:pt x="3251" y="5452"/>
                  <a:pt x="3234" y="5448"/>
                  <a:pt x="3216" y="5443"/>
                </a:cubicBezTo>
                <a:cubicBezTo>
                  <a:pt x="3206" y="5376"/>
                  <a:pt x="3209" y="5410"/>
                  <a:pt x="3209" y="5343"/>
                </a:cubicBezTo>
                <a:lnTo>
                  <a:pt x="3052" y="5343"/>
                </a:lnTo>
                <a:lnTo>
                  <a:pt x="3052" y="5229"/>
                </a:lnTo>
                <a:lnTo>
                  <a:pt x="2843" y="5229"/>
                </a:lnTo>
                <a:lnTo>
                  <a:pt x="2843" y="4829"/>
                </a:lnTo>
                <a:cubicBezTo>
                  <a:pt x="2821" y="4803"/>
                  <a:pt x="2798" y="4829"/>
                  <a:pt x="2776" y="4803"/>
                </a:cubicBezTo>
                <a:cubicBezTo>
                  <a:pt x="2754" y="4797"/>
                  <a:pt x="2731" y="4792"/>
                  <a:pt x="2709" y="4786"/>
                </a:cubicBezTo>
                <a:cubicBezTo>
                  <a:pt x="2702" y="4730"/>
                  <a:pt x="2694" y="4675"/>
                  <a:pt x="2687" y="4619"/>
                </a:cubicBezTo>
                <a:lnTo>
                  <a:pt x="2612" y="4619"/>
                </a:lnTo>
                <a:lnTo>
                  <a:pt x="2336" y="4562"/>
                </a:lnTo>
                <a:lnTo>
                  <a:pt x="2336" y="4371"/>
                </a:lnTo>
                <a:cubicBezTo>
                  <a:pt x="2321" y="4343"/>
                  <a:pt x="2306" y="4314"/>
                  <a:pt x="2291" y="4286"/>
                </a:cubicBezTo>
                <a:cubicBezTo>
                  <a:pt x="2294" y="4253"/>
                  <a:pt x="2296" y="4219"/>
                  <a:pt x="2299" y="4186"/>
                </a:cubicBezTo>
                <a:lnTo>
                  <a:pt x="2209" y="4186"/>
                </a:lnTo>
                <a:lnTo>
                  <a:pt x="2209" y="4086"/>
                </a:lnTo>
                <a:lnTo>
                  <a:pt x="2030" y="4086"/>
                </a:lnTo>
                <a:lnTo>
                  <a:pt x="2030" y="3786"/>
                </a:lnTo>
                <a:cubicBezTo>
                  <a:pt x="2015" y="3757"/>
                  <a:pt x="2000" y="3729"/>
                  <a:pt x="1985" y="3700"/>
                </a:cubicBezTo>
                <a:lnTo>
                  <a:pt x="1985" y="3529"/>
                </a:lnTo>
                <a:lnTo>
                  <a:pt x="1888" y="3529"/>
                </a:lnTo>
                <a:lnTo>
                  <a:pt x="1888" y="3400"/>
                </a:lnTo>
                <a:cubicBezTo>
                  <a:pt x="1856" y="3405"/>
                  <a:pt x="1823" y="3409"/>
                  <a:pt x="1791" y="3414"/>
                </a:cubicBezTo>
                <a:lnTo>
                  <a:pt x="1791" y="3243"/>
                </a:lnTo>
                <a:lnTo>
                  <a:pt x="1731" y="3243"/>
                </a:lnTo>
                <a:lnTo>
                  <a:pt x="1731" y="3143"/>
                </a:lnTo>
                <a:lnTo>
                  <a:pt x="1657" y="3143"/>
                </a:lnTo>
                <a:lnTo>
                  <a:pt x="1545" y="3143"/>
                </a:lnTo>
                <a:lnTo>
                  <a:pt x="1545" y="2886"/>
                </a:lnTo>
                <a:cubicBezTo>
                  <a:pt x="1526" y="2895"/>
                  <a:pt x="1507" y="2905"/>
                  <a:pt x="1488" y="2914"/>
                </a:cubicBezTo>
                <a:cubicBezTo>
                  <a:pt x="1477" y="2866"/>
                  <a:pt x="1466" y="2819"/>
                  <a:pt x="1455" y="2771"/>
                </a:cubicBezTo>
                <a:cubicBezTo>
                  <a:pt x="1435" y="2762"/>
                  <a:pt x="1416" y="2752"/>
                  <a:pt x="1396" y="2743"/>
                </a:cubicBezTo>
                <a:cubicBezTo>
                  <a:pt x="1401" y="2705"/>
                  <a:pt x="1405" y="2667"/>
                  <a:pt x="1410" y="2629"/>
                </a:cubicBezTo>
                <a:lnTo>
                  <a:pt x="1239" y="2629"/>
                </a:lnTo>
                <a:cubicBezTo>
                  <a:pt x="1229" y="2553"/>
                  <a:pt x="1219" y="2476"/>
                  <a:pt x="1209" y="2400"/>
                </a:cubicBezTo>
                <a:lnTo>
                  <a:pt x="1134" y="2319"/>
                </a:lnTo>
                <a:cubicBezTo>
                  <a:pt x="1124" y="2286"/>
                  <a:pt x="1114" y="2252"/>
                  <a:pt x="1104" y="2219"/>
                </a:cubicBezTo>
                <a:lnTo>
                  <a:pt x="1104" y="1943"/>
                </a:lnTo>
                <a:cubicBezTo>
                  <a:pt x="1087" y="1878"/>
                  <a:pt x="1069" y="1813"/>
                  <a:pt x="1052" y="1748"/>
                </a:cubicBezTo>
                <a:cubicBezTo>
                  <a:pt x="1000" y="1600"/>
                  <a:pt x="1000" y="1548"/>
                  <a:pt x="1000" y="1614"/>
                </a:cubicBezTo>
                <a:lnTo>
                  <a:pt x="925" y="1614"/>
                </a:lnTo>
                <a:lnTo>
                  <a:pt x="925" y="1429"/>
                </a:lnTo>
                <a:lnTo>
                  <a:pt x="851" y="1429"/>
                </a:lnTo>
                <a:lnTo>
                  <a:pt x="851" y="1314"/>
                </a:lnTo>
                <a:lnTo>
                  <a:pt x="761" y="1314"/>
                </a:lnTo>
                <a:lnTo>
                  <a:pt x="761" y="1100"/>
                </a:lnTo>
                <a:cubicBezTo>
                  <a:pt x="729" y="1105"/>
                  <a:pt x="696" y="1109"/>
                  <a:pt x="664" y="1114"/>
                </a:cubicBezTo>
                <a:cubicBezTo>
                  <a:pt x="667" y="1071"/>
                  <a:pt x="669" y="1029"/>
                  <a:pt x="672" y="986"/>
                </a:cubicBezTo>
                <a:cubicBezTo>
                  <a:pt x="669" y="929"/>
                  <a:pt x="667" y="871"/>
                  <a:pt x="664" y="814"/>
                </a:cubicBezTo>
                <a:lnTo>
                  <a:pt x="575" y="814"/>
                </a:lnTo>
                <a:cubicBezTo>
                  <a:pt x="577" y="771"/>
                  <a:pt x="580" y="729"/>
                  <a:pt x="582" y="686"/>
                </a:cubicBezTo>
                <a:lnTo>
                  <a:pt x="515" y="686"/>
                </a:lnTo>
                <a:cubicBezTo>
                  <a:pt x="517" y="638"/>
                  <a:pt x="520" y="591"/>
                  <a:pt x="522" y="543"/>
                </a:cubicBezTo>
                <a:cubicBezTo>
                  <a:pt x="512" y="510"/>
                  <a:pt x="503" y="476"/>
                  <a:pt x="493" y="443"/>
                </a:cubicBezTo>
                <a:lnTo>
                  <a:pt x="328" y="471"/>
                </a:lnTo>
                <a:cubicBezTo>
                  <a:pt x="326" y="400"/>
                  <a:pt x="323" y="328"/>
                  <a:pt x="321" y="257"/>
                </a:cubicBezTo>
                <a:lnTo>
                  <a:pt x="254" y="229"/>
                </a:lnTo>
                <a:lnTo>
                  <a:pt x="254" y="114"/>
                </a:lnTo>
                <a:lnTo>
                  <a:pt x="201" y="129"/>
                </a:lnTo>
                <a:cubicBezTo>
                  <a:pt x="199" y="86"/>
                  <a:pt x="196" y="43"/>
                  <a:pt x="194" y="0"/>
                </a:cubicBezTo>
                <a:lnTo>
                  <a:pt x="0" y="0"/>
                </a:lnTo>
              </a:path>
            </a:pathLst>
          </a:custGeom>
          <a:noFill/>
          <a:ln w="28440">
            <a:solidFill>
              <a:srgbClr val="f6a108"/>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2" name="Freeform 11"/>
          <p:cNvSpPr/>
          <p:nvPr/>
        </p:nvSpPr>
        <p:spPr>
          <a:xfrm>
            <a:off x="1295280" y="1990800"/>
            <a:ext cx="5462640" cy="2919240"/>
          </a:xfrm>
          <a:custGeom>
            <a:avLst/>
            <a:gdLst>
              <a:gd name="textAreaLeft" fmla="*/ 0 w 5462640"/>
              <a:gd name="textAreaRight" fmla="*/ 5463000 w 5462640"/>
              <a:gd name="textAreaTop" fmla="*/ 0 h 2919240"/>
              <a:gd name="textAreaBottom" fmla="*/ 2919600 h 2919240"/>
            </a:gdLst>
            <a:ahLst/>
            <a:rect l="textAreaLeft" t="textAreaTop" r="textAreaRight" b="textAreaBottom"/>
            <a:pathLst>
              <a:path w="3441" h="2091">
                <a:moveTo>
                  <a:pt x="3441" y="2091"/>
                </a:moveTo>
                <a:lnTo>
                  <a:pt x="3441" y="2034"/>
                </a:lnTo>
                <a:lnTo>
                  <a:pt x="3372" y="2034"/>
                </a:lnTo>
                <a:lnTo>
                  <a:pt x="3372" y="1992"/>
                </a:lnTo>
                <a:lnTo>
                  <a:pt x="2904" y="1992"/>
                </a:lnTo>
                <a:lnTo>
                  <a:pt x="2904" y="1947"/>
                </a:lnTo>
                <a:lnTo>
                  <a:pt x="2859" y="1947"/>
                </a:lnTo>
                <a:lnTo>
                  <a:pt x="2859" y="1860"/>
                </a:lnTo>
                <a:lnTo>
                  <a:pt x="2682" y="1860"/>
                </a:lnTo>
                <a:lnTo>
                  <a:pt x="2682" y="1809"/>
                </a:lnTo>
                <a:lnTo>
                  <a:pt x="2568" y="1809"/>
                </a:lnTo>
                <a:lnTo>
                  <a:pt x="2568" y="1779"/>
                </a:lnTo>
                <a:lnTo>
                  <a:pt x="2547" y="1776"/>
                </a:lnTo>
                <a:lnTo>
                  <a:pt x="2547" y="1734"/>
                </a:lnTo>
                <a:lnTo>
                  <a:pt x="2271" y="1734"/>
                </a:lnTo>
                <a:lnTo>
                  <a:pt x="2271" y="1698"/>
                </a:lnTo>
                <a:lnTo>
                  <a:pt x="2040" y="1698"/>
                </a:lnTo>
                <a:lnTo>
                  <a:pt x="2040" y="1668"/>
                </a:lnTo>
                <a:lnTo>
                  <a:pt x="2013" y="1671"/>
                </a:lnTo>
                <a:lnTo>
                  <a:pt x="2013" y="1584"/>
                </a:lnTo>
                <a:lnTo>
                  <a:pt x="1992" y="1584"/>
                </a:lnTo>
                <a:lnTo>
                  <a:pt x="1995" y="1562"/>
                </a:lnTo>
                <a:lnTo>
                  <a:pt x="1905" y="1562"/>
                </a:lnTo>
                <a:lnTo>
                  <a:pt x="1905" y="1470"/>
                </a:lnTo>
                <a:lnTo>
                  <a:pt x="1809" y="1470"/>
                </a:lnTo>
                <a:lnTo>
                  <a:pt x="1809" y="1434"/>
                </a:lnTo>
                <a:lnTo>
                  <a:pt x="1788" y="1437"/>
                </a:lnTo>
                <a:lnTo>
                  <a:pt x="1788" y="1386"/>
                </a:lnTo>
                <a:lnTo>
                  <a:pt x="1680" y="1386"/>
                </a:lnTo>
                <a:lnTo>
                  <a:pt x="1680" y="1350"/>
                </a:lnTo>
                <a:lnTo>
                  <a:pt x="1590" y="1350"/>
                </a:lnTo>
                <a:cubicBezTo>
                  <a:pt x="1584" y="1300"/>
                  <a:pt x="1579" y="1318"/>
                  <a:pt x="1587" y="1293"/>
                </a:cubicBezTo>
                <a:lnTo>
                  <a:pt x="1539" y="1293"/>
                </a:lnTo>
                <a:lnTo>
                  <a:pt x="1503" y="1257"/>
                </a:lnTo>
                <a:lnTo>
                  <a:pt x="1428" y="1257"/>
                </a:lnTo>
                <a:lnTo>
                  <a:pt x="1428" y="1218"/>
                </a:lnTo>
                <a:lnTo>
                  <a:pt x="1407" y="1218"/>
                </a:lnTo>
                <a:lnTo>
                  <a:pt x="1407" y="1191"/>
                </a:lnTo>
                <a:lnTo>
                  <a:pt x="1374" y="1191"/>
                </a:lnTo>
                <a:lnTo>
                  <a:pt x="1374" y="1164"/>
                </a:lnTo>
                <a:lnTo>
                  <a:pt x="1335" y="1161"/>
                </a:lnTo>
                <a:lnTo>
                  <a:pt x="1335" y="1089"/>
                </a:lnTo>
                <a:lnTo>
                  <a:pt x="1299" y="1089"/>
                </a:lnTo>
                <a:lnTo>
                  <a:pt x="1299" y="1020"/>
                </a:lnTo>
                <a:lnTo>
                  <a:pt x="1233" y="1020"/>
                </a:lnTo>
                <a:lnTo>
                  <a:pt x="1233" y="978"/>
                </a:lnTo>
                <a:lnTo>
                  <a:pt x="1188" y="978"/>
                </a:lnTo>
                <a:lnTo>
                  <a:pt x="1188" y="915"/>
                </a:lnTo>
                <a:lnTo>
                  <a:pt x="1140" y="915"/>
                </a:lnTo>
                <a:lnTo>
                  <a:pt x="1140" y="882"/>
                </a:lnTo>
                <a:lnTo>
                  <a:pt x="1122" y="882"/>
                </a:lnTo>
                <a:lnTo>
                  <a:pt x="1122" y="852"/>
                </a:lnTo>
                <a:lnTo>
                  <a:pt x="1065" y="852"/>
                </a:lnTo>
                <a:lnTo>
                  <a:pt x="1065" y="831"/>
                </a:lnTo>
                <a:lnTo>
                  <a:pt x="1032" y="831"/>
                </a:lnTo>
                <a:lnTo>
                  <a:pt x="1032" y="810"/>
                </a:lnTo>
                <a:lnTo>
                  <a:pt x="990" y="810"/>
                </a:lnTo>
                <a:lnTo>
                  <a:pt x="990" y="768"/>
                </a:lnTo>
                <a:lnTo>
                  <a:pt x="969" y="768"/>
                </a:lnTo>
                <a:lnTo>
                  <a:pt x="975" y="747"/>
                </a:lnTo>
                <a:lnTo>
                  <a:pt x="924" y="747"/>
                </a:lnTo>
                <a:lnTo>
                  <a:pt x="930" y="724"/>
                </a:lnTo>
                <a:lnTo>
                  <a:pt x="873" y="724"/>
                </a:lnTo>
                <a:lnTo>
                  <a:pt x="873" y="675"/>
                </a:lnTo>
                <a:lnTo>
                  <a:pt x="750" y="675"/>
                </a:lnTo>
                <a:lnTo>
                  <a:pt x="735" y="660"/>
                </a:lnTo>
                <a:lnTo>
                  <a:pt x="735" y="597"/>
                </a:lnTo>
                <a:lnTo>
                  <a:pt x="666" y="597"/>
                </a:lnTo>
                <a:lnTo>
                  <a:pt x="648" y="529"/>
                </a:lnTo>
                <a:lnTo>
                  <a:pt x="622" y="522"/>
                </a:lnTo>
                <a:lnTo>
                  <a:pt x="606" y="495"/>
                </a:lnTo>
                <a:lnTo>
                  <a:pt x="528" y="495"/>
                </a:lnTo>
                <a:lnTo>
                  <a:pt x="495" y="483"/>
                </a:lnTo>
                <a:lnTo>
                  <a:pt x="464" y="462"/>
                </a:lnTo>
                <a:lnTo>
                  <a:pt x="318" y="270"/>
                </a:lnTo>
                <a:lnTo>
                  <a:pt x="315" y="219"/>
                </a:lnTo>
                <a:lnTo>
                  <a:pt x="249" y="216"/>
                </a:lnTo>
                <a:lnTo>
                  <a:pt x="252" y="171"/>
                </a:lnTo>
                <a:lnTo>
                  <a:pt x="228" y="171"/>
                </a:lnTo>
                <a:lnTo>
                  <a:pt x="228" y="150"/>
                </a:lnTo>
                <a:lnTo>
                  <a:pt x="210" y="141"/>
                </a:lnTo>
                <a:lnTo>
                  <a:pt x="207" y="96"/>
                </a:lnTo>
                <a:lnTo>
                  <a:pt x="177" y="99"/>
                </a:lnTo>
                <a:lnTo>
                  <a:pt x="180" y="60"/>
                </a:lnTo>
                <a:lnTo>
                  <a:pt x="135" y="60"/>
                </a:lnTo>
                <a:lnTo>
                  <a:pt x="132" y="27"/>
                </a:lnTo>
                <a:lnTo>
                  <a:pt x="93" y="33"/>
                </a:lnTo>
                <a:lnTo>
                  <a:pt x="90" y="3"/>
                </a:lnTo>
                <a:lnTo>
                  <a:pt x="0" y="0"/>
                </a:lnTo>
              </a:path>
            </a:pathLst>
          </a:custGeom>
          <a:noFill/>
          <a:ln w="28440">
            <a:solidFill>
              <a:srgbClr val="5aaace"/>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3" name="Freeform 12"/>
          <p:cNvSpPr/>
          <p:nvPr/>
        </p:nvSpPr>
        <p:spPr>
          <a:xfrm>
            <a:off x="1300320" y="2001960"/>
            <a:ext cx="7043760" cy="3268440"/>
          </a:xfrm>
          <a:custGeom>
            <a:avLst/>
            <a:gdLst>
              <a:gd name="textAreaLeft" fmla="*/ 0 w 7043760"/>
              <a:gd name="textAreaRight" fmla="*/ 7044120 w 7043760"/>
              <a:gd name="textAreaTop" fmla="*/ 0 h 3268440"/>
              <a:gd name="textAreaBottom" fmla="*/ 3268800 h 3268440"/>
            </a:gdLst>
            <a:ahLst/>
            <a:rect l="textAreaLeft" t="textAreaTop" r="textAreaRight" b="textAreaBottom"/>
            <a:pathLst>
              <a:path w="4437" h="2341">
                <a:moveTo>
                  <a:pt x="4437" y="2341"/>
                </a:moveTo>
                <a:lnTo>
                  <a:pt x="4437" y="2272"/>
                </a:lnTo>
                <a:lnTo>
                  <a:pt x="3819" y="2272"/>
                </a:lnTo>
                <a:lnTo>
                  <a:pt x="3819" y="2197"/>
                </a:lnTo>
                <a:lnTo>
                  <a:pt x="3711" y="2197"/>
                </a:lnTo>
                <a:lnTo>
                  <a:pt x="3711" y="2131"/>
                </a:lnTo>
                <a:lnTo>
                  <a:pt x="3453" y="2131"/>
                </a:lnTo>
                <a:lnTo>
                  <a:pt x="3453" y="2086"/>
                </a:lnTo>
                <a:lnTo>
                  <a:pt x="3453" y="2032"/>
                </a:lnTo>
                <a:lnTo>
                  <a:pt x="3219" y="2032"/>
                </a:lnTo>
                <a:lnTo>
                  <a:pt x="3219" y="1975"/>
                </a:lnTo>
                <a:lnTo>
                  <a:pt x="2910" y="1975"/>
                </a:lnTo>
                <a:lnTo>
                  <a:pt x="2910" y="1942"/>
                </a:lnTo>
                <a:lnTo>
                  <a:pt x="2859" y="1942"/>
                </a:lnTo>
                <a:lnTo>
                  <a:pt x="2859" y="1894"/>
                </a:lnTo>
                <a:lnTo>
                  <a:pt x="2694" y="1894"/>
                </a:lnTo>
                <a:lnTo>
                  <a:pt x="2691" y="1867"/>
                </a:lnTo>
                <a:lnTo>
                  <a:pt x="2649" y="1867"/>
                </a:lnTo>
                <a:lnTo>
                  <a:pt x="2649" y="1780"/>
                </a:lnTo>
                <a:lnTo>
                  <a:pt x="2430" y="1780"/>
                </a:lnTo>
                <a:lnTo>
                  <a:pt x="2430" y="1750"/>
                </a:lnTo>
                <a:lnTo>
                  <a:pt x="2349" y="1750"/>
                </a:lnTo>
                <a:lnTo>
                  <a:pt x="2349" y="1678"/>
                </a:lnTo>
                <a:lnTo>
                  <a:pt x="2157" y="1678"/>
                </a:lnTo>
                <a:lnTo>
                  <a:pt x="2157" y="1651"/>
                </a:lnTo>
                <a:lnTo>
                  <a:pt x="2112" y="1651"/>
                </a:lnTo>
                <a:lnTo>
                  <a:pt x="2112" y="1615"/>
                </a:lnTo>
                <a:lnTo>
                  <a:pt x="2001" y="1615"/>
                </a:lnTo>
                <a:lnTo>
                  <a:pt x="2001" y="1579"/>
                </a:lnTo>
                <a:lnTo>
                  <a:pt x="1890" y="1579"/>
                </a:lnTo>
                <a:lnTo>
                  <a:pt x="1890" y="1556"/>
                </a:lnTo>
                <a:lnTo>
                  <a:pt x="1800" y="1556"/>
                </a:lnTo>
                <a:lnTo>
                  <a:pt x="1800" y="1522"/>
                </a:lnTo>
                <a:lnTo>
                  <a:pt x="1764" y="1522"/>
                </a:lnTo>
                <a:lnTo>
                  <a:pt x="1764" y="1498"/>
                </a:lnTo>
                <a:lnTo>
                  <a:pt x="1743" y="1495"/>
                </a:lnTo>
                <a:lnTo>
                  <a:pt x="1743" y="1429"/>
                </a:lnTo>
                <a:lnTo>
                  <a:pt x="1707" y="1429"/>
                </a:lnTo>
                <a:lnTo>
                  <a:pt x="1707" y="1405"/>
                </a:lnTo>
                <a:lnTo>
                  <a:pt x="1686" y="1405"/>
                </a:lnTo>
                <a:lnTo>
                  <a:pt x="1686" y="1357"/>
                </a:lnTo>
                <a:lnTo>
                  <a:pt x="1686" y="1327"/>
                </a:lnTo>
                <a:lnTo>
                  <a:pt x="1623" y="1327"/>
                </a:lnTo>
                <a:lnTo>
                  <a:pt x="1623" y="1294"/>
                </a:lnTo>
                <a:lnTo>
                  <a:pt x="1569" y="1294"/>
                </a:lnTo>
                <a:lnTo>
                  <a:pt x="1569" y="1246"/>
                </a:lnTo>
                <a:lnTo>
                  <a:pt x="1536" y="1246"/>
                </a:lnTo>
                <a:lnTo>
                  <a:pt x="1536" y="1216"/>
                </a:lnTo>
                <a:lnTo>
                  <a:pt x="1512" y="1216"/>
                </a:lnTo>
                <a:lnTo>
                  <a:pt x="1512" y="1168"/>
                </a:lnTo>
                <a:lnTo>
                  <a:pt x="1407" y="1168"/>
                </a:lnTo>
                <a:lnTo>
                  <a:pt x="1410" y="1140"/>
                </a:lnTo>
                <a:lnTo>
                  <a:pt x="1392" y="1135"/>
                </a:lnTo>
                <a:lnTo>
                  <a:pt x="1354" y="1069"/>
                </a:lnTo>
                <a:lnTo>
                  <a:pt x="1299" y="1069"/>
                </a:lnTo>
                <a:lnTo>
                  <a:pt x="1299" y="985"/>
                </a:lnTo>
                <a:lnTo>
                  <a:pt x="1251" y="985"/>
                </a:lnTo>
                <a:lnTo>
                  <a:pt x="1251" y="940"/>
                </a:lnTo>
                <a:lnTo>
                  <a:pt x="1206" y="940"/>
                </a:lnTo>
                <a:lnTo>
                  <a:pt x="1206" y="907"/>
                </a:lnTo>
                <a:lnTo>
                  <a:pt x="1158" y="907"/>
                </a:lnTo>
                <a:lnTo>
                  <a:pt x="1142" y="880"/>
                </a:lnTo>
                <a:lnTo>
                  <a:pt x="1077" y="880"/>
                </a:lnTo>
                <a:lnTo>
                  <a:pt x="1038" y="769"/>
                </a:lnTo>
                <a:lnTo>
                  <a:pt x="987" y="769"/>
                </a:lnTo>
                <a:lnTo>
                  <a:pt x="954" y="694"/>
                </a:lnTo>
                <a:lnTo>
                  <a:pt x="954" y="661"/>
                </a:lnTo>
                <a:lnTo>
                  <a:pt x="861" y="661"/>
                </a:lnTo>
                <a:lnTo>
                  <a:pt x="861" y="637"/>
                </a:lnTo>
                <a:lnTo>
                  <a:pt x="792" y="637"/>
                </a:lnTo>
                <a:lnTo>
                  <a:pt x="792" y="613"/>
                </a:lnTo>
                <a:lnTo>
                  <a:pt x="726" y="613"/>
                </a:lnTo>
                <a:lnTo>
                  <a:pt x="708" y="526"/>
                </a:lnTo>
                <a:lnTo>
                  <a:pt x="681" y="526"/>
                </a:lnTo>
                <a:lnTo>
                  <a:pt x="681" y="496"/>
                </a:lnTo>
                <a:lnTo>
                  <a:pt x="666" y="475"/>
                </a:lnTo>
                <a:lnTo>
                  <a:pt x="561" y="475"/>
                </a:lnTo>
                <a:lnTo>
                  <a:pt x="525" y="406"/>
                </a:lnTo>
                <a:lnTo>
                  <a:pt x="504" y="406"/>
                </a:lnTo>
                <a:lnTo>
                  <a:pt x="504" y="379"/>
                </a:lnTo>
                <a:lnTo>
                  <a:pt x="489" y="360"/>
                </a:lnTo>
                <a:lnTo>
                  <a:pt x="453" y="360"/>
                </a:lnTo>
                <a:lnTo>
                  <a:pt x="453" y="334"/>
                </a:lnTo>
                <a:lnTo>
                  <a:pt x="435" y="334"/>
                </a:lnTo>
                <a:lnTo>
                  <a:pt x="435" y="298"/>
                </a:lnTo>
                <a:lnTo>
                  <a:pt x="318" y="298"/>
                </a:lnTo>
                <a:lnTo>
                  <a:pt x="318" y="274"/>
                </a:lnTo>
                <a:lnTo>
                  <a:pt x="279" y="274"/>
                </a:lnTo>
                <a:lnTo>
                  <a:pt x="279" y="238"/>
                </a:lnTo>
                <a:lnTo>
                  <a:pt x="279" y="214"/>
                </a:lnTo>
                <a:lnTo>
                  <a:pt x="240" y="214"/>
                </a:lnTo>
                <a:lnTo>
                  <a:pt x="219" y="181"/>
                </a:lnTo>
                <a:lnTo>
                  <a:pt x="195" y="181"/>
                </a:lnTo>
                <a:lnTo>
                  <a:pt x="195" y="136"/>
                </a:lnTo>
                <a:lnTo>
                  <a:pt x="153" y="136"/>
                </a:lnTo>
                <a:lnTo>
                  <a:pt x="153" y="79"/>
                </a:lnTo>
                <a:lnTo>
                  <a:pt x="156" y="58"/>
                </a:lnTo>
                <a:lnTo>
                  <a:pt x="102" y="58"/>
                </a:lnTo>
                <a:lnTo>
                  <a:pt x="102" y="22"/>
                </a:lnTo>
                <a:lnTo>
                  <a:pt x="78" y="22"/>
                </a:lnTo>
                <a:lnTo>
                  <a:pt x="78" y="0"/>
                </a:lnTo>
                <a:lnTo>
                  <a:pt x="0" y="0"/>
                </a:lnTo>
              </a:path>
            </a:pathLst>
          </a:custGeom>
          <a:noFill/>
          <a:ln w="28440">
            <a:solidFill>
              <a:srgbClr val="f8f45a"/>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4" name="Text Box 19"/>
          <p:cNvSpPr/>
          <p:nvPr/>
        </p:nvSpPr>
        <p:spPr>
          <a:xfrm>
            <a:off x="3410640" y="5638680"/>
            <a:ext cx="265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 From Randomization</a:t>
            </a:r>
            <a:endParaRPr b="1" lang="en-US" sz="1600" spc="-1" strike="noStrike">
              <a:solidFill>
                <a:srgbClr val="ffffff"/>
              </a:solidFill>
              <a:latin typeface="Arial"/>
            </a:endParaRPr>
          </a:p>
        </p:txBody>
      </p:sp>
      <p:sp>
        <p:nvSpPr>
          <p:cNvPr id="1325" name="Text Box 20"/>
          <p:cNvSpPr/>
          <p:nvPr/>
        </p:nvSpPr>
        <p:spPr>
          <a:xfrm rot="16200000">
            <a:off x="-16920" y="3479760"/>
            <a:ext cx="1340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vival (%)</a:t>
            </a:r>
            <a:endParaRPr b="1" lang="en-US" sz="1600" spc="-1" strike="noStrike">
              <a:solidFill>
                <a:srgbClr val="ffffff"/>
              </a:solidFill>
              <a:latin typeface="Arial"/>
            </a:endParaRPr>
          </a:p>
        </p:txBody>
      </p:sp>
      <p:sp>
        <p:nvSpPr>
          <p:cNvPr id="1326" name="Freeform 23"/>
          <p:cNvSpPr/>
          <p:nvPr/>
        </p:nvSpPr>
        <p:spPr>
          <a:xfrm>
            <a:off x="1284120" y="1992240"/>
            <a:ext cx="6861240" cy="3278160"/>
          </a:xfrm>
          <a:custGeom>
            <a:avLst/>
            <a:gdLst>
              <a:gd name="textAreaLeft" fmla="*/ 0 w 6861240"/>
              <a:gd name="textAreaRight" fmla="*/ 6861600 w 6861240"/>
              <a:gd name="textAreaTop" fmla="*/ 0 h 3278160"/>
              <a:gd name="textAreaBottom" fmla="*/ 3278520 h 3278160"/>
            </a:gdLst>
            <a:ahLst/>
            <a:rect l="textAreaLeft" t="textAreaTop" r="textAreaRight" b="textAreaBottom"/>
            <a:pathLst>
              <a:path w="4329" h="2352">
                <a:moveTo>
                  <a:pt x="0" y="0"/>
                </a:moveTo>
                <a:lnTo>
                  <a:pt x="0" y="2352"/>
                </a:lnTo>
                <a:lnTo>
                  <a:pt x="4329" y="2352"/>
                </a:lnTo>
              </a:path>
            </a:pathLst>
          </a:custGeom>
          <a:noFill/>
          <a:ln w="28440">
            <a:solidFill>
              <a:srgbClr val="ffffff"/>
            </a:solidFill>
            <a:round/>
          </a:ln>
        </p:spPr>
        <p:style>
          <a:lnRef idx="0"/>
          <a:fillRef idx="0"/>
          <a:effectRef idx="0"/>
          <a:fontRef idx="minor"/>
        </p:style>
        <p:txBody>
          <a:bodyPr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327" name="Group 24"/>
          <p:cNvGrpSpPr/>
          <p:nvPr/>
        </p:nvGrpSpPr>
        <p:grpSpPr>
          <a:xfrm>
            <a:off x="1209600" y="2004840"/>
            <a:ext cx="76320" cy="3267360"/>
            <a:chOff x="1209600" y="2004840"/>
            <a:chExt cx="76320" cy="3267360"/>
          </a:xfrm>
        </p:grpSpPr>
        <p:sp>
          <p:nvSpPr>
            <p:cNvPr id="1328" name="Line 25"/>
            <p:cNvSpPr/>
            <p:nvPr/>
          </p:nvSpPr>
          <p:spPr>
            <a:xfrm>
              <a:off x="1209600" y="52722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9" name="Line 26"/>
            <p:cNvSpPr/>
            <p:nvPr/>
          </p:nvSpPr>
          <p:spPr>
            <a:xfrm>
              <a:off x="1209600" y="49507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0" name="Line 27"/>
            <p:cNvSpPr/>
            <p:nvPr/>
          </p:nvSpPr>
          <p:spPr>
            <a:xfrm>
              <a:off x="1209600" y="46224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1" name="Line 28"/>
            <p:cNvSpPr/>
            <p:nvPr/>
          </p:nvSpPr>
          <p:spPr>
            <a:xfrm>
              <a:off x="1209600" y="429408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2" name="Line 29"/>
            <p:cNvSpPr/>
            <p:nvPr/>
          </p:nvSpPr>
          <p:spPr>
            <a:xfrm>
              <a:off x="1209600" y="396576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3" name="Line 30"/>
            <p:cNvSpPr/>
            <p:nvPr/>
          </p:nvSpPr>
          <p:spPr>
            <a:xfrm>
              <a:off x="1209600" y="36378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4" name="Line 31"/>
            <p:cNvSpPr/>
            <p:nvPr/>
          </p:nvSpPr>
          <p:spPr>
            <a:xfrm>
              <a:off x="1209600" y="332316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5" name="Line 32"/>
            <p:cNvSpPr/>
            <p:nvPr/>
          </p:nvSpPr>
          <p:spPr>
            <a:xfrm>
              <a:off x="1209600" y="298224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6" name="Line 33"/>
            <p:cNvSpPr/>
            <p:nvPr/>
          </p:nvSpPr>
          <p:spPr>
            <a:xfrm>
              <a:off x="1209600" y="26611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7" name="Line 34"/>
            <p:cNvSpPr/>
            <p:nvPr/>
          </p:nvSpPr>
          <p:spPr>
            <a:xfrm>
              <a:off x="1209600" y="23328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8" name="Line 35"/>
            <p:cNvSpPr/>
            <p:nvPr/>
          </p:nvSpPr>
          <p:spPr>
            <a:xfrm>
              <a:off x="1209600" y="200484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39" name="Line 37"/>
          <p:cNvSpPr/>
          <p:nvPr/>
        </p:nvSpPr>
        <p:spPr>
          <a:xfrm>
            <a:off x="128916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0" name="Line 38"/>
          <p:cNvSpPr/>
          <p:nvPr/>
        </p:nvSpPr>
        <p:spPr>
          <a:xfrm>
            <a:off x="21416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1" name="Line 39"/>
          <p:cNvSpPr/>
          <p:nvPr/>
        </p:nvSpPr>
        <p:spPr>
          <a:xfrm>
            <a:off x="30020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2" name="Line 40"/>
          <p:cNvSpPr/>
          <p:nvPr/>
        </p:nvSpPr>
        <p:spPr>
          <a:xfrm>
            <a:off x="38638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3" name="Line 41"/>
          <p:cNvSpPr/>
          <p:nvPr/>
        </p:nvSpPr>
        <p:spPr>
          <a:xfrm>
            <a:off x="47242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4" name="Line 42"/>
          <p:cNvSpPr/>
          <p:nvPr/>
        </p:nvSpPr>
        <p:spPr>
          <a:xfrm>
            <a:off x="557856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5" name="Line 43"/>
          <p:cNvSpPr/>
          <p:nvPr/>
        </p:nvSpPr>
        <p:spPr>
          <a:xfrm>
            <a:off x="644040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6" name="Line 44"/>
          <p:cNvSpPr/>
          <p:nvPr/>
        </p:nvSpPr>
        <p:spPr>
          <a:xfrm>
            <a:off x="72946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7" name="Line 45"/>
          <p:cNvSpPr/>
          <p:nvPr/>
        </p:nvSpPr>
        <p:spPr>
          <a:xfrm>
            <a:off x="81374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8" name="Text Box 46"/>
          <p:cNvSpPr/>
          <p:nvPr/>
        </p:nvSpPr>
        <p:spPr>
          <a:xfrm>
            <a:off x="1136880" y="5342040"/>
            <a:ext cx="29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1349" name="Text Box 47"/>
          <p:cNvSpPr/>
          <p:nvPr/>
        </p:nvSpPr>
        <p:spPr>
          <a:xfrm>
            <a:off x="1987560" y="5342040"/>
            <a:ext cx="29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1350" name="Text Box 48"/>
          <p:cNvSpPr/>
          <p:nvPr/>
        </p:nvSpPr>
        <p:spPr>
          <a:xfrm>
            <a:off x="27939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1351" name="Text Box 49"/>
          <p:cNvSpPr/>
          <p:nvPr/>
        </p:nvSpPr>
        <p:spPr>
          <a:xfrm>
            <a:off x="36543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1" lang="en-US" sz="1600" spc="-1" strike="noStrike">
              <a:solidFill>
                <a:srgbClr val="ffffff"/>
              </a:solidFill>
              <a:latin typeface="Arial"/>
            </a:endParaRPr>
          </a:p>
        </p:txBody>
      </p:sp>
      <p:sp>
        <p:nvSpPr>
          <p:cNvPr id="1352" name="Text Box 50"/>
          <p:cNvSpPr/>
          <p:nvPr/>
        </p:nvSpPr>
        <p:spPr>
          <a:xfrm>
            <a:off x="451620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4</a:t>
            </a:r>
            <a:endParaRPr b="1" lang="en-US" sz="1600" spc="-1" strike="noStrike">
              <a:solidFill>
                <a:srgbClr val="ffffff"/>
              </a:solidFill>
              <a:latin typeface="Arial"/>
            </a:endParaRPr>
          </a:p>
        </p:txBody>
      </p:sp>
      <p:sp>
        <p:nvSpPr>
          <p:cNvPr id="1353" name="Text Box 51"/>
          <p:cNvSpPr/>
          <p:nvPr/>
        </p:nvSpPr>
        <p:spPr>
          <a:xfrm>
            <a:off x="537048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1" lang="en-US" sz="1600" spc="-1" strike="noStrike">
              <a:solidFill>
                <a:srgbClr val="ffffff"/>
              </a:solidFill>
              <a:latin typeface="Arial"/>
            </a:endParaRPr>
          </a:p>
        </p:txBody>
      </p:sp>
      <p:sp>
        <p:nvSpPr>
          <p:cNvPr id="1354" name="Text Box 52"/>
          <p:cNvSpPr/>
          <p:nvPr/>
        </p:nvSpPr>
        <p:spPr>
          <a:xfrm>
            <a:off x="623880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1" lang="en-US" sz="1600" spc="-1" strike="noStrike">
              <a:solidFill>
                <a:srgbClr val="ffffff"/>
              </a:solidFill>
              <a:latin typeface="Arial"/>
            </a:endParaRPr>
          </a:p>
        </p:txBody>
      </p:sp>
      <p:sp>
        <p:nvSpPr>
          <p:cNvPr id="1355" name="Text Box 53"/>
          <p:cNvSpPr/>
          <p:nvPr/>
        </p:nvSpPr>
        <p:spPr>
          <a:xfrm>
            <a:off x="709272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1" lang="en-US" sz="1600" spc="-1" strike="noStrike">
              <a:solidFill>
                <a:srgbClr val="ffffff"/>
              </a:solidFill>
              <a:latin typeface="Arial"/>
            </a:endParaRPr>
          </a:p>
        </p:txBody>
      </p:sp>
      <p:sp>
        <p:nvSpPr>
          <p:cNvPr id="1356" name="Text Box 54"/>
          <p:cNvSpPr/>
          <p:nvPr/>
        </p:nvSpPr>
        <p:spPr>
          <a:xfrm>
            <a:off x="79293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8</a:t>
            </a:r>
            <a:endParaRPr b="1" lang="en-US" sz="1600" spc="-1" strike="noStrike">
              <a:solidFill>
                <a:srgbClr val="ffffff"/>
              </a:solidFill>
              <a:latin typeface="Arial"/>
            </a:endParaRPr>
          </a:p>
        </p:txBody>
      </p:sp>
      <p:sp>
        <p:nvSpPr>
          <p:cNvPr id="1357" name="Text Box 56"/>
          <p:cNvSpPr/>
          <p:nvPr/>
        </p:nvSpPr>
        <p:spPr>
          <a:xfrm>
            <a:off x="945360" y="5124600"/>
            <a:ext cx="2934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1358" name="Text Box 57"/>
          <p:cNvSpPr/>
          <p:nvPr/>
        </p:nvSpPr>
        <p:spPr>
          <a:xfrm>
            <a:off x="775080" y="479736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a:t>
            </a:r>
            <a:endParaRPr b="1" lang="en-US" sz="1600" spc="-1" strike="noStrike">
              <a:solidFill>
                <a:srgbClr val="ffffff"/>
              </a:solidFill>
              <a:latin typeface="Arial"/>
            </a:endParaRPr>
          </a:p>
        </p:txBody>
      </p:sp>
      <p:sp>
        <p:nvSpPr>
          <p:cNvPr id="1359" name="Text Box 58"/>
          <p:cNvSpPr/>
          <p:nvPr/>
        </p:nvSpPr>
        <p:spPr>
          <a:xfrm>
            <a:off x="775080" y="44704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a:t>
            </a:r>
            <a:endParaRPr b="1" lang="en-US" sz="1600" spc="-1" strike="noStrike">
              <a:solidFill>
                <a:srgbClr val="ffffff"/>
              </a:solidFill>
              <a:latin typeface="Arial"/>
            </a:endParaRPr>
          </a:p>
        </p:txBody>
      </p:sp>
      <p:sp>
        <p:nvSpPr>
          <p:cNvPr id="1360" name="Text Box 59"/>
          <p:cNvSpPr/>
          <p:nvPr/>
        </p:nvSpPr>
        <p:spPr>
          <a:xfrm>
            <a:off x="775080" y="41432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1" lang="en-US" sz="1600" spc="-1" strike="noStrike">
              <a:solidFill>
                <a:srgbClr val="ffffff"/>
              </a:solidFill>
              <a:latin typeface="Arial"/>
            </a:endParaRPr>
          </a:p>
        </p:txBody>
      </p:sp>
      <p:sp>
        <p:nvSpPr>
          <p:cNvPr id="1361" name="Text Box 60"/>
          <p:cNvSpPr/>
          <p:nvPr/>
        </p:nvSpPr>
        <p:spPr>
          <a:xfrm>
            <a:off x="775080" y="381636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1" lang="en-US" sz="1600" spc="-1" strike="noStrike">
              <a:solidFill>
                <a:srgbClr val="ffffff"/>
              </a:solidFill>
              <a:latin typeface="Arial"/>
            </a:endParaRPr>
          </a:p>
        </p:txBody>
      </p:sp>
      <p:sp>
        <p:nvSpPr>
          <p:cNvPr id="1362" name="Text Box 61"/>
          <p:cNvSpPr/>
          <p:nvPr/>
        </p:nvSpPr>
        <p:spPr>
          <a:xfrm>
            <a:off x="775080" y="34894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endParaRPr b="1" lang="en-US" sz="1600" spc="-1" strike="noStrike">
              <a:solidFill>
                <a:srgbClr val="ffffff"/>
              </a:solidFill>
              <a:latin typeface="Arial"/>
            </a:endParaRPr>
          </a:p>
        </p:txBody>
      </p:sp>
      <p:sp>
        <p:nvSpPr>
          <p:cNvPr id="1363" name="Text Box 62"/>
          <p:cNvSpPr/>
          <p:nvPr/>
        </p:nvSpPr>
        <p:spPr>
          <a:xfrm>
            <a:off x="775080" y="31640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a:t>
            </a:r>
            <a:endParaRPr b="1" lang="en-US" sz="1600" spc="-1" strike="noStrike">
              <a:solidFill>
                <a:srgbClr val="ffffff"/>
              </a:solidFill>
              <a:latin typeface="Arial"/>
            </a:endParaRPr>
          </a:p>
        </p:txBody>
      </p:sp>
      <p:sp>
        <p:nvSpPr>
          <p:cNvPr id="1364" name="Text Box 63"/>
          <p:cNvSpPr/>
          <p:nvPr/>
        </p:nvSpPr>
        <p:spPr>
          <a:xfrm>
            <a:off x="775080" y="283680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a:t>
            </a:r>
            <a:endParaRPr b="1" lang="en-US" sz="1600" spc="-1" strike="noStrike">
              <a:solidFill>
                <a:srgbClr val="ffffff"/>
              </a:solidFill>
              <a:latin typeface="Arial"/>
            </a:endParaRPr>
          </a:p>
        </p:txBody>
      </p:sp>
      <p:sp>
        <p:nvSpPr>
          <p:cNvPr id="1365" name="Text Box 64"/>
          <p:cNvSpPr/>
          <p:nvPr/>
        </p:nvSpPr>
        <p:spPr>
          <a:xfrm>
            <a:off x="775080" y="250992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8</a:t>
            </a:r>
            <a:endParaRPr b="1" lang="en-US" sz="1600" spc="-1" strike="noStrike">
              <a:solidFill>
                <a:srgbClr val="ffffff"/>
              </a:solidFill>
              <a:latin typeface="Arial"/>
            </a:endParaRPr>
          </a:p>
        </p:txBody>
      </p:sp>
      <p:sp>
        <p:nvSpPr>
          <p:cNvPr id="1366" name="Text Box 65"/>
          <p:cNvSpPr/>
          <p:nvPr/>
        </p:nvSpPr>
        <p:spPr>
          <a:xfrm>
            <a:off x="775080" y="21826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9</a:t>
            </a:r>
            <a:endParaRPr b="1" lang="en-US" sz="1600" spc="-1" strike="noStrike">
              <a:solidFill>
                <a:srgbClr val="ffffff"/>
              </a:solidFill>
              <a:latin typeface="Arial"/>
            </a:endParaRPr>
          </a:p>
        </p:txBody>
      </p:sp>
      <p:sp>
        <p:nvSpPr>
          <p:cNvPr id="1367" name="Text Box 66"/>
          <p:cNvSpPr/>
          <p:nvPr/>
        </p:nvSpPr>
        <p:spPr>
          <a:xfrm>
            <a:off x="775080" y="18572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1368" name="Text Box 68"/>
          <p:cNvSpPr/>
          <p:nvPr/>
        </p:nvSpPr>
        <p:spPr>
          <a:xfrm>
            <a:off x="284040" y="5925960"/>
            <a:ext cx="46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2 pts enrolled</a:t>
            </a:r>
            <a:br>
              <a:rPr sz="1400"/>
            </a:br>
            <a:r>
              <a:rPr b="0" lang="en-US" sz="1400" spc="-1" strike="noStrike">
                <a:solidFill>
                  <a:srgbClr val="ffffff"/>
                </a:solidFill>
                <a:latin typeface="Arial"/>
              </a:rPr>
              <a:t>Primarily intermediate risk</a:t>
            </a:r>
            <a:br>
              <a:rPr sz="1400"/>
            </a:br>
            <a:r>
              <a:rPr b="0" lang="en-US" sz="1400" spc="-1" strike="noStrike">
                <a:solidFill>
                  <a:srgbClr val="cdcdcf"/>
                </a:solidFill>
                <a:latin typeface="Arial"/>
              </a:rPr>
              <a:t>Negrier S, et al. Cancer. 2007;110:2468-2477.</a:t>
            </a:r>
            <a:endParaRPr b="1" lang="en-US" sz="1400" spc="-1" strike="noStrike">
              <a:solidFill>
                <a:srgbClr val="ffffff"/>
              </a:solidFill>
              <a:latin typeface="Arial"/>
            </a:endParaRPr>
          </a:p>
        </p:txBody>
      </p:sp>
      <p:sp>
        <p:nvSpPr>
          <p:cNvPr id="1369" name="Rectangle 246"/>
          <p:cNvSpPr/>
          <p:nvPr/>
        </p:nvSpPr>
        <p:spPr>
          <a:xfrm>
            <a:off x="6878520" y="1911240"/>
            <a:ext cx="18828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eneva"/>
              </a:rPr>
              <a:t>Median OS, Mo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TextBox 5"/>
          <p:cNvSpPr/>
          <p:nvPr/>
        </p:nvSpPr>
        <p:spPr>
          <a:xfrm>
            <a:off x="284040" y="6367680"/>
            <a:ext cx="85629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NCCN. Clinical practice guidelines in oncology: kidney cancer. v.1.2013. </a:t>
            </a:r>
            <a:endParaRPr b="1" lang="en-US" sz="1400" spc="-1" strike="noStrike">
              <a:solidFill>
                <a:srgbClr val="ffffff"/>
              </a:solidFill>
              <a:latin typeface="Arial"/>
            </a:endParaRPr>
          </a:p>
        </p:txBody>
      </p:sp>
      <p:sp>
        <p:nvSpPr>
          <p:cNvPr id="137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urrent Management of Advanced RCC</a:t>
            </a:r>
            <a:endParaRPr b="1" lang="en-US" sz="3200" spc="-1" strike="noStrike">
              <a:solidFill>
                <a:srgbClr val="f8f45a"/>
              </a:solidFill>
              <a:latin typeface="Arial"/>
            </a:endParaRPr>
          </a:p>
        </p:txBody>
      </p:sp>
      <p:graphicFrame>
        <p:nvGraphicFramePr>
          <p:cNvPr id="1372" name=""/>
          <p:cNvGraphicFramePr/>
          <p:nvPr/>
        </p:nvGraphicFramePr>
        <p:xfrm>
          <a:off x="384120" y="1914480"/>
          <a:ext cx="8462880" cy="2835360"/>
        </p:xfrm>
        <a:graphic>
          <a:graphicData uri="http://schemas.openxmlformats.org/drawingml/2006/table">
            <a:tbl>
              <a:tblPr/>
              <a:tblGrid>
                <a:gridCol w="2044800"/>
                <a:gridCol w="2228760"/>
                <a:gridCol w="41893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irst-line Therapy</a:t>
                      </a: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ond-line Therapy</a:t>
                      </a: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vorable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n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 pazopa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other TKI)</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olimus</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x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KI, temsirolimus, bevacizumab)</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mediate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n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pazopa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other TKI)</a:t>
                      </a: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olimus</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x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KI, temsirolimus, bevacizumab)</a:t>
                      </a: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or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msirolimus</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know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cdcf"/>
                          </a:solidFill>
                          <a:latin typeface="Arial"/>
                        </a:rPr>
                        <a:t>(</a:t>
                      </a:r>
                      <a:r>
                        <a:rPr b="0" lang="en-US" sz="1800" spc="-1" strike="noStrike">
                          <a:solidFill>
                            <a:srgbClr val="000000"/>
                          </a:solidFill>
                          <a:latin typeface="Arial"/>
                        </a:rPr>
                        <a:t>(sunitinib, clinical trial, supportive care)</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Second-line Trials to Watch</a:t>
            </a:r>
            <a:endParaRPr b="1" lang="en-US" sz="3200" spc="-1" strike="noStrike">
              <a:solidFill>
                <a:srgbClr val="f8f45a"/>
              </a:solidFill>
              <a:latin typeface="Arial"/>
            </a:endParaRPr>
          </a:p>
        </p:txBody>
      </p:sp>
      <p:sp>
        <p:nvSpPr>
          <p:cNvPr id="137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BMS-936558 (anti-PD1) vs everolimu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cabozantinib (XL184) vs everolimu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dovitinib vs sorafenib (completed, third lin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everolimus with or without bevacizumab (CALGB, closed)</a:t>
            </a:r>
            <a:endParaRPr b="0" lang="en-US" sz="2400" spc="-1" strike="noStrike">
              <a:solidFill>
                <a:srgbClr val="fefdde"/>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onclusions</a:t>
            </a:r>
            <a:endParaRPr b="1" lang="en-US" sz="3200" spc="-1" strike="noStrike">
              <a:solidFill>
                <a:srgbClr val="f8f45a"/>
              </a:solidFill>
              <a:latin typeface="Arial"/>
            </a:endParaRPr>
          </a:p>
        </p:txBody>
      </p:sp>
      <p:sp>
        <p:nvSpPr>
          <p:cNvPr id="1376"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Both VEGF and mTOR-directed drugs have important activity in second-line treatment of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OS for RCC is clearly longer than historical controls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redictive factors of response have not been defin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Mechanisms of resistance to VEGFR and mTOR therapy remain poorly understoo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Clinical trial enrollment remains an important priority for RCC patients</a:t>
            </a:r>
            <a:endParaRPr b="0" lang="en-US" sz="2400" spc="-1" strike="noStrike">
              <a:solidFill>
                <a:srgbClr val="fefdde"/>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378"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379"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380"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M. Dror Michaelson, MD, PhD, </a:t>
            </a:r>
            <a:r>
              <a:rPr b="0" lang="en-US" sz="2200" spc="-1" strike="noStrike">
                <a:solidFill>
                  <a:srgbClr val="fefdde"/>
                </a:solidFill>
                <a:latin typeface="Arial"/>
              </a:rPr>
              <a:t>has no significant financial relationships to disclose.</a:t>
            </a:r>
            <a:endParaRPr b="0" lang="en-US" sz="2200" spc="-1" strike="noStrike">
              <a:solidFill>
                <a:srgbClr val="fefdde"/>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ase Study 1</a:t>
            </a:r>
            <a:endParaRPr b="1" lang="en-US" sz="3200" spc="-1" strike="noStrike">
              <a:solidFill>
                <a:srgbClr val="f8f45a"/>
              </a:solidFill>
              <a:latin typeface="Arial"/>
            </a:endParaRPr>
          </a:p>
        </p:txBody>
      </p:sp>
      <p:sp>
        <p:nvSpPr>
          <p:cNvPr id="177" name=""/>
          <p:cNvSpPr txBox="1"/>
          <p:nvPr/>
        </p:nvSpPr>
        <p:spPr>
          <a:xfrm>
            <a:off x="385560" y="1828440"/>
            <a:ext cx="41511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66-yr-old woman presented with R hip pain; films demonstrated a lytic lesion</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CT scans showed a 9-cm R renal mass, a 4-cm R iliac crest mass, and numerous subcentimeter lung nodule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edical history of obesity, hemorrhoids, and trigeminal neuralgia; no medications, nonsmoker</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arried with 4 children; no family history of RCC</a:t>
            </a:r>
            <a:endParaRPr b="0" lang="en-US" sz="2000" spc="-1" strike="noStrike">
              <a:solidFill>
                <a:srgbClr val="fefdde"/>
              </a:solidFill>
              <a:latin typeface="Arial"/>
            </a:endParaRPr>
          </a:p>
        </p:txBody>
      </p:sp>
      <p:pic>
        <p:nvPicPr>
          <p:cNvPr id="178" name="Picture 6" descr="1"/>
          <p:cNvPicPr/>
          <p:nvPr/>
        </p:nvPicPr>
        <p:blipFill>
          <a:blip r:embed="rId1"/>
          <a:stretch/>
        </p:blipFill>
        <p:spPr>
          <a:xfrm>
            <a:off x="4691160" y="3710160"/>
            <a:ext cx="3995640" cy="2665080"/>
          </a:xfrm>
          <a:prstGeom prst="rect">
            <a:avLst/>
          </a:prstGeom>
          <a:ln w="0">
            <a:noFill/>
          </a:ln>
        </p:spPr>
      </p:pic>
      <p:pic>
        <p:nvPicPr>
          <p:cNvPr id="179" name="Picture 7" descr="2"/>
          <p:cNvPicPr/>
          <p:nvPr/>
        </p:nvPicPr>
        <p:blipFill>
          <a:blip r:embed="rId2"/>
          <a:stretch/>
        </p:blipFill>
        <p:spPr>
          <a:xfrm>
            <a:off x="4689360" y="1870200"/>
            <a:ext cx="4016520" cy="2253960"/>
          </a:xfrm>
          <a:prstGeom prst="rect">
            <a:avLst/>
          </a:prstGeom>
          <a:ln w="0">
            <a:noFill/>
          </a:ln>
        </p:spPr>
      </p:pic>
      <p:sp>
        <p:nvSpPr>
          <p:cNvPr id="180" name="Line 9"/>
          <p:cNvSpPr/>
          <p:nvPr/>
        </p:nvSpPr>
        <p:spPr>
          <a:xfrm flipV="1">
            <a:off x="4059360" y="5119200"/>
            <a:ext cx="1766880" cy="10652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1" name="Text Box 10"/>
          <p:cNvSpPr/>
          <p:nvPr/>
        </p:nvSpPr>
        <p:spPr>
          <a:xfrm>
            <a:off x="4708440" y="189072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2" name="Text Box 11"/>
          <p:cNvSpPr/>
          <p:nvPr/>
        </p:nvSpPr>
        <p:spPr>
          <a:xfrm>
            <a:off x="7604280" y="1930320"/>
            <a:ext cx="10634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3" name="Text Box 12"/>
          <p:cNvSpPr/>
          <p:nvPr/>
        </p:nvSpPr>
        <p:spPr>
          <a:xfrm>
            <a:off x="4684680" y="365292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4" name="Line 8"/>
          <p:cNvSpPr/>
          <p:nvPr/>
        </p:nvSpPr>
        <p:spPr>
          <a:xfrm flipV="1">
            <a:off x="4240080" y="3211200"/>
            <a:ext cx="1766880" cy="10652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1</a:t>
            </a:r>
            <a:endParaRPr b="1" lang="en-US" sz="3200" spc="-1" strike="noStrike">
              <a:solidFill>
                <a:srgbClr val="f8f45a"/>
              </a:solidFill>
              <a:latin typeface="Arial"/>
            </a:endParaRPr>
          </a:p>
        </p:txBody>
      </p:sp>
      <p:sp>
        <p:nvSpPr>
          <p:cNvPr id="186" name=""/>
          <p:cNvSpPr txBox="1"/>
          <p:nvPr/>
        </p:nvSpPr>
        <p:spPr>
          <a:xfrm>
            <a:off x="385920" y="1828440"/>
            <a:ext cx="8454960" cy="4546440"/>
          </a:xfrm>
          <a:prstGeom prst="rect">
            <a:avLst/>
          </a:prstGeom>
          <a:noFill/>
          <a:ln w="0">
            <a:noFill/>
          </a:ln>
        </p:spPr>
        <p:txBody>
          <a:bodyPr anchor="t">
            <a:normAutofit fontScale="98000"/>
          </a:bodyPr>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ytoreductive nephrectomy showed clear-cell RCC</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Following biopsy of R iliac crest, completed XRT course</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taging showed increase in hip, lung, and mediastinal disease</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Began sunitinib 50 mg on 4/2 schedule and reduced to 37.5 mg after second cycle due to intolerable skin toxicity</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taging showed improvement at all sites</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ontinued skin toxicity; after 3 additional mos with SD, reduced further to 25 mg</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Mild disease progression; escalated to 37.5 mg; after 3 interrupted mos, had further progression</a:t>
            </a:r>
            <a:endParaRPr b="0" lang="en-US" sz="2200" spc="-1" strike="noStrike">
              <a:solidFill>
                <a:srgbClr val="fefdd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1: Question </a:t>
            </a:r>
            <a:endParaRPr b="1" lang="en-US" sz="3200" spc="-1" strike="noStrike">
              <a:solidFill>
                <a:srgbClr val="f8f45a"/>
              </a:solidFill>
              <a:latin typeface="Arial"/>
            </a:endParaRPr>
          </a:p>
        </p:txBody>
      </p:sp>
      <p:sp>
        <p:nvSpPr>
          <p:cNvPr id="18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This patient has radiographic progression on first-line reduced-dose sunitinib. </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What systemic therapy would you select at this time?</a:t>
            </a:r>
            <a:endParaRPr b="0" lang="en-US" sz="2400" spc="-1" strike="noStrike">
              <a:solidFill>
                <a:srgbClr val="fefdd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Timeline of Development of Targeted </a:t>
            </a:r>
            <a:br>
              <a:rPr sz="3200"/>
            </a:br>
            <a:r>
              <a:rPr b="1" lang="en-US" sz="3200" spc="-1" strike="noStrike">
                <a:solidFill>
                  <a:srgbClr val="f8f45a"/>
                </a:solidFill>
                <a:latin typeface="Arial"/>
                <a:ea typeface="Calibri"/>
              </a:rPr>
              <a:t>Agents for RCC</a:t>
            </a:r>
            <a:endParaRPr b="1" lang="en-US" sz="3200" spc="-1" strike="noStrike">
              <a:solidFill>
                <a:srgbClr val="f8f45a"/>
              </a:solidFill>
              <a:latin typeface="Arial"/>
            </a:endParaRPr>
          </a:p>
        </p:txBody>
      </p:sp>
      <p:sp>
        <p:nvSpPr>
          <p:cNvPr id="190" name="Text Box 30"/>
          <p:cNvSpPr/>
          <p:nvPr/>
        </p:nvSpPr>
        <p:spPr>
          <a:xfrm>
            <a:off x="284040" y="6372360"/>
            <a:ext cx="5251680" cy="28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US Food and Drug Administration. </a:t>
            </a:r>
            <a:endParaRPr b="1" lang="en-US" sz="1400" spc="-1" strike="noStrike">
              <a:solidFill>
                <a:srgbClr val="ffffff"/>
              </a:solidFill>
              <a:latin typeface="Arial"/>
            </a:endParaRPr>
          </a:p>
        </p:txBody>
      </p:sp>
      <p:sp>
        <p:nvSpPr>
          <p:cNvPr id="191" name="TextBox 10"/>
          <p:cNvSpPr/>
          <p:nvPr/>
        </p:nvSpPr>
        <p:spPr>
          <a:xfrm>
            <a:off x="1852560" y="2924280"/>
            <a:ext cx="1662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Sorafe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2" name="TextBox 11"/>
          <p:cNvSpPr/>
          <p:nvPr/>
        </p:nvSpPr>
        <p:spPr>
          <a:xfrm>
            <a:off x="2897280" y="1852560"/>
            <a:ext cx="14317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Suniti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3" name="TextBox 12"/>
          <p:cNvSpPr/>
          <p:nvPr/>
        </p:nvSpPr>
        <p:spPr>
          <a:xfrm>
            <a:off x="4295880" y="2494080"/>
            <a:ext cx="2008080" cy="99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azopa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Bevacizumab + IFN-</a:t>
            </a:r>
            <a:r>
              <a:rPr b="1" lang="el-GR" sz="1400" spc="-1" strike="noStrike">
                <a:solidFill>
                  <a:srgbClr val="ffffff"/>
                </a:solidFill>
                <a:latin typeface="Arial"/>
              </a:rPr>
              <a:t>α</a:t>
            </a:r>
            <a:br>
              <a:rPr sz="1400"/>
            </a:br>
            <a:r>
              <a:rPr b="1" lang="en-US" sz="1400" spc="-1" strike="noStrike">
                <a:solidFill>
                  <a:srgbClr val="ffffff"/>
                </a:solidFill>
                <a:latin typeface="Arial"/>
              </a:rPr>
              <a:t>(metastatic RCC)</a:t>
            </a:r>
            <a:endParaRPr b="1" lang="en-US" sz="1400" spc="-1" strike="noStrike">
              <a:solidFill>
                <a:srgbClr val="ffffff"/>
              </a:solidFill>
              <a:latin typeface="Arial"/>
            </a:endParaRPr>
          </a:p>
        </p:txBody>
      </p:sp>
      <p:sp>
        <p:nvSpPr>
          <p:cNvPr id="194" name="TextBox 13"/>
          <p:cNvSpPr/>
          <p:nvPr/>
        </p:nvSpPr>
        <p:spPr>
          <a:xfrm>
            <a:off x="2860560" y="5465880"/>
            <a:ext cx="1662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msirolimus</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5" name="TextBox 14"/>
          <p:cNvSpPr/>
          <p:nvPr/>
        </p:nvSpPr>
        <p:spPr>
          <a:xfrm>
            <a:off x="155520" y="4459320"/>
            <a:ext cx="2052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mmunotherapy with</a:t>
            </a:r>
            <a:br>
              <a:rPr sz="1400"/>
            </a:br>
            <a:r>
              <a:rPr b="1" lang="en-US" sz="1400" spc="-1" strike="noStrike">
                <a:solidFill>
                  <a:srgbClr val="ffffff"/>
                </a:solidFill>
                <a:latin typeface="Arial"/>
              </a:rPr>
              <a:t>IFN-</a:t>
            </a:r>
            <a:r>
              <a:rPr b="1" lang="el-GR" sz="1400" spc="-1" strike="noStrike">
                <a:solidFill>
                  <a:srgbClr val="ffffff"/>
                </a:solidFill>
                <a:latin typeface="Arial"/>
              </a:rPr>
              <a:t>α</a:t>
            </a:r>
            <a:r>
              <a:rPr b="1" lang="en-US" sz="1400" spc="-1" strike="noStrike">
                <a:solidFill>
                  <a:srgbClr val="ffffff"/>
                </a:solidFill>
                <a:latin typeface="Arial"/>
              </a:rPr>
              <a:t> or IL-2</a:t>
            </a:r>
            <a:endParaRPr b="1" lang="en-US" sz="1400" spc="-1" strike="noStrike">
              <a:solidFill>
                <a:srgbClr val="ffffff"/>
              </a:solidFill>
              <a:latin typeface="Arial"/>
            </a:endParaRPr>
          </a:p>
        </p:txBody>
      </p:sp>
      <p:pic>
        <p:nvPicPr>
          <p:cNvPr id="196" name="Group 58" descr=""/>
          <p:cNvPicPr/>
          <p:nvPr/>
        </p:nvPicPr>
        <p:blipFill>
          <a:blip r:embed="rId1"/>
          <a:stretch/>
        </p:blipFill>
        <p:spPr>
          <a:xfrm>
            <a:off x="103320" y="3627360"/>
            <a:ext cx="9040680" cy="1030320"/>
          </a:xfrm>
          <a:prstGeom prst="rect">
            <a:avLst/>
          </a:prstGeom>
          <a:ln w="0">
            <a:noFill/>
          </a:ln>
        </p:spPr>
      </p:pic>
      <p:sp>
        <p:nvSpPr>
          <p:cNvPr id="197" name="Straight Connector 39"/>
          <p:cNvSpPr/>
          <p:nvPr/>
        </p:nvSpPr>
        <p:spPr>
          <a:xfrm>
            <a:off x="2664000" y="3460680"/>
            <a:ext cx="488880" cy="487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Box 45"/>
          <p:cNvSpPr/>
          <p:nvPr/>
        </p:nvSpPr>
        <p:spPr>
          <a:xfrm>
            <a:off x="4656240" y="5440320"/>
            <a:ext cx="24746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Everolimus</a:t>
            </a:r>
            <a:br>
              <a:rPr sz="1400"/>
            </a:br>
            <a:r>
              <a:rPr b="1" lang="en-US" sz="1400" spc="-1" strike="noStrike">
                <a:solidFill>
                  <a:srgbClr val="ffffff"/>
                </a:solidFill>
                <a:latin typeface="Arial"/>
              </a:rPr>
              <a:t>(advanced RCC after failure of sorafenib or sunitinib)</a:t>
            </a:r>
            <a:endParaRPr b="1" lang="en-US" sz="1400" spc="-1" strike="noStrike">
              <a:solidFill>
                <a:srgbClr val="ffffff"/>
              </a:solidFill>
              <a:latin typeface="Arial"/>
            </a:endParaRPr>
          </a:p>
        </p:txBody>
      </p:sp>
      <p:sp>
        <p:nvSpPr>
          <p:cNvPr id="199" name="TextBox 50"/>
          <p:cNvSpPr/>
          <p:nvPr/>
        </p:nvSpPr>
        <p:spPr>
          <a:xfrm>
            <a:off x="6154560" y="2309760"/>
            <a:ext cx="1283040" cy="124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xitinib</a:t>
            </a:r>
            <a:br>
              <a:rPr sz="1400"/>
            </a:br>
            <a:r>
              <a:rPr b="1" lang="en-US" sz="1400" spc="-1" strike="noStrike">
                <a:solidFill>
                  <a:srgbClr val="ffffff"/>
                </a:solidFill>
                <a:latin typeface="Arial"/>
              </a:rPr>
              <a:t>(advanced RCC after failure of 1 systemic therapy)</a:t>
            </a:r>
            <a:endParaRPr b="1" lang="en-US" sz="1400" spc="-1" strike="noStrike">
              <a:solidFill>
                <a:srgbClr val="ffffff"/>
              </a:solidFill>
              <a:latin typeface="Arial"/>
            </a:endParaRPr>
          </a:p>
        </p:txBody>
      </p:sp>
      <p:grpSp>
        <p:nvGrpSpPr>
          <p:cNvPr id="200" name="TextBox 56"/>
          <p:cNvGrpSpPr/>
          <p:nvPr/>
        </p:nvGrpSpPr>
        <p:grpSpPr>
          <a:xfrm>
            <a:off x="944640" y="2073240"/>
            <a:ext cx="615960" cy="1717560"/>
            <a:chOff x="944640" y="2073240"/>
            <a:chExt cx="615960" cy="1717560"/>
          </a:xfrm>
        </p:grpSpPr>
        <p:pic>
          <p:nvPicPr>
            <p:cNvPr id="201" name="TextBox 56" descr=""/>
            <p:cNvPicPr/>
            <p:nvPr/>
          </p:nvPicPr>
          <p:blipFill>
            <a:blip r:embed="rId2"/>
            <a:stretch/>
          </p:blipFill>
          <p:spPr>
            <a:xfrm>
              <a:off x="944640" y="2073240"/>
              <a:ext cx="615960" cy="1717560"/>
            </a:xfrm>
            <a:prstGeom prst="rect">
              <a:avLst/>
            </a:prstGeom>
            <a:ln w="0">
              <a:noFill/>
            </a:ln>
          </p:spPr>
        </p:pic>
        <p:sp>
          <p:nvSpPr>
            <p:cNvPr id="202" name=""/>
            <p:cNvSpPr/>
            <p:nvPr/>
          </p:nvSpPr>
          <p:spPr>
            <a:xfrm rot="16200000">
              <a:off x="414360" y="2642760"/>
              <a:ext cx="1685880" cy="5842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VEGF pathway </a:t>
              </a:r>
              <a:endParaRPr b="1"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hibitors</a:t>
              </a:r>
              <a:endParaRPr b="1" lang="en-US" sz="1600" spc="-1" strike="noStrike">
                <a:solidFill>
                  <a:srgbClr val="ffffff"/>
                </a:solidFill>
                <a:latin typeface="Arial"/>
              </a:endParaRPr>
            </a:p>
          </p:txBody>
        </p:sp>
      </p:grpSp>
      <p:sp>
        <p:nvSpPr>
          <p:cNvPr id="203" name="TextBox 57"/>
          <p:cNvSpPr/>
          <p:nvPr/>
        </p:nvSpPr>
        <p:spPr>
          <a:xfrm rot="16200000">
            <a:off x="1771560" y="5294160"/>
            <a:ext cx="1616040" cy="285480"/>
          </a:xfrm>
          <a:prstGeom prst="rect">
            <a:avLst/>
          </a:prstGeom>
          <a:solidFill>
            <a:srgbClr val="cdcdc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mTOR inhibitors</a:t>
            </a:r>
            <a:endParaRPr b="1" lang="en-US" sz="1400" spc="-1" strike="noStrike">
              <a:solidFill>
                <a:srgbClr val="ffffff"/>
              </a:solidFill>
              <a:latin typeface="Arial"/>
            </a:endParaRPr>
          </a:p>
        </p:txBody>
      </p:sp>
      <p:grpSp>
        <p:nvGrpSpPr>
          <p:cNvPr id="204" name="Oval 38"/>
          <p:cNvGrpSpPr/>
          <p:nvPr/>
        </p:nvGrpSpPr>
        <p:grpSpPr>
          <a:xfrm>
            <a:off x="3071880" y="3882960"/>
            <a:ext cx="135000" cy="135000"/>
            <a:chOff x="3071880" y="3882960"/>
            <a:chExt cx="135000" cy="135000"/>
          </a:xfrm>
        </p:grpSpPr>
        <p:pic>
          <p:nvPicPr>
            <p:cNvPr id="205" name="Oval 38" descr=""/>
            <p:cNvPicPr/>
            <p:nvPr/>
          </p:nvPicPr>
          <p:blipFill>
            <a:blip r:embed="rId3"/>
            <a:stretch/>
          </p:blipFill>
          <p:spPr>
            <a:xfrm>
              <a:off x="3071880" y="3882960"/>
              <a:ext cx="135000" cy="135000"/>
            </a:xfrm>
            <a:prstGeom prst="rect">
              <a:avLst/>
            </a:prstGeom>
            <a:ln w="0">
              <a:noFill/>
            </a:ln>
          </p:spPr>
        </p:pic>
        <p:sp>
          <p:nvSpPr>
            <p:cNvPr id="206" name=""/>
            <p:cNvSpPr/>
            <p:nvPr/>
          </p:nvSpPr>
          <p:spPr>
            <a:xfrm>
              <a:off x="3110040" y="3921120"/>
              <a:ext cx="6480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07" name="Straight Connector 40"/>
          <p:cNvSpPr/>
          <p:nvPr/>
        </p:nvSpPr>
        <p:spPr>
          <a:xfrm>
            <a:off x="3649680" y="2624040"/>
            <a:ext cx="0" cy="1311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08" name="Oval 42"/>
          <p:cNvGrpSpPr/>
          <p:nvPr/>
        </p:nvGrpSpPr>
        <p:grpSpPr>
          <a:xfrm>
            <a:off x="3578400" y="3882960"/>
            <a:ext cx="134640" cy="128520"/>
            <a:chOff x="3578400" y="3882960"/>
            <a:chExt cx="134640" cy="128520"/>
          </a:xfrm>
        </p:grpSpPr>
        <p:pic>
          <p:nvPicPr>
            <p:cNvPr id="209" name="Oval 42" descr=""/>
            <p:cNvPicPr/>
            <p:nvPr/>
          </p:nvPicPr>
          <p:blipFill>
            <a:blip r:embed="rId4"/>
            <a:stretch/>
          </p:blipFill>
          <p:spPr>
            <a:xfrm>
              <a:off x="3578400" y="3882960"/>
              <a:ext cx="134640" cy="128520"/>
            </a:xfrm>
            <a:prstGeom prst="rect">
              <a:avLst/>
            </a:prstGeom>
            <a:ln w="0">
              <a:noFill/>
            </a:ln>
          </p:spPr>
        </p:pic>
        <p:sp>
          <p:nvSpPr>
            <p:cNvPr id="210" name=""/>
            <p:cNvSpPr/>
            <p:nvPr/>
          </p:nvSpPr>
          <p:spPr>
            <a:xfrm>
              <a:off x="3618000" y="3917880"/>
              <a:ext cx="6336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1" name="Straight Connector 63"/>
          <p:cNvSpPr/>
          <p:nvPr/>
        </p:nvSpPr>
        <p:spPr>
          <a:xfrm flipH="1">
            <a:off x="3690720" y="4357800"/>
            <a:ext cx="541080" cy="11080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12" name="Oval 66"/>
          <p:cNvGrpSpPr/>
          <p:nvPr/>
        </p:nvGrpSpPr>
        <p:grpSpPr>
          <a:xfrm>
            <a:off x="4127400" y="4273560"/>
            <a:ext cx="219240" cy="212760"/>
            <a:chOff x="4127400" y="4273560"/>
            <a:chExt cx="219240" cy="212760"/>
          </a:xfrm>
        </p:grpSpPr>
        <p:pic>
          <p:nvPicPr>
            <p:cNvPr id="213" name="Oval 66" descr=""/>
            <p:cNvPicPr/>
            <p:nvPr/>
          </p:nvPicPr>
          <p:blipFill>
            <a:blip r:embed="rId5"/>
            <a:stretch/>
          </p:blipFill>
          <p:spPr>
            <a:xfrm>
              <a:off x="4127400" y="4273560"/>
              <a:ext cx="219240" cy="212760"/>
            </a:xfrm>
            <a:prstGeom prst="rect">
              <a:avLst/>
            </a:prstGeom>
            <a:ln w="0">
              <a:noFill/>
            </a:ln>
          </p:spPr>
        </p:pic>
        <p:sp>
          <p:nvSpPr>
            <p:cNvPr id="214" name=""/>
            <p:cNvSpPr/>
            <p:nvPr/>
          </p:nvSpPr>
          <p:spPr>
            <a:xfrm>
              <a:off x="4208400" y="4329000"/>
              <a:ext cx="65160" cy="63720"/>
            </a:xfrm>
            <a:prstGeom prst="rect">
              <a:avLst/>
            </a:prstGeom>
            <a:noFill/>
            <a:ln w="0">
              <a:noFill/>
            </a:ln>
          </p:spPr>
          <p:style>
            <a:lnRef idx="0"/>
            <a:fillRef idx="0"/>
            <a:effectRef idx="0"/>
            <a:fontRef idx="minor"/>
          </p:style>
          <p:txBody>
            <a:bodyPr lIns="90000" rIns="90000" tIns="16920" bIns="1692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5" name="Straight Connector 69"/>
          <p:cNvSpPr/>
          <p:nvPr/>
        </p:nvSpPr>
        <p:spPr>
          <a:xfrm>
            <a:off x="5300640" y="3490920"/>
            <a:ext cx="0" cy="4111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16" name="Oval 70"/>
          <p:cNvGrpSpPr/>
          <p:nvPr/>
        </p:nvGrpSpPr>
        <p:grpSpPr>
          <a:xfrm>
            <a:off x="5248440" y="3870360"/>
            <a:ext cx="128520" cy="135000"/>
            <a:chOff x="5248440" y="3870360"/>
            <a:chExt cx="128520" cy="135000"/>
          </a:xfrm>
        </p:grpSpPr>
        <p:pic>
          <p:nvPicPr>
            <p:cNvPr id="217" name="Oval 70" descr=""/>
            <p:cNvPicPr/>
            <p:nvPr/>
          </p:nvPicPr>
          <p:blipFill>
            <a:blip r:embed="rId6"/>
            <a:stretch/>
          </p:blipFill>
          <p:spPr>
            <a:xfrm>
              <a:off x="5248440" y="3870360"/>
              <a:ext cx="128520" cy="135000"/>
            </a:xfrm>
            <a:prstGeom prst="rect">
              <a:avLst/>
            </a:prstGeom>
            <a:ln w="0">
              <a:noFill/>
            </a:ln>
          </p:spPr>
        </p:pic>
        <p:sp>
          <p:nvSpPr>
            <p:cNvPr id="218" name=""/>
            <p:cNvSpPr/>
            <p:nvPr/>
          </p:nvSpPr>
          <p:spPr>
            <a:xfrm>
              <a:off x="5283360" y="3908520"/>
              <a:ext cx="6480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9" name="Straight Connector 72"/>
          <p:cNvSpPr/>
          <p:nvPr/>
        </p:nvSpPr>
        <p:spPr>
          <a:xfrm>
            <a:off x="5318280" y="4357800"/>
            <a:ext cx="576000" cy="1082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0" name="Oval 73"/>
          <p:cNvGrpSpPr/>
          <p:nvPr/>
        </p:nvGrpSpPr>
        <p:grpSpPr>
          <a:xfrm>
            <a:off x="5205240" y="4273560"/>
            <a:ext cx="220680" cy="212760"/>
            <a:chOff x="5205240" y="4273560"/>
            <a:chExt cx="220680" cy="212760"/>
          </a:xfrm>
        </p:grpSpPr>
        <p:pic>
          <p:nvPicPr>
            <p:cNvPr id="221" name="Oval 73" descr=""/>
            <p:cNvPicPr/>
            <p:nvPr/>
          </p:nvPicPr>
          <p:blipFill>
            <a:blip r:embed="rId7"/>
            <a:stretch/>
          </p:blipFill>
          <p:spPr>
            <a:xfrm>
              <a:off x="5205240" y="4273560"/>
              <a:ext cx="220680" cy="212760"/>
            </a:xfrm>
            <a:prstGeom prst="rect">
              <a:avLst/>
            </a:prstGeom>
            <a:ln w="0">
              <a:noFill/>
            </a:ln>
          </p:spPr>
        </p:pic>
        <p:sp>
          <p:nvSpPr>
            <p:cNvPr id="222" name=""/>
            <p:cNvSpPr/>
            <p:nvPr/>
          </p:nvSpPr>
          <p:spPr>
            <a:xfrm>
              <a:off x="5286240" y="4329000"/>
              <a:ext cx="65160" cy="63720"/>
            </a:xfrm>
            <a:prstGeom prst="rect">
              <a:avLst/>
            </a:prstGeom>
            <a:noFill/>
            <a:ln w="0">
              <a:noFill/>
            </a:ln>
          </p:spPr>
          <p:style>
            <a:lnRef idx="0"/>
            <a:fillRef idx="0"/>
            <a:effectRef idx="0"/>
            <a:fontRef idx="minor"/>
          </p:style>
          <p:txBody>
            <a:bodyPr lIns="90000" rIns="90000" tIns="16920" bIns="1692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23" name="Straight Connector 74"/>
          <p:cNvSpPr/>
          <p:nvPr/>
        </p:nvSpPr>
        <p:spPr>
          <a:xfrm>
            <a:off x="6775560" y="3652920"/>
            <a:ext cx="125280" cy="2556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4" name="Oval 75"/>
          <p:cNvGrpSpPr/>
          <p:nvPr/>
        </p:nvGrpSpPr>
        <p:grpSpPr>
          <a:xfrm>
            <a:off x="6845400" y="3865680"/>
            <a:ext cx="128520" cy="133200"/>
            <a:chOff x="6845400" y="3865680"/>
            <a:chExt cx="128520" cy="133200"/>
          </a:xfrm>
        </p:grpSpPr>
        <p:pic>
          <p:nvPicPr>
            <p:cNvPr id="225" name="Oval 75" descr=""/>
            <p:cNvPicPr/>
            <p:nvPr/>
          </p:nvPicPr>
          <p:blipFill>
            <a:blip r:embed="rId8"/>
            <a:stretch/>
          </p:blipFill>
          <p:spPr>
            <a:xfrm>
              <a:off x="6845400" y="3865680"/>
              <a:ext cx="128520" cy="133200"/>
            </a:xfrm>
            <a:prstGeom prst="rect">
              <a:avLst/>
            </a:prstGeom>
            <a:ln w="0">
              <a:noFill/>
            </a:ln>
          </p:spPr>
        </p:pic>
        <p:sp>
          <p:nvSpPr>
            <p:cNvPr id="226" name=""/>
            <p:cNvSpPr/>
            <p:nvPr/>
          </p:nvSpPr>
          <p:spPr>
            <a:xfrm>
              <a:off x="6880320" y="3903840"/>
              <a:ext cx="63360" cy="63360"/>
            </a:xfrm>
            <a:prstGeom prst="rect">
              <a:avLst/>
            </a:prstGeom>
            <a:noFill/>
            <a:ln w="0">
              <a:noFill/>
            </a:ln>
          </p:spPr>
          <p:style>
            <a:lnRef idx="0"/>
            <a:fillRef idx="0"/>
            <a:effectRef idx="0"/>
            <a:fontRef idx="minor"/>
          </p:style>
          <p:txBody>
            <a:bodyPr lIns="90000" rIns="90000" tIns="16560" bIns="165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NCCN Recommendations for Treatment of</a:t>
            </a:r>
            <a:br>
              <a:rPr sz="3200"/>
            </a:br>
            <a:r>
              <a:rPr b="1" lang="en-US" sz="3200" spc="-1" strike="noStrike">
                <a:solidFill>
                  <a:srgbClr val="f8f45a"/>
                </a:solidFill>
                <a:latin typeface="Arial"/>
                <a:ea typeface="Calibri"/>
              </a:rPr>
              <a:t>Clear-Cell RCC</a:t>
            </a:r>
            <a:endParaRPr b="1" lang="en-US" sz="3200" spc="-1" strike="noStrike">
              <a:solidFill>
                <a:srgbClr val="f8f45a"/>
              </a:solidFill>
              <a:latin typeface="Arial"/>
            </a:endParaRPr>
          </a:p>
        </p:txBody>
      </p:sp>
      <p:graphicFrame>
        <p:nvGraphicFramePr>
          <p:cNvPr id="228" name=""/>
          <p:cNvGraphicFramePr/>
          <p:nvPr/>
        </p:nvGraphicFramePr>
        <p:xfrm>
          <a:off x="384120" y="1914480"/>
          <a:ext cx="8462880" cy="4327560"/>
        </p:xfrm>
        <a:graphic>
          <a:graphicData uri="http://schemas.openxmlformats.org/drawingml/2006/table">
            <a:tbl>
              <a:tblPr/>
              <a:tblGrid>
                <a:gridCol w="1060560"/>
                <a:gridCol w="1508040"/>
                <a:gridCol w="2754360"/>
                <a:gridCol w="3139920"/>
              </a:tblGrid>
              <a:tr h="304920">
                <a:tc gridSpan="2"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Treatment Option</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c hMerge="1" rowSpan="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NCCN Recommendatio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vMerge="1" gridSpan="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First Line</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econd</a:t>
                      </a:r>
                      <a:r>
                        <a:rPr b="1" lang="en-US" sz="1400" spc="-1" strike="noStrike" baseline="30000">
                          <a:solidFill>
                            <a:srgbClr val="ffffff"/>
                          </a:solidFill>
                          <a:latin typeface="Arial"/>
                          <a:ea typeface="ＭＳ Ｐゴシック"/>
                        </a:rPr>
                        <a:t> </a:t>
                      </a:r>
                      <a:r>
                        <a:rPr b="1" lang="en-US" sz="1400" spc="-1" strike="noStrike">
                          <a:solidFill>
                            <a:srgbClr val="ffffff"/>
                          </a:solidFill>
                          <a:latin typeface="Arial"/>
                          <a:ea typeface="ＭＳ Ｐゴシック"/>
                        </a:rPr>
                        <a:t>Line</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r>
              <a:tr h="518040">
                <a:tc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VEGF Inhibitors</a:t>
                      </a:r>
                      <a:endParaRPr b="1" lang="en-US" sz="14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rafeni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patient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A)</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nitinib</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A)</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azopanib</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Axitinib</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After cytokines or TKI (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evacizumab</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2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B)</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r>
              <a:tr h="73116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mTORs</a:t>
                      </a:r>
                      <a:endParaRPr b="1" lang="en-US" sz="14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emsirolimu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or prognosis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avorable, intermediate prognosis (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2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r>
              <a:tr h="30492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Everolimus</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Following TKI (category 1)</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ytokine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L-2</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patients (category 2A)</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r>
            </a:tbl>
          </a:graphicData>
        </a:graphic>
      </p:graphicFrame>
      <p:sp>
        <p:nvSpPr>
          <p:cNvPr id="229" name="TextBox 5"/>
          <p:cNvSpPr/>
          <p:nvPr/>
        </p:nvSpPr>
        <p:spPr>
          <a:xfrm>
            <a:off x="284040" y="6374160"/>
            <a:ext cx="85629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NCCN. Clinical practice guidelines in oncology: kidney cancer. v.1.2013. </a:t>
            </a:r>
            <a:endParaRPr b="1"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Content Placeholder 7" descr=""/>
          <p:cNvPicPr/>
          <p:nvPr/>
        </p:nvPicPr>
        <p:blipFill>
          <a:blip r:embed="rId1"/>
          <a:stretch/>
        </p:blipFill>
        <p:spPr>
          <a:xfrm>
            <a:off x="311040" y="1841400"/>
            <a:ext cx="8607600" cy="3894120"/>
          </a:xfrm>
          <a:prstGeom prst="rect">
            <a:avLst/>
          </a:prstGeom>
          <a:ln w="0">
            <a:noFill/>
          </a:ln>
        </p:spPr>
      </p:pic>
      <p:sp>
        <p:nvSpPr>
          <p:cNvPr id="231" name="Text Box 30"/>
          <p:cNvSpPr/>
          <p:nvPr/>
        </p:nvSpPr>
        <p:spPr>
          <a:xfrm>
            <a:off x="284040" y="6128280"/>
            <a:ext cx="8707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Escudier B, et al. N Engl J Med. 2007;356:125-134. 2. Escudier B, et al. J Clin Oncol. 2009;27:3312-3318. 3. Rini BI, et al. Lancet. 2011;378:1931-1939. 4. </a:t>
            </a:r>
            <a:r>
              <a:rPr b="0" lang="it-IT" sz="1400" spc="-1" strike="noStrike">
                <a:solidFill>
                  <a:srgbClr val="cdcdcf"/>
                </a:solidFill>
                <a:latin typeface="Arial"/>
              </a:rPr>
              <a:t>Motzer R, et al. Cancer. 2010;116:4256-4265.</a:t>
            </a:r>
            <a:endParaRPr b="1" lang="en-US" sz="1400" spc="-1" strike="noStrike">
              <a:solidFill>
                <a:srgbClr val="ffffff"/>
              </a:solidFill>
              <a:latin typeface="Arial"/>
            </a:endParaRPr>
          </a:p>
        </p:txBody>
      </p:sp>
      <p:sp>
        <p:nvSpPr>
          <p:cNvPr id="23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ivotal Phase III Data in Second Line</a:t>
            </a:r>
            <a:endParaRPr b="1" lang="en-US" sz="3200" spc="-1" strike="noStrike">
              <a:solidFill>
                <a:srgbClr val="f8f45a"/>
              </a:solidFill>
              <a:latin typeface="Arial"/>
            </a:endParaRPr>
          </a:p>
        </p:txBody>
      </p:sp>
      <p:sp>
        <p:nvSpPr>
          <p:cNvPr id="233" name="Text Box 30"/>
          <p:cNvSpPr/>
          <p:nvPr/>
        </p:nvSpPr>
        <p:spPr>
          <a:xfrm>
            <a:off x="384120" y="5742720"/>
            <a:ext cx="8462880" cy="3070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ependent review. </a:t>
            </a:r>
            <a:r>
              <a:rPr b="0" lang="en-US" sz="1400" spc="-1" strike="noStrike" baseline="30000">
                <a:solidFill>
                  <a:srgbClr val="ffffff"/>
                </a:solidFill>
                <a:latin typeface="Arial"/>
              </a:rPr>
              <a:t>†</a:t>
            </a:r>
            <a:r>
              <a:rPr b="0" lang="en-US" sz="1400" spc="-1" strike="noStrike">
                <a:solidFill>
                  <a:srgbClr val="ffffff"/>
                </a:solidFill>
                <a:latin typeface="Arial"/>
              </a:rPr>
              <a:t>Investigator. </a:t>
            </a:r>
            <a:r>
              <a:rPr b="0" lang="en-US" sz="1400" spc="-1" strike="noStrike" baseline="30000">
                <a:solidFill>
                  <a:srgbClr val="ffffff"/>
                </a:solidFill>
                <a:latin typeface="Arial"/>
              </a:rPr>
              <a:t>‡</a:t>
            </a:r>
            <a:r>
              <a:rPr b="0" lang="en-US" sz="1400" spc="-1" strike="noStrike">
                <a:solidFill>
                  <a:srgbClr val="ffffff"/>
                </a:solidFill>
                <a:latin typeface="Arial"/>
              </a:rPr>
              <a:t>Post-crossover placebo-censored OS data. </a:t>
            </a: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5:08:01Z</dcterms:created>
  <dc:creator>Preferred User</dc:creator>
  <dc:description/>
  <dc:language>en-US</dc:language>
  <cp:lastModifiedBy>Courtney Wood</cp:lastModifiedBy>
  <dcterms:modified xsi:type="dcterms:W3CDTF">2013-06-06T18:57:58Z</dcterms:modified>
  <cp:revision>454</cp:revision>
  <dc:subject/>
  <dc:title>New Options in Renal Cell Carcinoma: How to Minimize Toxicities While Maintaining Clinical Effic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y fmtid="{D5CDD505-2E9C-101B-9397-08002B2CF9AE}" pid="3" name="Tags">
    <vt:lpwstr/>
  </property>
</Properties>
</file>